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3477-A856-441A-98E4-505D20339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474-8A24-4986-891A-3D4D0FAD5C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6CF8-82E5-4813-8F39-9BE56B15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54DE-DCA2-4E4D-B911-E78963A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A94B-5482-477C-B714-FCCFEF86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0594-2997-438C-917B-FFA3CBF3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2519-80B4-4230-B0D2-AB6C91E6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6F4-87FF-49A0-B689-22935C9C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FE3-477C-426E-9832-A650DC1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078B-3D73-4EFF-B14F-E1775EB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672B-74E2-4D59-A641-A408880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712-92E5-48A5-89AD-D63F976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BED-744E-400C-AE3C-D33B107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EFC2-5EE5-47B5-97A4-D31CE5D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CD6D-B6BB-43E2-A3FC-DB6884B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5144-76A5-40F3-9008-F1C8B82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B97-DC6E-4F5E-9A65-B0EC0197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BCA-98E0-428E-9406-294EDE1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B3F-3500-42A0-9966-9549F5E1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7F8A-63CA-44EB-8813-29C687DD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85C0-9138-434C-B56E-A3E550F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752A-2DCD-429C-9279-E64B481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D284-0729-4D70-9E6A-78A030CA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D320-B1B1-46AD-8313-FD58C97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0392-B2E3-4AFE-B896-2B8F163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2C32-A4FF-46CA-AF9E-7508307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046F-6707-4D13-A05A-B675E1F59EA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469-3421-47EC-BE14-A42434052FD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54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БОУ СПО «Павлово-Посадский промышленно-экономический техникум» МО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2000160"/>
            <a:ext cx="82090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т готовой продукции и ее продаж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 студентка 2 курса группы БЭ –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сть «Экономика и бухгалтерский уч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винкова Анастасия Тамаз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готовой продукции по нормативной себестоимости с применением счета 40 «Выпуск продукции (работ, услуг)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0040" y="1747800"/>
          <a:ext cx="8318520" cy="4353120"/>
        </p:xfrm>
        <a:graphic>
          <a:graphicData uri="http://schemas.openxmlformats.org/drawingml/2006/table">
            <a:tbl>
              <a:tblPr/>
              <a:tblGrid>
                <a:gridCol w="611280"/>
                <a:gridCol w="5817960"/>
                <a:gridCol w="928800"/>
                <a:gridCol w="9604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хозяйственной опер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ая себестоимость продукции выпущенной из производства и сданной на скла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иходована готовая продукция по нормативной (плановой) себе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лонение (сторно) превышение нормативной себестоимости готовой продукции над ее фактической себестоимо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 расходов, связанных с продажей готовой продук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аривание и упаковка изделий на складах готовой продук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авка продукции в соответствии с принятыми в договоре франко-це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рузо-разгрузочные расходы силами сторонних организации и собственными си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онные сборы, уплаченные сбытовым и другими посредническими организаци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помещений по хранению продукции в местах ее продаж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ы на рекла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ы на представительские нужды, связанные с продажей продук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е аналогичные рас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чет 44 «Расходы на продажу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1500120"/>
          <a:ext cx="8229600" cy="4643640"/>
        </p:xfrm>
        <a:graphic>
          <a:graphicData uri="http://schemas.openxmlformats.org/drawingml/2006/table">
            <a:tbl>
              <a:tblPr/>
              <a:tblGrid>
                <a:gridCol w="3106440"/>
                <a:gridCol w="51231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ираются суммы расходов, связанных с продажей (работ, услуг). Корреспонденция со счетами: 10, 16, 70, 69, 60, 71 и други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сание (распределение) произведенных расходов между видами отгруженной продукции ежемесячно пропорционально весу, объему, производственной себестоимости. Корреспонденция со счетом 90/2 «Себестоимость продаж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продажи готовой продук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58040" cy="4840200"/>
        </p:xfrm>
        <a:graphic>
          <a:graphicData uri="http://schemas.openxmlformats.org/drawingml/2006/table">
            <a:tbl>
              <a:tblPr/>
              <a:tblGrid>
                <a:gridCol w="639720"/>
                <a:gridCol w="5546880"/>
                <a:gridCol w="1000080"/>
                <a:gridCol w="107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хозяйственной опер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ние выручки от продажи готовой продукции (отпускные цены в том числе НДС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гружена готовая продукция покупателям (фактическая собственность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гружена готовая продукция покупателям: - нормативная (плановая) себестоимость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Отклонения (дополнительные запис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тор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олженность бюджету по Н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/Н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численная задолженность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/Н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яются ОХР (согласно приказу по учетной политик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от продажи: прибы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/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гласно ПБУ 5/01 определение готовой продук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товая продукция относится к части МПЗ, предназначенных для продажи, являясь конечным результатом производственного цикла, а также законченными обработкой активами, технические и качественные характеристики которых соответствуют условиям договора или требованиям иных документов в случаях, установленных законодательств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готовой продукции вед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счете 43 « Готовая продукция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фактической производственной себестоим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учетным ценам (нормативной (плановой) себестоим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 использованием счета 40 «Выпуск продукции» (работ, услу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без использования счета 40 «Выпуск продукции» (работ, услу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учета закрепляется приказом по учетной политик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ценка готовой продукции в аналитическом учете: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Фактическая производственная себестоимость;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Нормативная себестоимость;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Договорные цены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заимосвязь оценки готовой продукции с типом производства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100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оценки готов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рмативная себе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ктическая производственная себе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оворные ц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овое серийное производство, большая номенклатура готовой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ничное и мелкосерийное производство , выпуск массовой продукции небольшой номенкла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ой тип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поступления готовой продук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2920" y="1000080"/>
          <a:ext cx="8785080" cy="5418360"/>
        </p:xfrm>
        <a:graphic>
          <a:graphicData uri="http://schemas.openxmlformats.org/drawingml/2006/table">
            <a:tbl>
              <a:tblPr/>
              <a:tblGrid>
                <a:gridCol w="504720"/>
                <a:gridCol w="4888080"/>
                <a:gridCol w="2357280"/>
                <a:gridCol w="1035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иходована готовая продукция из производства на склад п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фактической себе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лановой себе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лонение от плановой себе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ая запис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чет «отклонение фактической себестоимости готовой продукции от учетных це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р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ловия , выполнение которых необходимо для рационального учет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товой продукции на склад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3" name="Organization Chart 7"/>
          <p:cNvGrpSpPr/>
          <p:nvPr/>
        </p:nvGrpSpPr>
        <p:grpSpPr>
          <a:xfrm>
            <a:off x="381240" y="1904040"/>
            <a:ext cx="7879320" cy="4596840"/>
            <a:chOff x="381240" y="1904040"/>
            <a:chExt cx="7879320" cy="4596840"/>
          </a:xfrm>
        </p:grpSpPr>
        <p:cxnSp>
          <p:nvCxnSpPr>
            <p:cNvPr id="144" name="_s1028"/>
            <p:cNvCxnSpPr/>
            <p:nvPr/>
          </p:nvCxnSpPr>
          <p:spPr>
            <a:xfrm flipV="1" rot="16200000">
              <a:off x="5775120" y="1711080"/>
              <a:ext cx="1111680" cy="2763720"/>
            </a:xfrm>
            <a:prstGeom prst="bentConnector3">
              <a:avLst>
                <a:gd name="adj1" fmla="val 7748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5" name="_s1029"/>
            <p:cNvCxnSpPr/>
            <p:nvPr/>
          </p:nvCxnSpPr>
          <p:spPr>
            <a:xfrm flipV="1" rot="16200000">
              <a:off x="5314320" y="1697400"/>
              <a:ext cx="288360" cy="2092680"/>
            </a:xfrm>
            <a:prstGeom prst="bentConnector3">
              <a:avLst>
                <a:gd name="adj1" fmla="val 3487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6" name="_s1030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4124880" y="3355200"/>
              <a:ext cx="2187360" cy="606240"/>
            </a:xfrm>
            <a:prstGeom prst="bentConnector3">
              <a:avLst>
                <a:gd name="adj1" fmla="val 459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9" name="_s1031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425840" y="2426760"/>
              <a:ext cx="352080" cy="628560"/>
            </a:xfrm>
            <a:prstGeom prst="bentConnector3">
              <a:avLst>
                <a:gd name="adj1" fmla="val 285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1" name="_s1032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2974680" y="2937240"/>
              <a:ext cx="2313720" cy="1568880"/>
            </a:xfrm>
            <a:prstGeom prst="bentConnector3">
              <a:avLst>
                <a:gd name="adj1" fmla="val 434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3" name="_s1033"/>
            <p:cNvCxnSpPr>
              <a:stCxn id="154" idx="0"/>
              <a:endCxn id="148" idx="2"/>
            </p:cNvCxnSpPr>
            <p:nvPr/>
          </p:nvCxnSpPr>
          <p:spPr>
            <a:xfrm flipH="1" flipV="1" rot="5400000">
              <a:off x="3584160" y="1522080"/>
              <a:ext cx="288720" cy="2374200"/>
            </a:xfrm>
            <a:prstGeom prst="bentConnector3">
              <a:avLst>
                <a:gd name="adj1" fmla="val 3483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5" name="_s1034"/>
            <p:cNvCxnSpPr>
              <a:stCxn id="156" idx="0"/>
              <a:endCxn id="148" idx="2"/>
            </p:cNvCxnSpPr>
            <p:nvPr/>
          </p:nvCxnSpPr>
          <p:spPr>
            <a:xfrm flipH="1" flipV="1" rot="5400000">
              <a:off x="2168280" y="2130840"/>
              <a:ext cx="2313720" cy="3181320"/>
            </a:xfrm>
            <a:prstGeom prst="bentConnector3">
              <a:avLst>
                <a:gd name="adj1" fmla="val 434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7" name="_s1035"/>
            <p:cNvCxnSpPr>
              <a:stCxn id="158" idx="0"/>
              <a:endCxn id="148" idx="2"/>
            </p:cNvCxnSpPr>
            <p:nvPr/>
          </p:nvCxnSpPr>
          <p:spPr>
            <a:xfrm flipH="1" flipV="1" rot="5400000">
              <a:off x="2781000" y="718920"/>
              <a:ext cx="288720" cy="3980880"/>
            </a:xfrm>
            <a:prstGeom prst="bentConnector3">
              <a:avLst>
                <a:gd name="adj1" fmla="val 34831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48" name="_s1036"/>
            <p:cNvSpPr/>
            <p:nvPr/>
          </p:nvSpPr>
          <p:spPr>
            <a:xfrm>
              <a:off x="2060640" y="1904040"/>
              <a:ext cx="5709960" cy="661320"/>
            </a:xfrm>
            <a:prstGeom prst="roundRect">
              <a:avLst>
                <a:gd name="adj" fmla="val 38606"/>
              </a:avLst>
            </a:prstGeom>
            <a:solidFill>
              <a:srgbClr val="ff0000">
                <a:alpha val="71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циональная организация учета готовой продукции на складе</a:t>
              </a:r>
              <a:endParaRPr b="0" lang="en-US" sz="14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8" name="_s1037"/>
            <p:cNvSpPr/>
            <p:nvPr/>
          </p:nvSpPr>
          <p:spPr>
            <a:xfrm>
              <a:off x="381240" y="2853360"/>
              <a:ext cx="1107360" cy="1898640"/>
            </a:xfrm>
            <a:custGeom>
              <a:avLst/>
              <a:gdLst>
                <a:gd name="textAreaLeft" fmla="*/ 54000 w 1107360"/>
                <a:gd name="textAreaRight" fmla="*/ 1053360 w 1107360"/>
                <a:gd name="textAreaTop" fmla="*/ 54000 h 1898640"/>
                <a:gd name="textAreaBottom" fmla="*/ 1844640 h 1898640"/>
              </a:gdLst>
              <a:ahLst/>
              <a:rect l="textAreaLeft" t="textAreaTop" r="textAreaRight" b="textAreaBottom"/>
              <a:pathLst>
                <a:path w="21600" h="37030">
                  <a:moveTo>
                    <a:pt x="3600" y="0"/>
                  </a:moveTo>
                  <a:arcTo wR="3600" hR="3600" stAng="16200000" swAng="-5400000"/>
                  <a:lnTo>
                    <a:pt x="0" y="33430"/>
                  </a:lnTo>
                  <a:arcTo wR="3600" hR="3600" stAng="10800000" swAng="-5400000"/>
                  <a:lnTo>
                    <a:pt x="18000" y="37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Наличие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должны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образо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оборудован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ны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кладов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кладовых,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пециально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риспособлен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ных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лощадок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1186920" y="4878720"/>
              <a:ext cx="1095480" cy="162180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1621800"/>
                <a:gd name="textAreaBottom" fmla="*/ 1568520 h 1621800"/>
              </a:gdLst>
              <a:ahLst/>
              <a:rect l="textAreaLeft" t="textAreaTop" r="textAreaRight" b="textAreaBottom"/>
              <a:pathLst>
                <a:path w="21600" h="31974">
                  <a:moveTo>
                    <a:pt x="3600" y="0"/>
                  </a:moveTo>
                  <a:arcTo wR="3600" hR="3600" stAng="16200000" swAng="-5400000"/>
                  <a:lnTo>
                    <a:pt x="0" y="28374"/>
                  </a:lnTo>
                  <a:arcTo wR="3600" hR="3600" stAng="10800000" swAng="-5400000"/>
                  <a:lnTo>
                    <a:pt x="18000" y="319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Размещение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о секциям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кладов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а внутр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них по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отдельны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группам 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типо-сорта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размера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4" name="_s1039"/>
            <p:cNvSpPr/>
            <p:nvPr/>
          </p:nvSpPr>
          <p:spPr>
            <a:xfrm>
              <a:off x="1994040" y="2853360"/>
              <a:ext cx="1095480" cy="183600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1836000"/>
                <a:gd name="textAreaBottom" fmla="*/ 1782720 h 1836000"/>
              </a:gdLst>
              <a:ahLst/>
              <a:rect l="textAreaLeft" t="textAreaTop" r="textAreaRight" b="textAreaBottom"/>
              <a:pathLst>
                <a:path w="21600" h="36196">
                  <a:moveTo>
                    <a:pt x="3600" y="0"/>
                  </a:moveTo>
                  <a:arcTo wR="3600" hR="3600" stAng="16200000" swAng="-5400000"/>
                  <a:lnTo>
                    <a:pt x="0" y="32596"/>
                  </a:lnTo>
                  <a:arcTo wR="3600" hR="3600" stAng="10800000" swAng="-5400000"/>
                  <a:lnTo>
                    <a:pt x="18000" y="3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Оснащение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мест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хранения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Запасов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весовы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хозяйством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измеритель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ным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приборам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и мерной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тарой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2" name="_s1040"/>
            <p:cNvSpPr/>
            <p:nvPr/>
          </p:nvSpPr>
          <p:spPr>
            <a:xfrm>
              <a:off x="2799720" y="4878720"/>
              <a:ext cx="1095480" cy="162180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1621800"/>
                <a:gd name="textAreaBottom" fmla="*/ 1568520 h 1621800"/>
              </a:gdLst>
              <a:ahLst/>
              <a:rect l="textAreaLeft" t="textAreaTop" r="textAreaRight" b="textAreaBottom"/>
              <a:pathLst>
                <a:path w="21600" h="31974">
                  <a:moveTo>
                    <a:pt x="3600" y="0"/>
                  </a:moveTo>
                  <a:arcTo wR="3600" hR="3600" stAng="16200000" swAng="-5400000"/>
                  <a:lnTo>
                    <a:pt x="0" y="28374"/>
                  </a:lnTo>
                  <a:arcTo wR="3600" hR="3600" stAng="10800000" swAng="-5400000"/>
                  <a:lnTo>
                    <a:pt x="18000" y="319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окращение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Излишни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ромежу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точны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кладов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и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кладовы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0" name="_s1041"/>
            <p:cNvSpPr/>
            <p:nvPr/>
          </p:nvSpPr>
          <p:spPr>
            <a:xfrm>
              <a:off x="3740040" y="2917080"/>
              <a:ext cx="1095480" cy="185544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1855440"/>
                <a:gd name="textAreaBottom" fmla="*/ 1802160 h 1855440"/>
              </a:gdLst>
              <a:ahLst/>
              <a:rect l="textAreaLeft" t="textAreaTop" r="textAreaRight" b="textAreaBottom"/>
              <a:pathLst>
                <a:path w="21600" h="36580">
                  <a:moveTo>
                    <a:pt x="3600" y="0"/>
                  </a:moveTo>
                  <a:arcTo wR="3600" hR="3600" stAng="16200000" swAng="-5400000"/>
                  <a:lnTo>
                    <a:pt x="0" y="32980"/>
                  </a:lnTo>
                  <a:arcTo wR="3600" hR="3600" stAng="10800000" swAng="-5400000"/>
                  <a:lnTo>
                    <a:pt x="18000" y="36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Определение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круга лиц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ответствен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ных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за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Сохран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ность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и учет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готовой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Arial"/>
                </a:rPr>
                <a:t>продукци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47" name="_s1042"/>
            <p:cNvSpPr/>
            <p:nvPr/>
          </p:nvSpPr>
          <p:spPr>
            <a:xfrm>
              <a:off x="4949640" y="4752360"/>
              <a:ext cx="1143000" cy="174852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748520"/>
                <a:gd name="textAreaBottom" fmla="*/ 1692720 h 1748520"/>
              </a:gdLst>
              <a:ahLst/>
              <a:rect l="textAreaLeft" t="textAreaTop" r="textAreaRight" b="textAreaBottom"/>
              <a:pathLst>
                <a:path w="21600" h="33039">
                  <a:moveTo>
                    <a:pt x="3600" y="0"/>
                  </a:moveTo>
                  <a:arcTo wR="3600" hR="3600" stAng="16200000" swAng="-5400000"/>
                  <a:lnTo>
                    <a:pt x="0" y="29439"/>
                  </a:lnTo>
                  <a:arcTo wR="3600" hR="3600" stAng="10800000" swAng="-5400000"/>
                  <a:lnTo>
                    <a:pt x="18000" y="330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Определение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перечня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центральных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складов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Являющихся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самостоя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тельными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учетными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единицам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9" name="_s1043"/>
            <p:cNvSpPr/>
            <p:nvPr/>
          </p:nvSpPr>
          <p:spPr>
            <a:xfrm>
              <a:off x="5687280" y="2853360"/>
              <a:ext cx="1095480" cy="170964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1709640"/>
                <a:gd name="textAreaBottom" fmla="*/ 1656360 h 1709640"/>
              </a:gdLst>
              <a:ahLst/>
              <a:rect l="textAreaLeft" t="textAreaTop" r="textAreaRight" b="textAreaBottom"/>
              <a:pathLst>
                <a:path w="21600" h="33706">
                  <a:moveTo>
                    <a:pt x="3600" y="0"/>
                  </a:moveTo>
                  <a:arcTo wR="3600" hR="3600" stAng="16200000" swAng="-5400000"/>
                  <a:lnTo>
                    <a:pt x="0" y="30106"/>
                  </a:lnTo>
                  <a:arcTo wR="3600" hR="3600" stAng="10800000" swAng="-5400000"/>
                  <a:lnTo>
                    <a:pt x="18000" y="33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Определение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еречня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должностны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лиц,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которым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редостав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лено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раво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одпис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документов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60" name="_s1044"/>
            <p:cNvSpPr/>
            <p:nvPr/>
          </p:nvSpPr>
          <p:spPr>
            <a:xfrm>
              <a:off x="7165080" y="3676320"/>
              <a:ext cx="1095480" cy="2824560"/>
            </a:xfrm>
            <a:custGeom>
              <a:avLst/>
              <a:gdLst>
                <a:gd name="textAreaLeft" fmla="*/ 53280 w 1095480"/>
                <a:gd name="textAreaRight" fmla="*/ 1042200 w 1095480"/>
                <a:gd name="textAreaTop" fmla="*/ 53280 h 2824560"/>
                <a:gd name="textAreaBottom" fmla="*/ 2771280 h 2824560"/>
              </a:gdLst>
              <a:ahLst/>
              <a:rect l="textAreaLeft" t="textAreaTop" r="textAreaRight" b="textAreaBottom"/>
              <a:pathLst>
                <a:path w="21600" h="55682">
                  <a:moveTo>
                    <a:pt x="3600" y="0"/>
                  </a:moveTo>
                  <a:arcTo wR="3600" hR="3600" stAng="16200000" swAng="-5400000"/>
                  <a:lnTo>
                    <a:pt x="0" y="52082"/>
                  </a:lnTo>
                  <a:arcTo wR="3600" hR="3600" stAng="10800000" swAng="-5400000"/>
                  <a:lnTo>
                    <a:pt x="18000" y="55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Выбор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метода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учета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готовой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продукции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(парал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лельный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 помощью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ортовых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оборотных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ведомостей,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сальдовый 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(оперативно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бухгал-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Comic Sans MS"/>
                </a:rPr>
                <a:t>терский))</a:t>
              </a:r>
              <a:endParaRPr b="0" lang="en-US" sz="12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и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ления</a:t>
            </a:r>
            <a:r>
              <a:rPr b="1" lang="ru-RU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отовой продук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00120"/>
          <a:ext cx="9036000" cy="5065920"/>
        </p:xfrm>
        <a:graphic>
          <a:graphicData uri="http://schemas.openxmlformats.org/drawingml/2006/table">
            <a:tbl>
              <a:tblPr/>
              <a:tblGrid>
                <a:gridCol w="392040"/>
                <a:gridCol w="4071960"/>
                <a:gridCol w="457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и поступления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говор дарения, безвозмездно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ько в рамках группы взаимосвязанных предприят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 в уставной капита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ько в случаях, когда учредителем или участником является юридическое лицо, выпускающее ту же продукцию, которую предполагается выпускать на создаваемом предприятии 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готовление организацией в соответствии с его уставной деятельностью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затрат, связанных с производством готовой продукц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 учета готовой продук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28760" y="1357200"/>
          <a:ext cx="8215200" cy="481644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Формирование фактической себестоимости готовой продукци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равильное и своевременное документальное оформление операций по поступлению и выбытию готовой продукци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Контроль за сохранностью готовой продукции в местах ее хранения и на всех этапах ее движ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Контроль за соблюдением норм запасов готовой продукции, установленных организацие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оведение анализа эффективности использования запасов готовой продукци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роприятия по решению задач учета готовой продук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бух. учета затрат по созданию готовой продукции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лное и своевременное отражение в учете всех расходов, которые могут быть включены фактическую себестоимость готовой проду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спределение расходов между объемами выпуска и незавершенного произво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бух. учета на предприятии в целом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воевременное и правильное оформление первичных документ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перативность их документооборота между отдельными структурными подразделениями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беспечение условий для оперативной обработки этих документов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 осуществляетс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омиссиями, создаваемыми на основании приказа руководителя организаци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Предварительный и последующий контроль за целесообразностью и правомерностью использования материальных ресурс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посредованно при использовании экономических методов контро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номистами и менеджерами организации определяется размер оборотных средств на базе информации бухгалтерского уч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4:43:13Z</dcterms:created>
  <dc:creator>Мозг</dc:creator>
  <dc:description/>
  <dc:language>en-US</dc:language>
  <cp:lastModifiedBy>Елена</cp:lastModifiedBy>
  <dcterms:modified xsi:type="dcterms:W3CDTF">2013-04-14T15:01:02Z</dcterms:modified>
  <cp:revision>19</cp:revision>
  <dc:subject/>
  <dc:title>Тема 10. Учет готовой продукции и ее продажи.</dc:title>
</cp:coreProperties>
</file>