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C86-900F-4F8F-A406-6249E63E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2F4-386D-4820-9A1E-6572E4F7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56C-01AE-4246-B362-971FCBA0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4B7-5539-4BA9-973F-89453436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1F54-96DF-4985-96C1-BB9B28A3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BADA-D1CB-4ADC-88E2-8EC604C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5A62-BED5-4C80-ABC0-70BD28DE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9112-9C2F-4776-8FD9-F8827CE3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D163-1A4D-43F3-9A9B-138498D0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03C1-E4D9-4487-8369-FEAE2359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980B-DE0D-4802-89BA-9E01C7B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4B5-B34B-43EC-8FA6-65C08A80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C181-F557-4C8D-A505-B787116E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944A-812B-41E4-BB09-5F3ABF5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2242-3B2A-4ACA-AC14-4DDEDF9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EE7C-A385-4E2B-97E9-C32189DA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FB7A-8F57-4ED2-83A6-E216F722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072-48A5-4422-9540-AC292CAB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E4E-CC13-4A72-ADCF-659B42B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D52-80B5-41BC-985B-DF7EF5AE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D58-F507-4513-94BF-997D1FC4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CF1-AFCA-42C0-B6AE-C329DB09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466-81E4-4846-8D21-61D05309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269-FFE4-44CC-AD83-13085BAE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5678-CB82-42E4-ADF8-02442E18F6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D357-1B3C-4E8F-A088-E69996FF7BD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4800" spc="-1" strike="noStrike">
                <a:solidFill>
                  <a:srgbClr val="000066"/>
                </a:solidFill>
                <a:latin typeface="Tahoma"/>
              </a:rPr>
              <a:t>Умная галка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86920" y="2133720"/>
            <a:ext cx="64803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1871640" cy="1582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6084720" y="2852640"/>
            <a:ext cx="2556000" cy="2519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22687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Какие бывают кувшины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627280" y="220500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284720" y="1989000"/>
            <a:ext cx="1415880" cy="1727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012000" y="1844640"/>
            <a:ext cx="2089080" cy="1685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539640" y="378936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6"/>
          <a:stretch/>
        </p:blipFill>
        <p:spPr>
          <a:xfrm>
            <a:off x="2124000" y="43657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7"/>
          <a:stretch/>
        </p:blipFill>
        <p:spPr>
          <a:xfrm>
            <a:off x="3635280" y="414972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8"/>
          <a:stretch/>
        </p:blipFill>
        <p:spPr>
          <a:xfrm>
            <a:off x="5508720" y="4076640"/>
            <a:ext cx="1191960" cy="17398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7093080" y="3789360"/>
            <a:ext cx="1560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Гал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411280" y="3789360"/>
            <a:ext cx="3048120" cy="27050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503440" cy="18716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2385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Умная гал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Захотела галка пить. Заметила она на столе кувшин с водой. В кувшине было мало воды. Галка не могла достать её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2508120" cy="2664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3745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Тогда галка стала кидать в кувшин камешки. Вода в кувшине поднялась . Галка смогла напи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3095640" cy="2664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2418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Вопросы и задания к текст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Что захотела сделать гал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Почему она сразу не смогла попить из кувши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Какой выход нашла гал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Объясните, как вы понимаете название расска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Вопросы плана и слова для построения ответ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Что захотела галка?              П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Что заметила она на столе?     Кувшин с вод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Сколько воды было в кувшине?    Ма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Что не смогла сделать галка?    Достать в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Что тогда стала делать галка?   Кидать каме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Что смогла сделать галка?  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Нап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Что стало с водой?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Подняла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Запомните написание с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кувшин    нап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8:31:24Z</dcterms:created>
  <dc:creator>Васянович</dc:creator>
  <dc:description/>
  <dc:language>en-US</dc:language>
  <cp:lastModifiedBy>Васянович</cp:lastModifiedBy>
  <dcterms:modified xsi:type="dcterms:W3CDTF">2010-02-28T19:26:53Z</dcterms:modified>
  <cp:revision>3</cp:revision>
  <dc:subject/>
  <dc:title>Умная галка</dc:title>
</cp:coreProperties>
</file>