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616-DC69-42D9-A390-B5CD5B3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05C-8882-40EA-B9E4-D641800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665-FBD9-4DF4-8924-3DB4E810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3C3-5BB8-401B-BE20-B7DA96F6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0E5C5-F573-49FF-834E-65679922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110C-9E52-4EA2-B2BE-136FB19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A0DB-3DA1-411B-B15C-D3F3121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4FE79-7108-4991-B751-AFDB20A3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CAEC-6F47-4C00-9BD7-065CFC89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BC81B-72F5-48D9-B8CD-6C77AAA2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4422E-F2FB-40D1-BFFA-FF1E644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74B-59D7-4AAF-A7CE-2B0D665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B79F2-682B-4E81-B823-27B6B46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B44D-BA55-42B9-81BD-38B38E0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21C2B-FF86-491C-9376-BF9311D3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90BDF-0B08-40AD-BE2D-6A850BD0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A0D56-7F43-4ED3-97EF-4B5E196F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0EF-BF87-4E8A-B0F4-FF8F205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F53-BB69-4CE3-977D-D952975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C63-B534-47D7-99C6-D6B4641B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C0E-D8B2-4F5A-A491-C066568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EB7-5E78-4504-B1DF-DAB545C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165-07E5-48F4-8ABA-9EB5FF0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D06-7BD6-41A1-8E21-DED5C43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F44-1694-45C9-AEC6-9784F8400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BB0-9F03-4890-83D8-5104E5BFE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1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1cb75"/>
                </a:solidFill>
                <a:latin typeface="Tahoma"/>
              </a:rPr>
              <a:t>Окружающий мир.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C21BE-ECD4-4B98-BE56-045CAA42D4BF}" type="slidenum">
              <a:t>1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1cb75"/>
                </a:solidFill>
                <a:uFillTx/>
                <a:latin typeface="Tahoma"/>
              </a:rPr>
              <a:t>ОБОБЩЕНИЕ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огое делается по охране живот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шей стране принят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кон об охране 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ользовании животно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особой охраной находятся животные 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оведни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огают спасению редких животных 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оопар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надо беречь не только редких животных, но и всех остальных, ведь все животные связаны между собой цепью питания. Поэтому, сберегая одних, вы часто помогаете друг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же надо беречь дом животных – это леса, луга, водоём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CB8-E065-4C4B-9647-27B74E5D9A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Итог урока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помните, о каких животных мы сегодня говорили и ответьте на вопросы т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D1C-1C38-4A61-B55F-A6284BF912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ценный пушной зверёк. Был на грани уничтожения, но предпринятые меры по его охране спасли этот вид животных. Сейчас общая численность их 700 тысяч го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7242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44500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1258920" y="4653000"/>
            <a:ext cx="1655640" cy="1655640"/>
          </a:xfrm>
          <a:prstGeom prst="rect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3564000" y="4653000"/>
            <a:ext cx="1655640" cy="1655640"/>
          </a:xfrm>
          <a:prstGeom prst="rect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5940360" y="4653000"/>
            <a:ext cx="1656000" cy="1655640"/>
          </a:xfrm>
          <a:prstGeom prst="rect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4797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47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47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ол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164360" y="29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47640" y="1916280"/>
            <a:ext cx="456912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846-D229-437B-B462-04061624A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ладыка Арк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 двух – трёхлетнем возрасте эти птицы создают пары и больше никогда не расста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59120" y="4668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971640" y="2781360"/>
            <a:ext cx="1728720" cy="1008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3635280" y="2781360"/>
            <a:ext cx="1728720" cy="1008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6227640" y="2781360"/>
            <a:ext cx="1729080" cy="1008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852640"/>
            <a:ext cx="14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лый медв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9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92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5950080"/>
            <a:ext cx="1800360" cy="64764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5950080"/>
            <a:ext cx="1800000" cy="64764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7640" y="5950080"/>
            <a:ext cx="1800360" cy="64764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1258920" y="6021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3635280" y="602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рав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602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б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D66-8199-4C75-B0CB-6D29B073A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1cb75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59636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6265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646-C814-4054-A5AE-5251DEF350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502080" cy="36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FBE-5FE5-4583-9859-8FC5A0805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Эта большая белая птица служит символом красоты и любви, чистоты и неж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Знахари готовили из частей его тела лекарство от слабости и трус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3645000"/>
            <a:ext cx="1728720" cy="576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5950080"/>
            <a:ext cx="1728720" cy="576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5950080"/>
            <a:ext cx="1728720" cy="576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187280" y="5950080"/>
            <a:ext cx="1729080" cy="57600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3716280"/>
            <a:ext cx="1728720" cy="57636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3716280"/>
            <a:ext cx="1728720" cy="57636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б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3924360" y="37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630072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пуг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5950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7040" y="59500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я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595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341-69C6-4717-A75C-3F8B15926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1cb75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33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4103640" cy="43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1B9-6264-4605-B549-B9C745340E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3141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4248360" cy="34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185-B34D-418F-BA49-9EF391F38A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e288"/>
                </a:solidFill>
                <a:latin typeface="Tahoma"/>
              </a:rPr>
              <a:t>Как прекрасен этот мир!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633400" cy="250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1700280"/>
            <a:ext cx="2519280" cy="22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56360" y="2492280"/>
            <a:ext cx="2754360" cy="24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2663640" cy="22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12840" y="-5000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DC9-D0E2-4B02-B9F1-810EC526E15C}" type="slidenum">
              <a:t>2</a:t>
            </a:fld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Детёныши этих птиц рождаются с длинными толстыми ногами, прямым красным клювом и ходят два года в сером оперении, а затем одеваются в розовый наря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4869000"/>
            <a:ext cx="1943280" cy="107928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3564000" y="4869000"/>
            <a:ext cx="1942920" cy="107928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6227640" y="4869000"/>
            <a:ext cx="1943280" cy="1079280"/>
          </a:xfrm>
          <a:prstGeom prst="flowChartProcess">
            <a:avLst/>
          </a:prstGeom>
          <a:solidFill>
            <a:srgbClr val="6f84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51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ламин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80000" y="51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луб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522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BC4-CD76-4CCA-A2B7-B6FEA3B82E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cb75"/>
                </a:solidFill>
                <a:latin typeface="Tahoma"/>
              </a:rPr>
              <a:t>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812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050160" cy="40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551-D28C-417D-998D-EBFAEE763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c1cb75"/>
                </a:solidFill>
                <a:latin typeface="Tahoma"/>
              </a:rPr>
              <a:t>Прочитайте слово, которое получилось в      выделенном столбце.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ЛЫЙ 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ЖУ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Р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В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Г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ЛАМ</a:t>
            </a:r>
            <a:r>
              <a:rPr b="1" lang="en-US" sz="4000" spc="-1" strike="noStrike">
                <a:solidFill>
                  <a:srgbClr val="00cc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FB5-DD2E-441D-A08D-EAAC64BB01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Tahoma"/>
              </a:rPr>
              <a:t>БЕРЕГИТЕ ПРИРОДУ!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ff73"/>
                </a:solidFill>
                <a:latin typeface="Tahoma"/>
              </a:rPr>
              <a:t>Это животные, растения, воздух, вода, почва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2330640" cy="176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2173320" cy="2173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194200" cy="2193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84360" y="4292640"/>
            <a:ext cx="2193840" cy="21938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8532720" y="587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7301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5456" y="5928"/>
                </a:lnTo>
                <a:lnTo>
                  <a:pt x="5456" y="19941"/>
                </a:lnTo>
                <a:lnTo>
                  <a:pt x="3794" y="19941"/>
                </a:ln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D03-B011-411E-9F23-02893A7A71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неправильно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3708360" y="494172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6f8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B01-3BD0-4410-A8A6-07C61F184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Все эти животные занесены в Красную книгу!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м им угрожает опасность исчезновения с лица Зем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22880" y="1930320"/>
            <a:ext cx="2008080" cy="183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72360" y="4005360"/>
            <a:ext cx="2546280" cy="254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587-A067-4CC5-B2C0-FA0B1A68A0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1cb75"/>
                </a:solidFill>
                <a:latin typeface="Tahoma"/>
              </a:rPr>
              <a:t>Для чего нужна Красная книга?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сная книга нас информирует, какие растения и животные в 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а призывает изучать прир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книга предупреждает, что то или иное животное, растение в беде. Его надо охран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A87-3B81-4C73-88B6-ACD4A59C9094}" type="slidenum">
              <a:t>4</a:t>
            </a:fld>
          </a:p>
        </p:txBody>
      </p:sp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b75"/>
                </a:solidFill>
                <a:latin typeface="Tahoma"/>
              </a:rPr>
              <a:t>Тема:</a:t>
            </a:r>
            <a:r>
              <a:rPr b="1" lang="en-US" sz="5400" spc="-1" strike="noStrike">
                <a:solidFill>
                  <a:srgbClr val="c1cb75"/>
                </a:solidFill>
                <a:latin typeface="Tahoma"/>
              </a:rPr>
              <a:t> Охрана животных.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116080" cy="221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00320" y="4286160"/>
            <a:ext cx="1768320" cy="168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183280" y="4311720"/>
            <a:ext cx="1874880" cy="169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492360" y="1413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11280" y="15573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9C5-5FF2-40AC-8239-6E7CE16DA859}" type="slidenum">
              <a:t>5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1440" y="2128680"/>
            <a:ext cx="403848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отные играют большую роль в прир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з них многие растения не могли бы размножаться и рассе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ы животные и люд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Как вы думаете для чего?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237672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940360" y="3502080"/>
            <a:ext cx="240192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40F-2870-454A-A312-C2DB145C37B4}" type="slidenum">
              <a:t>6</a:t>
            </a:fld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Животные Красной книги.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убая леса, загрязняя реки, моря, люди губят множество живот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животных леса, реки, озёра – это их д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дкими стали: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ый медведь, орёл-беркут, морж, журавль, фламинго, тигр, жук-красотел, выхухоль, лебедь, розо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йк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многие другие животн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88000" y="3936960"/>
            <a:ext cx="1944720" cy="1940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09308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093080" y="2205000"/>
            <a:ext cx="1834920" cy="18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64F-C05E-4FE1-8C89-8F5C2DE80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cb75"/>
                </a:solidFill>
                <a:latin typeface="Tahoma"/>
              </a:rPr>
              <a:t>Жалобы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а с 1964 года находится под охраной государства. Одна сова уничтожает за лето 1000 мышей, которые способны уничтожить 1 тонну зер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а жаба сохраняет от гусениц и червей целый огород. Если в доме завелись тараканы, принеси жабу – и они исчез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2379960" cy="2163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959-4301-4FA4-A457-9A52AF777209}" type="slidenum">
              <a:t>8</a:t>
            </a:fld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1cb75"/>
                </a:solidFill>
                <a:uFillTx/>
                <a:latin typeface="Tahoma"/>
              </a:rPr>
              <a:t>Экологические правила.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разоряй птичьи гнёз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подходи близко к гнёздам птиц. По твоим следам их могут отыскать и разорить хищники. Не прикасайся к гнезду, иначе птицы родители могут навсегда покинуть 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у тебя есть собака Не пускай её гулять в лесу или парке весной. Она может легко поймать плохо летающих птенцов и беспомощных детёнышей звер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лови и не уноси домой здоровых детёнышей зверей и птенцов. В природе о них позаботятся взрослые живот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удем подкармливать птиц зимой, а весной с помощью старших будем делать для них дом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обрывай в лесу паутину и не убивай пау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лови бабочек, шмелей, стрекоз и других насеком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разоряй муравей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еги лягушек, жаб и их головаст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A2-7620-44F0-8808-3814F521CAA5}" type="slidenum">
              <a:t>9</a:t>
            </a:fld>
          </a:p>
        </p:txBody>
      </p:sp>
    </p:spTree>
  </p:cSld>
  <p:transition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47:05Z</dcterms:created>
  <dc:creator>1</dc:creator>
  <dc:description/>
  <dc:language>en-US</dc:language>
  <cp:lastModifiedBy>1</cp:lastModifiedBy>
  <dcterms:modified xsi:type="dcterms:W3CDTF">2013-10-16T06:23:55Z</dcterms:modified>
  <cp:revision>27</cp:revision>
  <dc:subject/>
  <dc:title>Слайд 1</dc:title>
</cp:coreProperties>
</file>