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B53-9753-4B92-8AF4-B59AF92B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E4E-7616-4A2A-A2F0-7ED5386E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CB4-0923-4E38-8F7A-FC154A2E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CAF-FBBD-4EDA-A1A5-6EBDD21B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13A4-031A-4DAE-B50C-C9563070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87F0-9382-4970-B991-75CDD74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AF69-4B4A-439A-AC99-761A42B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A1FF-A02C-45FA-B99C-14031A4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DB7-B3A8-4B29-A87C-63C8DF2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2406-7A5E-4F7E-86C4-C3D7958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132-0E0A-4C8D-9BA6-87A79B8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F90-4222-4D23-A5C2-B11A10B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2CC-5861-44D7-904C-9755EF2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4D5-324C-4509-891D-38A75CC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AE3-7C85-4E71-B8B6-DF67B90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4CF-5CD2-44A1-907A-D81A31DC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0AD7-BBC8-43C1-980F-1FBBE2A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499-D77B-4F27-9352-961D204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C61-E560-4687-BCDF-DD347EE7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367-C793-4B9A-8B7F-91E298B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D28-785E-4E2B-A66B-2BBE79C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499-8AA5-49AC-A97D-3A35198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B37-B7BA-429E-A8E2-B3C415A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4ED-B4C9-42A3-B48B-70CA5EF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E00-BCDF-4CA2-BF9C-6B791BA1BA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40C5-5458-4B97-930F-C1400225AA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foto.mail.ru/mail/ira1977-7/57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fotki.yandex.ru/users/kovsanyok/view/70213/?page=3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tohost.ru/pictures/14410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ый проект по окружающему миру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3" descr="click?url=http%3A%2F%2Fwww"/>
          <p:cNvPicPr/>
          <p:nvPr/>
        </p:nvPicPr>
        <p:blipFill>
          <a:blip r:embed="rId1"/>
          <a:stretch/>
        </p:blipFill>
        <p:spPr>
          <a:xfrm>
            <a:off x="3643200" y="2643120"/>
            <a:ext cx="486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иментаторы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блемный вопрос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но ли вырастить грибы на кусочке хлеба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ите опыт: в тарелку на слой влажного песка положите кусочек белого хлеба. Всё накройте другой тарелкой, поставьте в тёплое тёмное место. Наблюдай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произошло с хлебом в процессе эксперимент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4" descr=""/>
          <p:cNvPicPr/>
          <p:nvPr/>
        </p:nvPicPr>
        <p:blipFill>
          <a:blip r:embed="rId1"/>
          <a:stretch/>
        </p:blipFill>
        <p:spPr>
          <a:xfrm>
            <a:off x="1176480" y="2352600"/>
            <a:ext cx="7072200" cy="339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lick?url=http%3A%2F%2Fphoto"/>
          <p:cNvPicPr/>
          <p:nvPr/>
        </p:nvPicPr>
        <p:blipFill>
          <a:blip r:embed="rId2"/>
          <a:stretch/>
        </p:blipFill>
        <p:spPr>
          <a:xfrm>
            <a:off x="6429240" y="4143240"/>
            <a:ext cx="2500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тгадай загадку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прятался за пень –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Шапка набек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Кто проходит близко –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Кланяется низк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грибок"/>
          <p:cNvPicPr/>
          <p:nvPr/>
        </p:nvPicPr>
        <p:blipFill>
          <a:blip r:embed="rId1"/>
          <a:stretch/>
        </p:blipFill>
        <p:spPr>
          <a:xfrm>
            <a:off x="5796000" y="2997360"/>
            <a:ext cx="287964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6480" y="314640"/>
            <a:ext cx="78152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много исто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ные долгое время не могли решить, что это вообще такое – грибы? К группе растений и животных они не подходят. В старину многие думали, что они появляются от росы, от ударов молнии, от гниения веществ. И в 19 веке их выделили в отдельное царство. В нашей стране насчитывается 200 видов грибов. Грибники собирают 15 видов, а заядлые берут до 25!  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ревней Руси грибы назывались «губы» и говорили не «идти по грибы», а «губы ломать». Слово «грибы» появилось в славянском языке, видимо, в XVI в. Старинное название «губы» до сих пор сохранилось в народных говорах Сибири,  в Кировской и Архангельской областях.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click?url=http%3A%2F%2Fnloov"/>
          <p:cNvPicPr/>
          <p:nvPr/>
        </p:nvPicPr>
        <p:blipFill>
          <a:blip r:embed="rId1"/>
          <a:stretch/>
        </p:blipFill>
        <p:spPr>
          <a:xfrm>
            <a:off x="2214720" y="214200"/>
            <a:ext cx="1928520" cy="164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lick?url=http%3A%2F%2Fwww"/>
          <p:cNvPicPr/>
          <p:nvPr/>
        </p:nvPicPr>
        <p:blipFill>
          <a:blip r:embed="rId2"/>
          <a:stretch/>
        </p:blipFill>
        <p:spPr>
          <a:xfrm>
            <a:off x="142920" y="21420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-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1420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0_11169_f9a93e51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15080" y="214200"/>
            <a:ext cx="1928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ете ли вы, ч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иб плазмидий умеет ходить. Передвигается он медленней улитки, но за несколько дней взбирается на пень и живет т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ибы растут быстро, увеличиваясь за сутки приблизительно на 1-2 с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ый ядовитый гриб – бледная поганка, он же мухомор белы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ый большой съедобный гриб был найден в Канаде, его диаметр 2,64 м, а вес 22 к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 проекта: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В царстве грибов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42920" y="2923920"/>
            <a:ext cx="75405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ополагающий вопрос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ова роль живых организмов в природ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7" descr="Картинка 7 из 7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4214880"/>
            <a:ext cx="2571840" cy="243684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работы над проект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биваемся на групп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вая группа – теорет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торая группа – исследоват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тья группа – экспериментат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ремя работы над проектом – 1 неде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орети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блемный вопрос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Грибы – это кто или что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гриб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 каких частей состоит гриб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де растут гриб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правила нужно соблюдать при сборе грибо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следователи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блемный вопрос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ужны ли несъедобные грибы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тличить съедобный гриб от несъедобного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ое значение имеют грибы в природ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грибы взаимодействуют с другими обитателями природ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грибы занесены в Красную книг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19:48:10Z</dcterms:created>
  <dc:creator>Roman</dc:creator>
  <dc:description/>
  <dc:language>en-US</dc:language>
  <cp:lastModifiedBy>информатика</cp:lastModifiedBy>
  <dcterms:modified xsi:type="dcterms:W3CDTF">2012-06-13T07:18:50Z</dcterms:modified>
  <cp:revision>11</cp:revision>
  <dc:subject/>
  <dc:title>Учебный проект по окружающему миру </dc:title>
</cp:coreProperties>
</file>