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562-E75B-49A8-B984-B30C2FF0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8A5-3B1D-4B62-A130-FF0BD956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686-16EF-4E1E-AA8A-764FC3F3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638-F486-4FDA-9C4F-530AA716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336A-5B40-4CE2-962D-9C82938E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CEC2-6A80-42A0-8C94-767A9B2F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5901-BF47-48A5-AC4F-17302259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6EDB-0E36-434A-9837-26242D8C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7A06-5419-4BA1-8D7D-182D90E7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027E-A5D3-414A-80B4-84765AA1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93A5-5846-4638-A448-9717FB78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80D-AB2C-4C03-83DA-3BB8533C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E2CA-ACE1-48AE-880A-913D45BB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F476-437D-41B3-8DAB-7F4F540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4E2C-5AEC-4397-84A8-7FE4D6BA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3AB8-E187-4086-BC1F-64F3D725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777A-AA26-4B8D-82CC-BAA0E08D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F71-3D6E-490E-8D84-B9D063AD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939-06EC-42F4-85C0-36199D8C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02A-8106-4A30-9D3A-C585E9C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07B-FD9F-46DE-B20F-8E687EBF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228-4EB9-4857-BA8B-4AC79FA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F88-A18F-460A-9A8B-D1B72BF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919-F0A0-476B-93A2-3151900C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2E2C-3A9D-4BE8-B89E-6522D7BE417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2DB5-00AC-4897-841E-C916A785D1C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4619520" cy="5877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33ff"/>
                </a:solidFill>
                <a:latin typeface="Verdana"/>
              </a:rPr>
              <a:t>Валентин Григорьевич Распутин</a:t>
            </a:r>
            <a:endParaRPr b="1" lang="en-US" sz="4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«</a:t>
            </a: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840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332000" y="1636560"/>
            <a:ext cx="65530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03280" y="1374840"/>
            <a:ext cx="691380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16000" y="1486080"/>
            <a:ext cx="684072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553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6409080" cy="489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5b3d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2. Выпишите из фрагмента слова, с помощью которых директор охарактеризовал поступок Лидии Михайловны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6551640" cy="482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95b3d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3. Выпишите из фрагмента название игры, в которую играли Лидия Михайловна и главный герой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86920" y="1628640"/>
            <a:ext cx="6480360" cy="482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95b3d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1. Опишите свои впечатления от просмотренной сцены,  соотнося ее с прочитанным эпизодом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Спасибо всем за работу!</a:t>
            </a: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11.03.201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«Образ учительницы в рассказе В.Г. Распутина «Уроки французского»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редства создания художественного образа геро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портр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редства создания художественного образа геро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портр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поступ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Средства создания художественного образа геро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ртр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ступ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пейзаж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интерье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речь</a:t>
            </a: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Прототип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 – лицо, послужившее писателю источником создания литературного персонажа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Лидия Михайловна Молок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3822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«Уроки французского» - фильм режиссёра Евгения Ташкова, 1978г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«Уроки французского», 197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9134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8:55:11Z</dcterms:created>
  <dc:creator>Windows 7</dc:creator>
  <dc:description/>
  <dc:language>en-US</dc:language>
  <cp:lastModifiedBy>Windows 7</cp:lastModifiedBy>
  <dcterms:modified xsi:type="dcterms:W3CDTF">2012-03-10T10:21:34Z</dcterms:modified>
  <cp:revision>2</cp:revision>
  <dc:subject/>
  <dc:title>Валентин Григорьевич Распутин</dc:title>
</cp:coreProperties>
</file>