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5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46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7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48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49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50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51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52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53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54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55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56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57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58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59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60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61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62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63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8"/>
          <p:cNvSpPr txBox="1"/>
          <p:nvPr/>
        </p:nvSpPr>
        <p:spPr>
          <a:xfrm>
            <a:off x="1600200" y="2514600"/>
            <a:ext cx="6324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сота, биссектриса 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медиана треугольника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1752480" y="990720"/>
            <a:ext cx="5305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ометрия  7 класс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13"/>
          <p:cNvSpPr txBox="1"/>
          <p:nvPr/>
        </p:nvSpPr>
        <p:spPr>
          <a:xfrm>
            <a:off x="4343400" y="4572000"/>
            <a:ext cx="3733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Учитель математ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Шуйского рай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МКОУ Милюковская О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И.А. Василье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145760" y="73980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Пла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165320" y="1744560"/>
            <a:ext cx="7216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1" action="ppaction://hlinksldjump"/>
              </a:rPr>
              <a:t>  Задач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2" action="ppaction://hlinksldjump"/>
              </a:rPr>
              <a:t>  Повторение изученного материа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зучение нового материа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3" action="ppaction://hlinksldjump"/>
              </a:rPr>
              <a:t>Высота треугольни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4" action="ppaction://hlinksldjump"/>
              </a:rPr>
              <a:t>Медиана треугольни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5" action="ppaction://hlinksldjump"/>
              </a:rPr>
              <a:t>Биссектриса треугольни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6" action="ppaction://hlinksldjump"/>
              </a:rPr>
              <a:t>Закрепление нового материала. Решение зада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1355760" y="179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3352680" y="685800"/>
            <a:ext cx="236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чи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85800" y="16416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 определением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соты, медианы и биссектрисы треугольни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учить учащихся распознавать 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ображать на рисунках высоту, медиану 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иссектрису треугольни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учить применять при решении задач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нятия высоты, медианы и биссектрисы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">
            <a:hlinkClick r:id="rId1" action="ppaction://hlinksldjump"/>
          </p:cNvPr>
          <p:cNvSpPr/>
          <p:nvPr/>
        </p:nvSpPr>
        <p:spPr>
          <a:xfrm>
            <a:off x="7924680" y="57150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5"/>
          <p:cNvSpPr/>
          <p:nvPr/>
        </p:nvSpPr>
        <p:spPr>
          <a:xfrm>
            <a:off x="2438280" y="2286000"/>
            <a:ext cx="350532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6404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4267080" y="1143000"/>
            <a:ext cx="76320" cy="763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4345560" y="83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1677600" y="9936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814400" y="3622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 flipH="1">
            <a:off x="2209320" y="3657600"/>
            <a:ext cx="2133720" cy="175248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2209680" y="5410080"/>
            <a:ext cx="365760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1752480" y="5638680"/>
            <a:ext cx="57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йте биссектрису угл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1676520" y="2971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 точки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опустите на прямую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пендикуля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">
            <a:hlinkClick r:id="rId1" action="ppaction://hlinksldjump"/>
          </p:cNvPr>
          <p:cNvSpPr/>
          <p:nvPr/>
        </p:nvSpPr>
        <p:spPr>
          <a:xfrm>
            <a:off x="7848720" y="571500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8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838080" y="4572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ысот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реугольника, опущенной из данной вершины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перпендикуляр, проведенный из этой вершины к прямой, которая содержит противолежащую сторону треугольни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762120" y="2705040"/>
            <a:ext cx="2286000" cy="1905120"/>
          </a:xfrm>
          <a:prstGeom prst="triangle">
            <a:avLst>
              <a:gd name="adj" fmla="val 74366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 rot="13385400">
            <a:off x="2743200" y="3238560"/>
            <a:ext cx="3533760" cy="1123920"/>
          </a:xfrm>
          <a:prstGeom prst="triangle">
            <a:avLst>
              <a:gd name="adj" fmla="val 33671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6781680" y="2247840"/>
            <a:ext cx="1524240" cy="236232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9"/>
          <p:cNvSpPr/>
          <p:nvPr/>
        </p:nvSpPr>
        <p:spPr>
          <a:xfrm flipH="1">
            <a:off x="2419200" y="270504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6114960" y="456552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4524480" y="4552920"/>
            <a:ext cx="7596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3000240" y="457524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752400" y="456264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3575160" y="2190600"/>
            <a:ext cx="7596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6"/>
          <p:cNvSpPr/>
          <p:nvPr/>
        </p:nvSpPr>
        <p:spPr>
          <a:xfrm>
            <a:off x="8248680" y="455292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7"/>
          <p:cNvSpPr/>
          <p:nvPr/>
        </p:nvSpPr>
        <p:spPr>
          <a:xfrm>
            <a:off x="6734160" y="456264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8"/>
          <p:cNvSpPr/>
          <p:nvPr/>
        </p:nvSpPr>
        <p:spPr>
          <a:xfrm>
            <a:off x="6743880" y="2219400"/>
            <a:ext cx="7596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900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4267080" y="45720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669168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8780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3733920" y="19051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663120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3049920" y="4648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6095880" y="4572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8327880" y="4699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823140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 flipH="1">
            <a:off x="3352680" y="4603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3619440" y="2260440"/>
            <a:ext cx="0" cy="23623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34"/>
          <p:cNvSpPr/>
          <p:nvPr/>
        </p:nvSpPr>
        <p:spPr>
          <a:xfrm>
            <a:off x="3581280" y="45720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6"/>
          <p:cNvSpPr/>
          <p:nvPr/>
        </p:nvSpPr>
        <p:spPr>
          <a:xfrm>
            <a:off x="343080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7"/>
          <p:cNvSpPr/>
          <p:nvPr/>
        </p:nvSpPr>
        <p:spPr>
          <a:xfrm>
            <a:off x="2471760" y="2722680"/>
            <a:ext cx="0" cy="18288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8"/>
          <p:cNvSpPr/>
          <p:nvPr/>
        </p:nvSpPr>
        <p:spPr>
          <a:xfrm>
            <a:off x="2438280" y="45720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221148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1"/>
          <p:cNvSpPr/>
          <p:nvPr/>
        </p:nvSpPr>
        <p:spPr>
          <a:xfrm>
            <a:off x="6781680" y="2209680"/>
            <a:ext cx="0" cy="24004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2300400" y="4462560"/>
            <a:ext cx="152280" cy="15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6781680" y="4457880"/>
            <a:ext cx="152640" cy="15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616200" y="4444920"/>
            <a:ext cx="152640" cy="15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6"/>
          <p:cNvSpPr/>
          <p:nvPr/>
        </p:nvSpPr>
        <p:spPr>
          <a:xfrm>
            <a:off x="841320" y="4952880"/>
            <a:ext cx="21999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Основание высот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лежит на стороне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треугольник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9"/>
          <p:cNvSpPr/>
          <p:nvPr/>
        </p:nvSpPr>
        <p:spPr>
          <a:xfrm>
            <a:off x="3581280" y="4876920"/>
            <a:ext cx="3124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Основание высоты лежи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на продолжении сторон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треугольник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6705720" y="485928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)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Основание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высоты совпадает с вершиной 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2664360" y="5791320"/>
            <a:ext cx="38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ысота опущена из вершины 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6">
            <a:hlinkClick r:id="" action="ppaction://hlinkshowjump?jump=previousslide"/>
          </p:cNvPr>
          <p:cNvSpPr/>
          <p:nvPr/>
        </p:nvSpPr>
        <p:spPr>
          <a:xfrm>
            <a:off x="7924680" y="571500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1979640" y="2852640"/>
            <a:ext cx="5040360" cy="2737080"/>
          </a:xfrm>
          <a:prstGeom prst="triangle">
            <a:avLst>
              <a:gd name="adj" fmla="val 85449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1979640" y="55180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4500720" y="5518080"/>
            <a:ext cx="7596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6948360" y="5518080"/>
            <a:ext cx="7164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6227640" y="285264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7"/>
          <p:cNvSpPr/>
          <p:nvPr/>
        </p:nvSpPr>
        <p:spPr>
          <a:xfrm flipV="1">
            <a:off x="4500720" y="2852280"/>
            <a:ext cx="1800000" cy="27370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 flipH="1">
            <a:off x="2987280" y="5445000"/>
            <a:ext cx="152280" cy="2286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 flipH="1">
            <a:off x="3132000" y="5445000"/>
            <a:ext cx="152640" cy="2286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 flipH="1">
            <a:off x="5651280" y="5516640"/>
            <a:ext cx="152280" cy="2286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 flipH="1">
            <a:off x="5795640" y="5516640"/>
            <a:ext cx="152280" cy="2286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1706400" y="566100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687888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6137280" y="244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433728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539640" y="692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едиа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реугольника, проведенной из данной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,  называется отрезок, соединяющий эту вершину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серединой противолежащей стороны треугольн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7">
            <a:hlinkClick r:id="" action="ppaction://hlinkshowjump?jump=previousslide"/>
          </p:cNvPr>
          <p:cNvSpPr/>
          <p:nvPr/>
        </p:nvSpPr>
        <p:spPr>
          <a:xfrm>
            <a:off x="7924680" y="571500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914400" y="685800"/>
            <a:ext cx="73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ссектриса треугольник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ной из данной вершины, называется отрезок биссектрисы угла треугольника, соединяющий эту вершину с точкой на противолежащей сторон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590920" y="2743200"/>
            <a:ext cx="4267080" cy="2514600"/>
          </a:xfrm>
          <a:prstGeom prst="triangle">
            <a:avLst>
              <a:gd name="adj" fmla="val 22435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3517920" y="27176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2558880" y="52070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4229280" y="52196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6788160" y="52005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429000" y="2362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2500560" y="5295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78348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552840" y="2752560"/>
            <a:ext cx="714240" cy="25052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135680" y="528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rc 18"/>
          <p:cNvSpPr/>
          <p:nvPr/>
        </p:nvSpPr>
        <p:spPr>
          <a:xfrm rot="5949000">
            <a:off x="3733200" y="3047760"/>
            <a:ext cx="228600" cy="228600"/>
          </a:xfrm>
          <a:prstGeom prst="pie">
            <a:avLst/>
          </a:pr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rc 20"/>
          <p:cNvSpPr/>
          <p:nvPr/>
        </p:nvSpPr>
        <p:spPr>
          <a:xfrm rot="8641200">
            <a:off x="3408120" y="3130200"/>
            <a:ext cx="228600" cy="228600"/>
          </a:xfrm>
          <a:prstGeom prst="pie">
            <a:avLst/>
          </a:pr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2">
            <a:hlinkClick r:id="" action="ppaction://hlinkshowjump?jump=previousslide"/>
          </p:cNvPr>
          <p:cNvSpPr/>
          <p:nvPr/>
        </p:nvSpPr>
        <p:spPr>
          <a:xfrm>
            <a:off x="7924680" y="571500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6"/>
          <p:cNvSpPr/>
          <p:nvPr/>
        </p:nvSpPr>
        <p:spPr>
          <a:xfrm>
            <a:off x="990720" y="1523880"/>
            <a:ext cx="3352680" cy="13716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5562720" y="1219320"/>
            <a:ext cx="2514600" cy="2057400"/>
          </a:xfrm>
          <a:prstGeom prst="triangle">
            <a:avLst>
              <a:gd name="adj" fmla="val 8465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/>
          <p:cNvSpPr/>
          <p:nvPr/>
        </p:nvSpPr>
        <p:spPr>
          <a:xfrm rot="9415800">
            <a:off x="1752120" y="5028840"/>
            <a:ext cx="3962520" cy="1143000"/>
          </a:xfrm>
          <a:prstGeom prst="triangle">
            <a:avLst>
              <a:gd name="adj" fmla="val 3284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 flipV="1">
            <a:off x="990720" y="2133720"/>
            <a:ext cx="2438280" cy="7617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71040" y="29336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16040" y="114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489480" y="18288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405320" y="2705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"/>
          <p:cNvSpPr/>
          <p:nvPr/>
        </p:nvSpPr>
        <p:spPr>
          <a:xfrm rot="20979000">
            <a:off x="1601640" y="259056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20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 rot="20886600">
            <a:off x="1371600" y="236232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20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257800" y="3200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7681680" y="8762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8139240" y="3162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6620040" y="2181240"/>
            <a:ext cx="7596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6657840" y="2219400"/>
            <a:ext cx="1419480" cy="10573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6386760" y="186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2"/>
          <p:cNvSpPr/>
          <p:nvPr/>
        </p:nvSpPr>
        <p:spPr>
          <a:xfrm rot="19081200">
            <a:off x="5640120" y="2361960"/>
            <a:ext cx="6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с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3"/>
          <p:cNvSpPr/>
          <p:nvPr/>
        </p:nvSpPr>
        <p:spPr>
          <a:xfrm rot="18783000">
            <a:off x="6706440" y="1371600"/>
            <a:ext cx="6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с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1373400" y="571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5335920" y="4038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4329360" y="5905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8"/>
          <p:cNvSpPr/>
          <p:nvPr/>
        </p:nvSpPr>
        <p:spPr>
          <a:xfrm>
            <a:off x="4572000" y="5857920"/>
            <a:ext cx="76212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9"/>
          <p:cNvSpPr/>
          <p:nvPr/>
        </p:nvSpPr>
        <p:spPr>
          <a:xfrm>
            <a:off x="5334120" y="4295880"/>
            <a:ext cx="0" cy="15714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0"/>
          <p:cNvSpPr/>
          <p:nvPr/>
        </p:nvSpPr>
        <p:spPr>
          <a:xfrm>
            <a:off x="5172120" y="5705640"/>
            <a:ext cx="152280" cy="15228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5243760" y="5829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2"/>
          <p:cNvSpPr/>
          <p:nvPr/>
        </p:nvSpPr>
        <p:spPr>
          <a:xfrm flipH="1" flipV="1">
            <a:off x="4047840" y="4847760"/>
            <a:ext cx="523800" cy="10191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3871800" y="4533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5">
            <a:hlinkClick r:id="" action="ppaction://hlinkshowjump?jump=previousslide"/>
          </p:cNvPr>
          <p:cNvSpPr/>
          <p:nvPr/>
        </p:nvSpPr>
        <p:spPr>
          <a:xfrm>
            <a:off x="7924680" y="571500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3-10-16T19:53:3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