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FC50-C61A-49EB-BF9A-92E36BA96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9E9C-F6CD-42D5-804B-101E3401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EDD8-11DA-4FCD-AF5D-EC3996B8D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A6BA-A868-4D7A-9C77-F266256E8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73D3-B76F-4869-9334-1816D341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8F11-EE74-4C99-B578-CE41E16F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BBB3-BD9A-4D57-8323-F89644D4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75DD-2EEB-4707-8A1B-22DDAAE1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2E65-2162-4FC9-B0E4-69C3735E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083A-9D37-41E0-BB7A-5A52FA42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49C8-3D0B-4826-9405-AACEE3BF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E080-7FF2-4849-A096-B9F9FDEE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A1E0-9CB6-4BC0-A89F-352F9E8DF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971800" y="2590920"/>
            <a:ext cx="3768840" cy="16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ДАПТАЦИЯ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ОВИЧКО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286000" y="380880"/>
            <a:ext cx="47656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этом году 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наш класс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шли 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ятеро ребят!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579132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33520" y="4495680"/>
            <a:ext cx="83055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ля выявления уровня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даптации через 6 недель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ною было 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ведено анкетирование 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овых учеников.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81080" y="457200"/>
            <a:ext cx="518184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3722760" cy="4695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343400" y="609480"/>
            <a:ext cx="42069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0" y="380880"/>
            <a:ext cx="4116240" cy="6004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382572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0" y="304920"/>
            <a:ext cx="4324320" cy="6248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2680" y="685800"/>
            <a:ext cx="4375080" cy="52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267080" y="228600"/>
            <a:ext cx="4659480" cy="6400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92240" y="698400"/>
            <a:ext cx="392256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809960" y="380880"/>
            <a:ext cx="4105440" cy="6172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09480" y="541440"/>
            <a:ext cx="396252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7T18:15:25Z</dcterms:created>
  <dc:creator>Татьяна</dc:creator>
  <dc:description/>
  <dc:language>en-US</dc:language>
  <cp:lastModifiedBy>123</cp:lastModifiedBy>
  <dcterms:modified xsi:type="dcterms:W3CDTF">2013-10-17T18:32:2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