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gif" ContentType="image/gif"/>
  <Override PartName="/ppt/media/image26.gif" ContentType="image/gif"/>
  <Override PartName="/ppt/media/image23.png" ContentType="image/png"/>
  <Override PartName="/ppt/media/image5.gif" ContentType="image/gif"/>
  <Override PartName="/ppt/media/image28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31.gif" ContentType="image/gif"/>
  <Override PartName="/ppt/media/image24.jpeg" ContentType="image/jpeg"/>
  <Override PartName="/ppt/media/image30.jpeg" ContentType="image/jpeg"/>
  <Override PartName="/ppt/media/image12.gif" ContentType="image/gif"/>
  <Override PartName="/ppt/media/image9.gif" ContentType="image/gif"/>
  <Override PartName="/ppt/media/image11.png" ContentType="image/png"/>
  <Override PartName="/ppt/media/image7.gif" ContentType="image/gif"/>
  <Override PartName="/ppt/media/image32.jpeg" ContentType="image/jpeg"/>
  <Override PartName="/ppt/media/image13.gif" ContentType="image/gif"/>
  <Override PartName="/ppt/media/image8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8F1-6EDE-4BFF-9AA1-55AEB4F8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EADA-F385-412B-B57B-2156F951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A86-A34A-438D-B978-152467D5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3CE-0313-4EF5-8D9C-09C9F7E4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DCB9-F08A-4A1F-9009-7B20B665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EDF4-AFCB-4845-B4F8-561C1CC3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F7B5-118A-42DE-9D18-E57D6389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B2C1-2188-43F6-B5E9-9A10779A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2EB9-3958-4A99-BA5F-568A5B43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AD7A-8E3F-43ED-9E29-6C1F03CC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7DAF-ADC8-43A6-A7E3-95423437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2BC-9FC0-45ED-B665-995F36B9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F685-3AB6-42E3-9352-A919E1BA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2020-9997-48DC-A8ED-4A437B06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7B8E-2B1B-4071-A1E0-B5ED80A2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2935-C7A1-4B9B-87C2-0DAFF48F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7DA9-E777-4933-BC62-854F7709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547-B916-4403-AC31-48624575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666-90F5-483F-9FAA-3B85475D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E1F-22AC-40DE-94F8-6F5CAAC4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A76-A1EC-4230-B507-9BD8A135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ADB-90D9-4DE9-BB85-E55094D4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949-8188-415F-905C-4CD5E808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09E-C6BE-4A64-8464-61183FEA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17AC-F842-4C7A-9792-1B6ACF5AD5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B1F9-003B-46B4-8720-3D32B9CC0BB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зическая культура и олимпийское движение в России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Picture 4" descr="k3"/>
          <p:cNvPicPr/>
          <p:nvPr/>
        </p:nvPicPr>
        <p:blipFill>
          <a:blip r:embed="rId1"/>
          <a:stretch/>
        </p:blipFill>
        <p:spPr>
          <a:xfrm>
            <a:off x="4572000" y="2643120"/>
            <a:ext cx="3355920" cy="364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f077"/>
          <p:cNvPicPr/>
          <p:nvPr/>
        </p:nvPicPr>
        <p:blipFill>
          <a:blip r:embed="rId2"/>
          <a:stretch/>
        </p:blipFill>
        <p:spPr>
          <a:xfrm>
            <a:off x="1979640" y="3141720"/>
            <a:ext cx="1008000" cy="7556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Материал с Интернета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российский олимпийский комитет был создан в 1989 г., первым председателем его был чемпион Олимпийских игр В. А.Васин. С 1992 г. Всероссийский олимпийский комитет стал называться Олимпийским комитетом России, он был признан МОК и проводит большую работу по развитию спортивного и олимпийского движения в стране и мир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4" descr="f079"/>
          <p:cNvPicPr/>
          <p:nvPr/>
        </p:nvPicPr>
        <p:blipFill>
          <a:blip r:embed="rId1"/>
          <a:stretch/>
        </p:blipFill>
        <p:spPr>
          <a:xfrm>
            <a:off x="7524720" y="1700280"/>
            <a:ext cx="1295280" cy="890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4"/>
          <p:cNvPicPr/>
          <p:nvPr/>
        </p:nvPicPr>
        <p:blipFill>
          <a:blip r:embed="rId2"/>
          <a:stretch/>
        </p:blipFill>
        <p:spPr>
          <a:xfrm>
            <a:off x="6732720" y="4365720"/>
            <a:ext cx="2119320" cy="1712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6202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лимпийский комитет России возглавляет олимпийское движение России, разрабатывает и проводит единую политику развития спорта высших достижений при взаимодействии с федеральным органом исполнительной власти в области физической культуры и спорта, осуществляет свою деятельность в соответствии с законодательством РФ, Олимпийской хартией Международного олимпийского комитета и своим устав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5" descr="j0297003"/>
          <p:cNvPicPr/>
          <p:nvPr/>
        </p:nvPicPr>
        <p:blipFill>
          <a:blip r:embed="rId1"/>
          <a:stretch/>
        </p:blipFill>
        <p:spPr>
          <a:xfrm>
            <a:off x="6588000" y="1484280"/>
            <a:ext cx="2232000" cy="1592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f8"/>
          <p:cNvPicPr/>
          <p:nvPr/>
        </p:nvPicPr>
        <p:blipFill>
          <a:blip r:embed="rId2"/>
          <a:stretch/>
        </p:blipFill>
        <p:spPr>
          <a:xfrm>
            <a:off x="6588000" y="4797360"/>
            <a:ext cx="2227320" cy="135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Вывод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изическая культура и олимпийское движение в России развиваются. Политика государства  направлена на привлечение денежных и материальных ресурсов в сферу физической культуры и спорт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Использованная литература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ях В. И., Зданевич А. А. Физическая культура: учебник для учащихся 8-9 кл. общеобразовательных учрежден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учно – методический журнал Физическая культура в школе. 2005 №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учно – теоретический  и методический журнал Физическая культура в школе. 1995 №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Гипотеза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Мы предполагаем, что физическая культура и олимпийское движение в России сложилось давн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4" descr="j0303462"/>
          <p:cNvPicPr/>
          <p:nvPr/>
        </p:nvPicPr>
        <p:blipFill>
          <a:blip r:embed="rId1"/>
          <a:stretch/>
        </p:blipFill>
        <p:spPr>
          <a:xfrm>
            <a:off x="611280" y="2852640"/>
            <a:ext cx="2087640" cy="1467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j0303467"/>
          <p:cNvPicPr/>
          <p:nvPr/>
        </p:nvPicPr>
        <p:blipFill>
          <a:blip r:embed="rId2"/>
          <a:stretch/>
        </p:blipFill>
        <p:spPr>
          <a:xfrm>
            <a:off x="2195640" y="3933720"/>
            <a:ext cx="2232000" cy="1567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j0303466"/>
          <p:cNvPicPr/>
          <p:nvPr/>
        </p:nvPicPr>
        <p:blipFill>
          <a:blip r:embed="rId3"/>
          <a:stretch/>
        </p:blipFill>
        <p:spPr>
          <a:xfrm>
            <a:off x="3924360" y="5157720"/>
            <a:ext cx="2232000" cy="1463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j0303468"/>
          <p:cNvPicPr/>
          <p:nvPr/>
        </p:nvPicPr>
        <p:blipFill>
          <a:blip r:embed="rId4"/>
          <a:stretch/>
        </p:blipFill>
        <p:spPr>
          <a:xfrm>
            <a:off x="5076720" y="3068640"/>
            <a:ext cx="1513080" cy="1038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j0303464"/>
          <p:cNvPicPr/>
          <p:nvPr/>
        </p:nvPicPr>
        <p:blipFill>
          <a:blip r:embed="rId5"/>
          <a:stretch/>
        </p:blipFill>
        <p:spPr>
          <a:xfrm>
            <a:off x="6372360" y="3933720"/>
            <a:ext cx="1439640" cy="954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Ход  исследования: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Беседа с библиотекарем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Лекция на уроке физкультры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Беседа с известным    спортсменом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Работа в сети Интернет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j0285258"/>
          <p:cNvPicPr/>
          <p:nvPr/>
        </p:nvPicPr>
        <p:blipFill>
          <a:blip r:embed="rId5"/>
          <a:stretch/>
        </p:blipFill>
        <p:spPr>
          <a:xfrm>
            <a:off x="6732720" y="2708280"/>
            <a:ext cx="1909800" cy="1360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 библиотеке . . .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83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знали, что возникновение физических упражнений и игр у народов России относится к первобытному строю . Они отражали бытовую и военную деятельность древнего человек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" descr="j0213503"/>
          <p:cNvPicPr/>
          <p:nvPr/>
        </p:nvPicPr>
        <p:blipFill>
          <a:blip r:embed="rId1"/>
          <a:stretch/>
        </p:blipFill>
        <p:spPr>
          <a:xfrm>
            <a:off x="6659640" y="1773360"/>
            <a:ext cx="1560600" cy="1471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AG00016_"/>
          <p:cNvPicPr/>
          <p:nvPr/>
        </p:nvPicPr>
        <p:blipFill>
          <a:blip r:embed="rId2"/>
          <a:stretch/>
        </p:blipFill>
        <p:spPr>
          <a:xfrm>
            <a:off x="5796000" y="3500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AG00019_"/>
          <p:cNvPicPr/>
          <p:nvPr/>
        </p:nvPicPr>
        <p:blipFill>
          <a:blip r:embed="rId3"/>
          <a:stretch/>
        </p:blipFill>
        <p:spPr>
          <a:xfrm>
            <a:off x="7164360" y="4941720"/>
            <a:ext cx="1409760" cy="1305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2637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обытная народная система физического воспитания сложилась  на Руси в 9- 17 вв. Среди народов Руси популярностью пользовались борьба, верховая езда, стрельба из лука, кулачный бой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4" descr="AG00574_"/>
          <p:cNvPicPr/>
          <p:nvPr/>
        </p:nvPicPr>
        <p:blipFill>
          <a:blip r:embed="rId1"/>
          <a:stretch/>
        </p:blipFill>
        <p:spPr>
          <a:xfrm>
            <a:off x="1042920" y="476280"/>
            <a:ext cx="1871640" cy="1722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AG00583_"/>
          <p:cNvPicPr/>
          <p:nvPr/>
        </p:nvPicPr>
        <p:blipFill>
          <a:blip r:embed="rId2"/>
          <a:stretch/>
        </p:blipFill>
        <p:spPr>
          <a:xfrm>
            <a:off x="5796000" y="765000"/>
            <a:ext cx="2158920" cy="1328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j0296951"/>
          <p:cNvPicPr/>
          <p:nvPr/>
        </p:nvPicPr>
        <p:blipFill>
          <a:blip r:embed="rId3"/>
          <a:stretch/>
        </p:blipFill>
        <p:spPr>
          <a:xfrm>
            <a:off x="3492360" y="765000"/>
            <a:ext cx="1657440" cy="1303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На уроке физкультуры…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ы узнали, что в 1999 г. введен в действие закон « О физической культуре и спорте в Российской Федерации»,  который впервые в стране установил правовые,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4" descr="sport14"/>
          <p:cNvPicPr/>
          <p:nvPr/>
        </p:nvPicPr>
        <p:blipFill>
          <a:blip r:embed="rId1"/>
          <a:stretch/>
        </p:blipFill>
        <p:spPr>
          <a:xfrm>
            <a:off x="755640" y="2205000"/>
            <a:ext cx="2016000" cy="1647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j0336927"/>
          <p:cNvPicPr/>
          <p:nvPr/>
        </p:nvPicPr>
        <p:blipFill>
          <a:blip r:embed="rId2"/>
          <a:stretch/>
        </p:blipFill>
        <p:spPr>
          <a:xfrm>
            <a:off x="2195640" y="3645000"/>
            <a:ext cx="168120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4920" y="189000"/>
            <a:ext cx="5256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ганизационные ,экономические и социальные основы деятельности физкультурно- спортивных организаций, принципы политики государства в области физической культуры и спорта и олимпийского движения в России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4" descr="j0285254"/>
          <p:cNvPicPr/>
          <p:nvPr/>
        </p:nvPicPr>
        <p:blipFill>
          <a:blip r:embed="rId1"/>
          <a:stretch/>
        </p:blipFill>
        <p:spPr>
          <a:xfrm>
            <a:off x="5867280" y="1341360"/>
            <a:ext cx="2592360" cy="1489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j0285255"/>
          <p:cNvPicPr/>
          <p:nvPr/>
        </p:nvPicPr>
        <p:blipFill>
          <a:blip r:embed="rId2"/>
          <a:stretch/>
        </p:blipFill>
        <p:spPr>
          <a:xfrm>
            <a:off x="6012000" y="3573360"/>
            <a:ext cx="2158920" cy="1925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Беседа с Владиславом Третьяком 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34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России в хоккей на льду стали играть с 1911 г., однако эта игра не сразу стала популярной. Первый чемпионат СССР прошел в 1946 - 1947 гг., а первыми чемпионами стали московские динамовцы. В 1954 г. Сборная команда СССР впервые стала чемпионом мира, а в 1956 г.- Олимпийским чемпион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11" descr="i?id=38220988&amp;tov=6"/>
          <p:cNvPicPr/>
          <p:nvPr/>
        </p:nvPicPr>
        <p:blipFill>
          <a:blip r:embed="rId2"/>
          <a:stretch/>
        </p:blipFill>
        <p:spPr>
          <a:xfrm>
            <a:off x="7093080" y="1268280"/>
            <a:ext cx="1411200" cy="1943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i?id=10248902&amp;tov=3"/>
          <p:cNvPicPr/>
          <p:nvPr/>
        </p:nvPicPr>
        <p:blipFill>
          <a:blip r:embed="rId3"/>
          <a:stretch/>
        </p:blipFill>
        <p:spPr>
          <a:xfrm>
            <a:off x="6804000" y="4149720"/>
            <a:ext cx="1952640" cy="1468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6346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яд наших хоккеистов были трехкратными олимпийскими чемпионами. Это В. Давыдов, В. Кузькин, А. Рагулин, А. Фирсов, В. Третьяк.  Наши спортсмены  были многократными чемпионами Олимпийских игр, мира и Европы, и сейчас хоккеисты подтверждают свои способности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4" descr="j0303461"/>
          <p:cNvPicPr/>
          <p:nvPr/>
        </p:nvPicPr>
        <p:blipFill>
          <a:blip r:embed="rId1"/>
          <a:stretch/>
        </p:blipFill>
        <p:spPr>
          <a:xfrm>
            <a:off x="6372360" y="1268280"/>
            <a:ext cx="1726920" cy="1108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j0303460"/>
          <p:cNvPicPr/>
          <p:nvPr/>
        </p:nvPicPr>
        <p:blipFill>
          <a:blip r:embed="rId2"/>
          <a:stretch/>
        </p:blipFill>
        <p:spPr>
          <a:xfrm>
            <a:off x="6948360" y="2997360"/>
            <a:ext cx="1871640" cy="1346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j0303465"/>
          <p:cNvPicPr/>
          <p:nvPr/>
        </p:nvPicPr>
        <p:blipFill>
          <a:blip r:embed="rId3"/>
          <a:stretch/>
        </p:blipFill>
        <p:spPr>
          <a:xfrm>
            <a:off x="6227640" y="5157720"/>
            <a:ext cx="1656000" cy="110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5:24:06Z</dcterms:created>
  <dc:creator>N-1</dc:creator>
  <dc:description/>
  <dc:language>en-US</dc:language>
  <cp:lastModifiedBy>User</cp:lastModifiedBy>
  <dcterms:modified xsi:type="dcterms:W3CDTF">2013-10-16T06:52:05Z</dcterms:modified>
  <cp:revision>9</cp:revision>
  <dc:subject/>
  <dc:title>Физическая культура и олимпийское движение в россии </dc:title>
</cp:coreProperties>
</file>