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13E3-8F4E-4DA9-BFCA-43B5D108C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C102-2859-47E9-886F-5B81EC64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75BE-6040-47A8-B18A-45DF36A74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8860-E349-44C0-AFDD-C3439764E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8120-D61C-4155-82A1-6600C7122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9207-5C04-47DF-AD55-1AF2F778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56FC-5F12-422E-B86C-B046CA64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9F58C-14BC-45FA-BE66-31A4654F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9B91-A093-4A81-A26F-962405D3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F5D0-A785-493E-A2B2-B957280A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E225-FC72-494D-8819-20054E94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79CA-1CB4-4D49-A614-F060B47B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5CAB-B4C0-436A-8381-975E3646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6B69-9905-42C8-8089-0C320A71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234B-325B-425B-8261-3D010EEC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A701-1BD1-48F6-BF31-44F1A4593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C072-2424-4348-B1F8-61168F8C4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0E471-FE78-4696-B5B2-D67A18B58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69675-BD9C-4D0F-AD72-14233770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C2A9D-F181-4675-BB89-24F73BC8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AD6FE-DD37-439F-93A9-3ED5D17D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93F35-B6B6-4783-936E-42B93D86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6784-6DD1-4E4E-8385-823DA08C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03B07-8A96-472B-BF30-21E7D4C5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4C90D-16A7-4FC0-9F77-F01E5481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F0458-33B2-415B-BA30-375111C9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A3965-B3AE-4117-8315-D01D3DA0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733FC-F6B3-4799-9253-083985C0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38E81-5649-4DBC-8743-55BC9C8A6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7DD4D-061E-4213-9735-BB9AA3791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E03DE-DD6B-43A5-AD9D-47C68BC6D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85D33-85EC-4CEB-889A-60C1CD1B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ED38D-467B-4CA3-8F1B-DED265E1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91A7-3582-4572-B35E-34DE27E2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5DB6E-7C3F-4688-8D31-6B6E511B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B1CEB-5025-44E7-AC0F-E0A0FC66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18BFF-1D9E-4E41-9CAD-E5EE6CAA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DC4A4-C869-4EF4-B379-368D34FC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F2FB1-F7FA-47AD-8550-7CE3F028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A7447-58C2-46AF-AFC0-598E9436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D2CF9-A7C2-4890-96B4-4E8C491F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0A39B-FFF4-487C-9957-4171D3A7D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040F4-16B7-4D9A-9C4B-9291BC534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629E6-E24A-4C5E-AAE8-6AD33EB82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6B2F-62C2-4E0A-9FFC-EA22C08C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BDAC5-C19F-421B-89DD-2538F774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0E699-5F52-4842-A5DF-A860BAA3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F7F27-8AE2-4047-98BD-AAFE21C7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87BD1-D46A-43F5-9712-0BC851EC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29D0D-39B1-4DEC-92AA-DC22C6EA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5F031-E0CB-4098-BEA5-979DE7FE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50F60-417B-46E1-94F6-385DADE8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0AD1D-1F80-4A62-835B-5536A290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D84DE-3EB8-4BE2-9383-CDEC0BFC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1C317-238F-4314-9AAC-C0B14ACFF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D051-C35B-40DA-8D4C-231D0948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BDF2E-4B01-423A-A023-361EC68CA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54B83-09AE-493C-B3D7-FCD430B11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C2C47-0D15-4E87-92D3-0628DBAD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C0293-0932-410E-846A-F4845BB4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FC178-9495-46B8-8320-4ED41FBC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2DF2E-F285-4E34-A703-D7510334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4855D-A8A8-4931-ADAF-F97F7A90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88AB5-084E-4EAB-A046-0A9E0A4F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3341B-19F0-49FD-92A5-CD5DD08D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4FC2A-C2F8-44B1-903E-644FBA88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0E18-4CBA-4E6E-ABE0-7AED3F1A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B48AB-79C7-42FF-82CE-9576F2A4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13CB8-340B-41BF-8B2A-6E5C55167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05C56-3AAF-4FFF-BF1F-4D2CE8588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F766C-E9A2-4EBD-ABFC-837EB3834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5F564-5DCA-4273-86F4-0F407BCE1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369BC-413B-40B1-B5C7-21681C5F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16F8E-D90B-4EF9-9421-8D3AB7C6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12867-2B16-400D-8EA1-D569B540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885F0-6564-4068-80C8-65F853D0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6880C-7412-497D-A701-4671542E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ECA0-9F32-4294-B0CA-21327989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F4D7A-8688-4539-B54E-0F6D0A91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E97B9-AC23-4FD6-B274-10CCE574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67CB8-30DA-49AE-8F74-7A76D692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3B424-B29F-4833-A12D-636609240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F938B-C54E-4F19-83B4-08658792C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8D19-DAC4-41E4-ABA9-F117D5CD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6df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c5d1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587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646b8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cb40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cb4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646b86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646b86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b86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3F08-F032-404C-B495-8D53A67D8A06}" type="slidenum">
              <a:rPr b="0" lang="ru-RU" sz="1200" spc="-1" strike="noStrike">
                <a:solidFill>
                  <a:srgbClr val="646b86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6df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c5d1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587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646b8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cb40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cb4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646b86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646b86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b86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BE77-5A84-480E-87BF-B313DF525CAE}" type="slidenum">
              <a:rPr b="0" lang="ru-RU" sz="1200" spc="-1" strike="noStrike">
                <a:solidFill>
                  <a:srgbClr val="646b86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6df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c5d1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ccb400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ccb400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c2d6e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c0d6e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c0d6e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c0d6e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c0d6e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c0d6e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c0d6e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c0d6e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c0d6e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c0d6e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c0d6e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c0d6e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c2d6e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c2d6e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587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646b8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cb40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cb4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646b86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646b86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b86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D6C8-45F6-401A-B6BB-1F60B491414D}" type="slidenum">
              <a:rPr b="0" lang="ru-RU" sz="1200" spc="-1" strike="noStrike">
                <a:solidFill>
                  <a:srgbClr val="646b86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6df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587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646b8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cb40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cb4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646b86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646b86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b86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AB0B-3052-43CB-AC08-EAE7B2F36482}" type="slidenum">
              <a:rPr b="0" lang="ru-RU" sz="1200" spc="-1" strike="noStrike">
                <a:solidFill>
                  <a:srgbClr val="646b86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6df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c2d6e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c5d1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c5d1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c5d1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c5d1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c5d1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c5d1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c5d1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c5d1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c5d1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587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646b8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cb40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cb4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646b86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646b86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b86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910A-1C86-4784-9AEB-B8F4887DF9E2}" type="slidenum">
              <a:rPr b="0" lang="ru-RU" sz="1200" spc="-1" strike="noStrike">
                <a:solidFill>
                  <a:srgbClr val="646b86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6df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587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646b8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cb40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cb4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646b86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646b86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b86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0217-7E4B-4061-A694-7E0C54991DE6}" type="slidenum">
              <a:rPr b="0" lang="ru-RU" sz="1200" spc="-1" strike="noStrike">
                <a:solidFill>
                  <a:srgbClr val="646b86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6df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c5d1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88160" y="1217520"/>
              <a:ext cx="568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80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88160" y="1282320"/>
              <a:ext cx="568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400"/>
            <a:chOff x="8669160" y="1370160"/>
            <a:chExt cx="12888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41160" y="1370160"/>
              <a:ext cx="568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320"/>
              <a:ext cx="806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41160" y="1434960"/>
              <a:ext cx="568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93040" y="1473120"/>
              <a:ext cx="568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80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93040" y="1537920"/>
              <a:ext cx="568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587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646b8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cb40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cb4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646b86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646b86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b86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5448-C955-48C1-961B-745B1E113369}" type="slidenum">
              <a:rPr b="0" lang="ru-RU" sz="1200" spc="-1" strike="noStrike">
                <a:solidFill>
                  <a:srgbClr val="646b86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1087;&#1077;&#1088;&#1077;&#1090;&#1072;&#1089;&#1082;&#1080;&#1074;&#1072;&#1085;&#1080;&#1077;%20&#1086;&#1073;&#1098;&#1077;&#1082;&#1090;&#1086;&#1074;.notebook" TargetMode="External"/><Relationship Id="rId2" Type="http://schemas.openxmlformats.org/officeDocument/2006/relationships/hyperlink" Target="file:///&#1087;&#1077;&#1088;&#1086;%20&#1101;&#1083;&#1077;&#1082;&#1090;&#1088;&#1086;&#1085;&#1085;&#1086;&#1077;.notebook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1680" y="1642680"/>
            <a:ext cx="777240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e587f"/>
                </a:solidFill>
                <a:latin typeface="Consolas"/>
              </a:rPr>
              <a:t>Применение ИКТ на уроках русского языка и литературы</a:t>
            </a:r>
            <a:endParaRPr b="0" lang="en-US" sz="54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69" name="Прямоугольник 3"/>
          <p:cNvSpPr/>
          <p:nvPr/>
        </p:nvSpPr>
        <p:spPr>
          <a:xfrm>
            <a:off x="785880" y="357120"/>
            <a:ext cx="75722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истерство образования и науки Калуж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ОУ ДП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лужский областной институт повышения квалификации работников образова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4"/>
          <p:cNvSpPr/>
          <p:nvPr/>
        </p:nvSpPr>
        <p:spPr>
          <a:xfrm>
            <a:off x="3214800" y="4500720"/>
            <a:ext cx="5572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3d6"/>
                </a:solidFill>
                <a:latin typeface="Arial"/>
              </a:rPr>
              <a:t>Прокопов Валерий Витальевич,</a:t>
            </a:r>
            <a:br>
              <a:rPr sz="2800"/>
            </a:br>
            <a:r>
              <a:rPr b="0" lang="ru-RU" sz="1800" spc="-1" strike="noStrike">
                <a:solidFill>
                  <a:srgbClr val="00a3d6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a3d6"/>
                </a:solidFill>
                <a:latin typeface="Arial"/>
              </a:rPr>
              <a:t>МКОУ «Средняя общеобразовательная школа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a3d6"/>
                </a:solidFill>
                <a:latin typeface="Arial"/>
              </a:rPr>
              <a:t>с. Зикеево Жиздринского района Калужской обл. </a:t>
            </a:r>
            <a:r>
              <a:rPr b="0" lang="en-US" sz="1800" spc="-1" strike="noStrike">
                <a:solidFill>
                  <a:srgbClr val="00a3d6"/>
                </a:solidFill>
                <a:latin typeface="Arial"/>
              </a:rPr>
              <a:t>E-mail: wwp</a:t>
            </a:r>
            <a:r>
              <a:rPr b="0" lang="ru-RU" sz="1800" spc="-1" strike="noStrike">
                <a:solidFill>
                  <a:srgbClr val="00a3d6"/>
                </a:solidFill>
                <a:latin typeface="Arial"/>
              </a:rPr>
              <a:t>007</a:t>
            </a:r>
            <a:r>
              <a:rPr b="0" lang="en-US" sz="1800" spc="-1" strike="noStrike">
                <a:solidFill>
                  <a:srgbClr val="00a3d6"/>
                </a:solidFill>
                <a:latin typeface="Arial"/>
              </a:rPr>
              <a:t>@ya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6" descr=""/>
          <p:cNvPicPr/>
          <p:nvPr/>
        </p:nvPicPr>
        <p:blipFill>
          <a:blip r:embed="rId1"/>
          <a:stretch/>
        </p:blipFill>
        <p:spPr>
          <a:xfrm>
            <a:off x="714240" y="4572000"/>
            <a:ext cx="233388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e587f"/>
                </a:solidFill>
                <a:latin typeface="Consolas"/>
              </a:rPr>
              <a:t>Ассоциация учителей русского языка Калужской области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914400" y="178452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6" descr=""/>
          <p:cNvPicPr/>
          <p:nvPr/>
        </p:nvPicPr>
        <p:blipFill>
          <a:blip r:embed="rId2"/>
          <a:srcRect l="5960" t="0" r="10633" b="4631"/>
          <a:stretch/>
        </p:blipFill>
        <p:spPr>
          <a:xfrm>
            <a:off x="611280" y="1413000"/>
            <a:ext cx="813744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e587f"/>
                </a:solidFill>
                <a:latin typeface="Consolas"/>
              </a:rPr>
              <a:t>СПАСИБО ЗА ВНИМАНИЕ!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914400" y="178452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" descr="I:\Интердоска\P6130834.jpg"/>
          <p:cNvPicPr/>
          <p:nvPr/>
        </p:nvPicPr>
        <p:blipFill>
          <a:blip r:embed="rId2"/>
          <a:stretch/>
        </p:blipFill>
        <p:spPr>
          <a:xfrm>
            <a:off x="571680" y="1214280"/>
            <a:ext cx="8369280" cy="5429520"/>
          </a:xfrm>
          <a:prstGeom prst="rect">
            <a:avLst/>
          </a:prstGeom>
          <a:ln w="0">
            <a:noFill/>
          </a:ln>
        </p:spPr>
      </p:pic>
      <p:sp>
        <p:nvSpPr>
          <p:cNvPr id="410" name="TextBox 4"/>
          <p:cNvSpPr/>
          <p:nvPr/>
        </p:nvSpPr>
        <p:spPr>
          <a:xfrm>
            <a:off x="714240" y="5572080"/>
            <a:ext cx="77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Счастья, удачи, здоровь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благополучия и процветани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8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960"/>
                            </p:stCondLst>
                            <p:childTnLst>
                              <p:par>
                                <p:cTn id="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1320" y="512640"/>
            <a:ext cx="8072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e587f"/>
                </a:solidFill>
                <a:latin typeface="Consolas"/>
              </a:rPr>
              <a:t>Общие вопросы методики применения ИКТ в образовательном процессе</a:t>
            </a:r>
            <a:endParaRPr b="0" lang="en-US" sz="32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ИКТ - важнейшая составляющая всех направлений деятельности современного учителя, способствующая оптимизации и интеграции учебной и внеучебной деятельности. Дополняя широкий спектр педагогических (образовательных) технологий, ИКТ помогают решить (постепенно и органично, в реальном процессе) вопросы формирования общей коммуникативной компетенции - условия успешной социализации выпускников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4" name="Picture 5" descr=""/>
          <p:cNvPicPr/>
          <p:nvPr/>
        </p:nvPicPr>
        <p:blipFill>
          <a:blip r:embed="rId1"/>
          <a:stretch/>
        </p:blipFill>
        <p:spPr>
          <a:xfrm>
            <a:off x="857160" y="4214880"/>
            <a:ext cx="252576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4"/>
          <p:cNvSpPr/>
          <p:nvPr/>
        </p:nvSpPr>
        <p:spPr>
          <a:xfrm>
            <a:off x="304920" y="304920"/>
            <a:ext cx="81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onsolas"/>
              </a:rPr>
              <a:t>Вопросы здоровьесбережения при работе с компьютерным  оборудова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357120" y="1152360"/>
            <a:ext cx="86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и работе с компьютерным оборудованием на уроке следует руководствоваться нормами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анПиН 2.4.2.2821-10 «Санитарно-эпидемиологические требования к условиям и организации обучения в общеобразовательных учреждениях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428760" y="2203200"/>
            <a:ext cx="830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  <a:ea typeface="Times New Roman"/>
              </a:rPr>
              <a:t>Продолжительность непрерывного применения технических средств обучения на урок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357120" y="2928960"/>
          <a:ext cx="8586720" cy="3392640"/>
        </p:xfrm>
        <a:graphic>
          <a:graphicData uri="http://schemas.openxmlformats.org/drawingml/2006/table">
            <a:tbl>
              <a:tblPr/>
              <a:tblGrid>
                <a:gridCol w="857160"/>
                <a:gridCol w="1357560"/>
                <a:gridCol w="1307880"/>
                <a:gridCol w="1541520"/>
                <a:gridCol w="1542960"/>
                <a:gridCol w="1063800"/>
                <a:gridCol w="91584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Кл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Непрерывная длительность (мин.), не боле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2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осмотр статических  изображений на учебных досках и экранах отражённого све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осмотр телепереда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осмотр динамических изображений  на учебных досках и экранах отражённого све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абота с изображением на индивидуальном мониторе компьютера и клавиатур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ослуши-вание аудиозапис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ослушивание аудиоза-писи в наушни-к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1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3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5-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8-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36197"/>
                </a:solidFill>
                <a:latin typeface="Consolas"/>
              </a:rPr>
              <a:t>Что такое интерактивная доска</a:t>
            </a:r>
            <a:endParaRPr b="0" lang="en-US" sz="36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Интерактивная доска – это эффективный инструмент для проведения презентаций, учебных занятий, семинаров, деловых совещаний. Интерактивная доска совмещает функции 3 видов оборудования: аудиторной доски, экрана и интерактивного компьютерного монитор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1" name="Picture 3" descr=""/>
          <p:cNvPicPr/>
          <p:nvPr/>
        </p:nvPicPr>
        <p:blipFill>
          <a:blip r:embed="rId1"/>
          <a:stretch/>
        </p:blipFill>
        <p:spPr>
          <a:xfrm>
            <a:off x="642960" y="3714840"/>
            <a:ext cx="3714840" cy="27907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"/>
          <p:cNvPicPr/>
          <p:nvPr/>
        </p:nvPicPr>
        <p:blipFill>
          <a:blip r:embed="rId2"/>
          <a:stretch/>
        </p:blipFill>
        <p:spPr>
          <a:xfrm>
            <a:off x="5000760" y="3714840"/>
            <a:ext cx="32860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e587f"/>
                </a:solidFill>
                <a:latin typeface="Consolas"/>
              </a:rPr>
              <a:t>Как работает интерактивная доска</a:t>
            </a:r>
            <a:endParaRPr b="0" lang="en-US" sz="3200" spc="-1" strike="noStrike">
              <a:solidFill>
                <a:srgbClr val="3e587f"/>
              </a:solidFill>
              <a:latin typeface="Consolas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785880" y="1428840"/>
            <a:ext cx="4095720" cy="286704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3"/>
          <p:cNvSpPr/>
          <p:nvPr/>
        </p:nvSpPr>
        <p:spPr>
          <a:xfrm>
            <a:off x="5143680" y="1653480"/>
            <a:ext cx="37144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лностью функционирующие интерактивные доски обычно включают 4 компонент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* компьюте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* мультимедийный проекто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* соответствующее программное обеспеч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* интерактивная дос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5"/>
          <p:cNvSpPr/>
          <p:nvPr/>
        </p:nvSpPr>
        <p:spPr>
          <a:xfrm>
            <a:off x="714240" y="4714920"/>
            <a:ext cx="7858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Мультимедийный проектор и интерактивная доска подключаются к компьютеру. Изображение на мониторе компьютера передается через проектор на интерактивную доску. Прикосновения к поверхности интерактивной доски передаются на компьютер с помощью кабеля или через инфракрасную связь и интерпретируются специальным программным обеспечением, которое установлено на компьюте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36197"/>
                </a:solidFill>
                <a:latin typeface="Consolas"/>
              </a:rPr>
              <a:t>Положение проектора</a:t>
            </a:r>
            <a:endParaRPr b="0" lang="en-US" sz="32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214280"/>
            <a:ext cx="7772400" cy="514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Относительно этого показателя интерактивные доски могут быть прямой или обратной проекции. При использовании досок прямой проекции проектор располагают традиционным способом – со стороны аудитории и докладчика. Доски обратной проекции предполагают расположение проектора за экраном, что более удобно как для лектора, так и для слушателей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9" name="Picture 8" descr="Картинка 19 из 440"/>
          <p:cNvPicPr/>
          <p:nvPr/>
        </p:nvPicPr>
        <p:blipFill>
          <a:blip r:embed="rId1"/>
          <a:srcRect l="42030" t="18322" r="0" b="256"/>
          <a:stretch/>
        </p:blipFill>
        <p:spPr>
          <a:xfrm>
            <a:off x="5357880" y="3286080"/>
            <a:ext cx="3511440" cy="31100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7" descr=""/>
          <p:cNvPicPr/>
          <p:nvPr/>
        </p:nvPicPr>
        <p:blipFill>
          <a:blip r:embed="rId2"/>
          <a:stretch/>
        </p:blipFill>
        <p:spPr>
          <a:xfrm>
            <a:off x="785880" y="3286080"/>
            <a:ext cx="411948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e587f"/>
                </a:solidFill>
                <a:latin typeface="Consolas"/>
              </a:rPr>
              <a:t>Другое интерактивное оборудование</a:t>
            </a:r>
            <a:endParaRPr b="0" lang="en-US" sz="3200" spc="-1" strike="noStrike">
              <a:solidFill>
                <a:srgbClr val="3e587f"/>
              </a:solidFill>
              <a:latin typeface="Consolas"/>
            </a:endParaRPr>
          </a:p>
        </p:txBody>
      </p:sp>
      <p:pic>
        <p:nvPicPr>
          <p:cNvPr id="392" name="Picture 9" descr="Картинка 3 из 2482"/>
          <p:cNvPicPr/>
          <p:nvPr/>
        </p:nvPicPr>
        <p:blipFill>
          <a:blip r:embed="rId1"/>
          <a:srcRect l="0" t="5998" r="0" b="5998"/>
          <a:stretch/>
        </p:blipFill>
        <p:spPr>
          <a:xfrm>
            <a:off x="785880" y="1428840"/>
            <a:ext cx="3371760" cy="23335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7" descr=""/>
          <p:cNvPicPr/>
          <p:nvPr/>
        </p:nvPicPr>
        <p:blipFill>
          <a:blip r:embed="rId2"/>
          <a:stretch/>
        </p:blipFill>
        <p:spPr>
          <a:xfrm>
            <a:off x="5286240" y="1071720"/>
            <a:ext cx="2457720" cy="16160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6" descr=""/>
          <p:cNvPicPr/>
          <p:nvPr/>
        </p:nvPicPr>
        <p:blipFill>
          <a:blip r:embed="rId3"/>
          <a:stretch/>
        </p:blipFill>
        <p:spPr>
          <a:xfrm>
            <a:off x="4286160" y="3429000"/>
            <a:ext cx="4657680" cy="22352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Картинка 56 из 449"/>
          <p:cNvPicPr/>
          <p:nvPr/>
        </p:nvPicPr>
        <p:blipFill>
          <a:blip r:embed="rId4"/>
          <a:stretch/>
        </p:blipFill>
        <p:spPr>
          <a:xfrm>
            <a:off x="1000080" y="4286160"/>
            <a:ext cx="2590920" cy="2238480"/>
          </a:xfrm>
          <a:prstGeom prst="rect">
            <a:avLst/>
          </a:prstGeom>
          <a:ln w="0">
            <a:noFill/>
          </a:ln>
        </p:spPr>
      </p:pic>
      <p:sp>
        <p:nvSpPr>
          <p:cNvPr id="396" name="TextBox 7"/>
          <p:cNvSpPr/>
          <p:nvPr/>
        </p:nvSpPr>
        <p:spPr>
          <a:xfrm>
            <a:off x="5214960" y="2857680"/>
            <a:ext cx="31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активная приста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9"/>
          <p:cNvSpPr/>
          <p:nvPr/>
        </p:nvSpPr>
        <p:spPr>
          <a:xfrm>
            <a:off x="1153800" y="3786120"/>
            <a:ext cx="260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активная пан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0"/>
          <p:cNvSpPr/>
          <p:nvPr/>
        </p:nvSpPr>
        <p:spPr>
          <a:xfrm>
            <a:off x="6270840" y="578628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активный прое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11"/>
          <p:cNvSpPr/>
          <p:nvPr/>
        </p:nvSpPr>
        <p:spPr>
          <a:xfrm>
            <a:off x="3724560" y="5929200"/>
            <a:ext cx="183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актив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ш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98320" y="1428480"/>
            <a:ext cx="7831440" cy="51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lvl="1" marL="457200" indent="-307800">
              <a:lnSpc>
                <a:spcPct val="95000"/>
              </a:lnSpc>
              <a:buClr>
                <a:srgbClr val="f07f09"/>
              </a:buClr>
              <a:buSzPct val="9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Работа с текстом и изображениям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457200" indent="-307800">
              <a:lnSpc>
                <a:spcPct val="95000"/>
              </a:lnSpc>
              <a:buClr>
                <a:srgbClr val="f07f09"/>
              </a:buClr>
              <a:buSzPct val="9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Создание заметок с помощью электронных чернил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457200" indent="-307800">
              <a:lnSpc>
                <a:spcPct val="95000"/>
              </a:lnSpc>
              <a:buClr>
                <a:srgbClr val="f07f09"/>
              </a:buClr>
              <a:buSzPct val="9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Сохранение сделанных заметок для передачи по электронной почте, размещения в Интернете или печат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457200" indent="-307800">
              <a:lnSpc>
                <a:spcPct val="95000"/>
              </a:lnSpc>
              <a:buClr>
                <a:srgbClr val="f07f09"/>
              </a:buClr>
              <a:buSzPct val="9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Коллективный просмотр Web-сайтов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457200" indent="-307800">
              <a:lnSpc>
                <a:spcPct val="95000"/>
              </a:lnSpc>
              <a:buClr>
                <a:srgbClr val="f07f09"/>
              </a:buClr>
              <a:buSzPct val="9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Создание с помощью шаблонов и изображений собственных заданий для занятий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457200" indent="-307800">
              <a:lnSpc>
                <a:spcPct val="95000"/>
              </a:lnSpc>
              <a:buClr>
                <a:srgbClr val="f07f09"/>
              </a:buClr>
              <a:buSzPct val="9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Демонстрация и нанесение заметок поверх уже готовых цифровых материалов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457200" indent="-307800">
              <a:lnSpc>
                <a:spcPct val="95000"/>
              </a:lnSpc>
              <a:buClr>
                <a:srgbClr val="f07f09"/>
              </a:buClr>
              <a:buSzPct val="9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Использование встроенного в программное обеспечение интерактивной доски презентационного инструментария для обогащения дидактического материала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457200" indent="-307800">
              <a:lnSpc>
                <a:spcPct val="95000"/>
              </a:lnSpc>
              <a:buClr>
                <a:srgbClr val="f07f09"/>
              </a:buClr>
              <a:buSzPct val="9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Демонстрация цифровых материалов, созданных учащимися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457200" indent="-307800">
              <a:lnSpc>
                <a:spcPct val="95000"/>
              </a:lnSpc>
              <a:buClr>
                <a:srgbClr val="f07f09"/>
              </a:buClr>
              <a:buSzPct val="9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Использование готовых цифровых образовательных ресурсов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TextBox 3"/>
          <p:cNvSpPr/>
          <p:nvPr/>
        </p:nvSpPr>
        <p:spPr>
          <a:xfrm>
            <a:off x="413280" y="285840"/>
            <a:ext cx="847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46b86"/>
                </a:solidFill>
                <a:latin typeface="Consolas"/>
              </a:rPr>
              <a:t>При работе с интерактивной доск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46b86"/>
                </a:solidFill>
                <a:latin typeface="Consolas"/>
              </a:rPr>
              <a:t>мною использу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e587f"/>
                </a:solidFill>
                <a:latin typeface="Consolas"/>
              </a:rPr>
              <a:t>Поработаем на интерактивной доске!</a:t>
            </a:r>
            <a:endParaRPr b="0" lang="en-US" sz="32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914400" y="1285560"/>
            <a:ext cx="7772400" cy="50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646b8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a3d6"/>
                </a:solidFill>
                <a:uFillTx/>
                <a:latin typeface="Corbel"/>
                <a:hlinkClick r:id="rId1"/>
              </a:rPr>
              <a:t>Использование функции «перетаскивание объектов» на уроках русского язык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646b8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a3d6"/>
                </a:solidFill>
                <a:uFillTx/>
                <a:latin typeface="Corbel"/>
                <a:hlinkClick r:id="rId2"/>
              </a:rPr>
              <a:t>Использование функции «электронное перо» на уроках русского язык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646b8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Использование функций программы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MART Notebook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на уроках литератур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646b8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Использование функций программы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MART Notebook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на уроках ОБЖ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646b8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Урок с использованием ИАД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646b8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Использование материалов из сети Интернет при работе с ИАД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19:33:50Z</dcterms:created>
  <dc:creator>ВалеРок</dc:creator>
  <dc:description/>
  <dc:language>en-US</dc:language>
  <cp:lastModifiedBy>ВВП</cp:lastModifiedBy>
  <dcterms:modified xsi:type="dcterms:W3CDTF">2013-02-27T05:46:06Z</dcterms:modified>
  <cp:revision>51</cp:revision>
  <dc:subject/>
  <dc:title>Слайд 1</dc:title>
</cp:coreProperties>
</file>