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B8863-B61B-4039-BBA1-CE2649F68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7AB24-D901-40E5-B049-226526EB5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419B8-8EDE-46FC-90E9-8ACAC9BC4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A7B8C-9115-4B8D-B7D9-CE2113CB8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2952A-8E2E-4E3C-8F5D-FB1B5E5CB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5913B-3BEF-437D-9D8B-BC30EE93E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DE2F8-C3F5-4ED4-AA29-300D07503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8C3C8-9768-4ACD-B258-F438C9A4B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88912-AF39-4D0D-AA60-17D8F4251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CF7B3-DCE9-49FC-BBE0-2ADCFFD42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998F4-6C65-4916-B86F-A096A10C0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15BD2-3065-472C-BF6F-E484C8AA4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98311-2FB3-49EE-9748-5FF7FD6D3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E757D-3468-43EA-A174-E95410934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D83C5-8A6E-48A7-95CA-C8B467522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26553-FFAC-4F07-A381-59B76D0E6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33108-E06F-425F-8E08-B3464C586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AAAD46-5AA0-4E50-8E7F-7848CD9CE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DD161D-BFB6-4588-B3EC-47813B255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80C284-3D03-4032-A267-E5929FF91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53B440-ED19-4352-A91E-E359759DA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31620A-5D2C-4CAF-9E1D-1FBCE6B38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70DEE-3D88-4C43-95C0-CD9E16B94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E2B24D-AE0D-4E93-ADB0-C4C430357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4EB854-C087-409C-B521-D75B047F0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791E05-35C6-45B9-813F-E1613CFFC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57A3A4-27ED-46A0-997C-54E864C27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F9B5AB-4163-4286-85A9-FA8F433CB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113C89-8F37-42DF-B257-25B1CC41F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4DD254-262C-4A0A-9B94-A32B43B21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0ECCB1-70F8-4610-8ED4-24FA47F6D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5873BD-670E-4D9D-81CE-155E3EC35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9E9801-2D68-4013-88E1-0681BF480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EAE0C-5EA7-40FE-AA09-6B7F4E7D4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2BF16D-4220-467E-917D-C66756A12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D99D53-A89E-4FC1-806C-32B9E600D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63924B-6676-46C1-89BE-D2A75CE9A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1E253B-5519-40DD-AAF3-5F8EED5BA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F63D32-A557-4AA1-A5D4-06E03A33D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ECAC3D-9F55-4064-90C9-DFDB54B53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A69653-52CA-4591-A1D5-606858206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3F5C6F-0472-4EF2-9900-DE8DD2D5F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7F7663-5C51-4D38-9F95-C161CDC3C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5D047B-B71A-4468-B32C-4FE8A55BB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8BC9B-DDF4-4A6B-8F93-762F6CF63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9EF460-BB1B-4B00-B220-5CDC26422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D6C321-BAD0-45E6-93F7-8192E63FB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8BBD6E-E57B-4521-9860-DCF0240E1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F40DF2-8971-481E-85F5-1F30159FF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16511C-5A45-48A6-B234-771C4BC27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712944-7395-4F2A-B69B-B07C77177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348E94-4F0E-4C88-8BFD-3153F6A4D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2B8B13-BAF0-4FF1-BFB5-5A30FDEB2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47F68D-C268-4CD3-AFA0-75B17E3D4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EA404C-29BA-41ED-B3AF-E97A0C268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450CB-86E8-4E1B-BC55-7FDC6E6CA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48B6FD-1844-4740-BA5F-9EFCEA4E8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9C6696-7E92-4545-A25B-347D8B458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269827-F40D-439E-9C4E-2D8651D29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90372E-CDCC-4272-9032-E4748D7C3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AE7A30-C444-40E0-8CE6-A4FECBA89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7006C0-1297-4955-993B-38B5EAE75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D81353-1706-4BD1-9973-B56ECE270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7EFA7F-5961-43B3-B4D3-0594B29A2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EDED32-A77E-4802-A3E1-C7A67BDFE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0D32E9-A6A0-488F-A84C-F3F26269D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6E9E3-AD42-474E-9C47-3A137652B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F2749E-69E3-483B-A74B-6F19B90CD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E22534-2F12-4701-8953-A5AB2D8A5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9F12EA-38DD-4F48-940F-7E9539110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F69E5B-0066-4E05-B9FE-56DCE43D3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49A75C-6ADD-4164-B7D1-880BEFCF6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10D6D1-77A7-4172-86D4-42876B65E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F0BCE7-91E2-46B7-AED3-836FD9E47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56F193-84B1-4A6D-BCA0-E9DE4ECD4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82EFFA-28A4-4EAD-BBE7-7D059AA14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98233A-3173-44DB-9430-A26FF8D94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8EDA1-7A92-4FC4-B4DF-0AF0193C7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955020-1138-473B-BD71-0D64D94AA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EE093E-98DA-4B0B-8A16-752C8112A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496EFA-37A3-4957-BB4C-6CC10A0E6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666CE1-7FE7-4722-A0EC-9B096F147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BDB9AC-2577-4D0B-AD6D-E0E5204B1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24B71-DBEB-43C9-84CF-D2DA82BDD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9EC61-0950-4A52-B7A6-8397860843D0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929ED-0E71-40C7-8BA3-DC48773FF753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B751D-E6AD-4AF3-9C58-A45A77656D27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93800-B1B0-451F-B006-1B9BD90406D4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F56B0-7308-4C84-96AA-D5159673545C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FFDD5-6367-4B6B-8EDE-3FCAB5E30625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7F8B4-DCA9-4F2E-A785-E59806EDA867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2" descr=""/>
          <p:cNvPicPr/>
          <p:nvPr/>
        </p:nvPicPr>
        <p:blipFill>
          <a:blip r:embed="rId1"/>
          <a:stretch/>
        </p:blipFill>
        <p:spPr>
          <a:xfrm>
            <a:off x="1764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1" dur="2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7" dur="2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4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9T16:09:28Z</dcterms:created>
  <dc:creator>XP</dc:creator>
  <dc:description/>
  <dc:language>en-US</dc:language>
  <cp:lastModifiedBy>Zavuch</cp:lastModifiedBy>
  <dcterms:modified xsi:type="dcterms:W3CDTF">2013-10-17T09:14:45Z</dcterms:modified>
  <cp:revision>8</cp:revision>
  <dc:subject/>
  <dc:title>Кролики </dc:title>
</cp:coreProperties>
</file>