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gif" ContentType="image/gif"/>
  <Override PartName="/ppt/media/image25.jpeg" ContentType="image/jpeg"/>
  <Override PartName="/ppt/media/image32.png" ContentType="image/png"/>
  <Override PartName="/ppt/media/image24.jpeg" ContentType="image/jpeg"/>
  <Override PartName="/ppt/media/image30.gif" ContentType="image/gif"/>
  <Override PartName="/ppt/media/image8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31.gif" ContentType="image/gif"/>
  <Override PartName="/ppt/media/image4.png" ContentType="image/png"/>
  <Override PartName="/ppt/media/image12.jpeg" ContentType="image/jpeg"/>
  <Override PartName="/ppt/media/image3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16.gif" ContentType="image/gif"/>
  <Override PartName="/ppt/media/image18.jpeg" ContentType="image/jpeg"/>
  <Override PartName="/ppt/media/image14.jpeg" ContentType="image/jpeg"/>
  <Override PartName="/ppt/media/image19.gif" ContentType="image/gif"/>
  <Override PartName="/ppt/media/image13.png" ContentType="image/png"/>
  <Override PartName="/ppt/media/image20.gif" ContentType="image/gif"/>
  <Override PartName="/ppt/media/image6.gif" ContentType="image/gif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B01-E4A2-48A8-B2E3-C6EC63B1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A9D-20F1-49E5-93FB-1F3D7B5E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B9C-BCD3-4C7B-92BE-D6926164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0AD-5056-4962-980E-9C9DA453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FED-5141-4DB4-8B47-D4D4DE40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8F9-2FA9-4468-9C13-F1948F1F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52D-7B98-48BB-930D-FB3653A7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84C-CD7E-43EA-87FB-86F9D18B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1AD-74EB-46D0-A16B-3DCCF6B2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BC3-CF15-4BF1-877C-9F9ED983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1C3-A7C3-479A-92DB-612AE9A7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3FE-ACA6-46BC-B06E-18C424D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0A1F-AADB-4883-A4CD-C9379B2B3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440" y="411840"/>
            <a:ext cx="735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олшебная страна Куклянд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skazka"/>
          <p:cNvPicPr/>
          <p:nvPr/>
        </p:nvPicPr>
        <p:blipFill>
          <a:blip r:embed="rId1"/>
          <a:stretch/>
        </p:blipFill>
        <p:spPr>
          <a:xfrm>
            <a:off x="2340000" y="1341360"/>
            <a:ext cx="4356000" cy="3227400"/>
          </a:xfrm>
          <a:prstGeom prst="rect">
            <a:avLst/>
          </a:prstGeom>
          <a:ln w="57240">
            <a:solidFill>
              <a:srgbClr val="9900ff"/>
            </a:solidFill>
            <a:miter/>
          </a:ln>
        </p:spPr>
      </p:pic>
      <p:sp>
        <p:nvSpPr>
          <p:cNvPr id="43" name="Rectangle 6"/>
          <p:cNvSpPr/>
          <p:nvPr/>
        </p:nvSpPr>
        <p:spPr>
          <a:xfrm>
            <a:off x="-1990080" y="5372640"/>
            <a:ext cx="679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оплева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знецова Екатер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еницы 10 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photo1025"/>
          <p:cNvPicPr/>
          <p:nvPr/>
        </p:nvPicPr>
        <p:blipFill>
          <a:blip r:embed="rId2"/>
          <a:stretch/>
        </p:blipFill>
        <p:spPr>
          <a:xfrm rot="19423800">
            <a:off x="7453440" y="5084280"/>
            <a:ext cx="1101600" cy="1327320"/>
          </a:xfrm>
          <a:prstGeom prst="rect">
            <a:avLst/>
          </a:prstGeom>
          <a:ln w="0">
            <a:noFill/>
          </a:ln>
        </p:spPr>
      </p:pic>
      <p:pic>
        <p:nvPicPr>
          <p:cNvPr id="45" name="vremena07.mp3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000000"/>
            </a:gs>
            <a:gs pos="100000">
              <a:srgbClr val="cc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уклы Олины Вентцел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eatriche"/>
          <p:cNvPicPr/>
          <p:nvPr/>
        </p:nvPicPr>
        <p:blipFill>
          <a:blip r:embed="rId1"/>
          <a:stretch/>
        </p:blipFill>
        <p:spPr>
          <a:xfrm>
            <a:off x="324000" y="1125360"/>
            <a:ext cx="3240000" cy="476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5" descr="Pushkin2"/>
          <p:cNvPicPr/>
          <p:nvPr/>
        </p:nvPicPr>
        <p:blipFill>
          <a:blip r:embed="rId2"/>
          <a:stretch/>
        </p:blipFill>
        <p:spPr>
          <a:xfrm>
            <a:off x="3708360" y="1773360"/>
            <a:ext cx="2190960" cy="476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6" descr="Venecia"/>
          <p:cNvPicPr/>
          <p:nvPr/>
        </p:nvPicPr>
        <p:blipFill>
          <a:blip r:embed="rId3"/>
          <a:stretch/>
        </p:blipFill>
        <p:spPr>
          <a:xfrm>
            <a:off x="6012000" y="2095560"/>
            <a:ext cx="2885760" cy="476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Bel2"/>
          <p:cNvPicPr/>
          <p:nvPr/>
        </p:nvPicPr>
        <p:blipFill>
          <a:blip r:embed="rId1"/>
          <a:stretch/>
        </p:blipFill>
        <p:spPr>
          <a:xfrm>
            <a:off x="395280" y="1052640"/>
            <a:ext cx="3278160" cy="541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2" name="Picture 5" descr="Flora"/>
          <p:cNvPicPr/>
          <p:nvPr/>
        </p:nvPicPr>
        <p:blipFill>
          <a:blip r:embed="rId2"/>
          <a:stretch/>
        </p:blipFill>
        <p:spPr>
          <a:xfrm>
            <a:off x="5315040" y="189000"/>
            <a:ext cx="3255840" cy="518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3" name="Picture 7" descr="photo1035"/>
          <p:cNvPicPr/>
          <p:nvPr/>
        </p:nvPicPr>
        <p:blipFill>
          <a:blip r:embed="rId3"/>
          <a:stretch/>
        </p:blipFill>
        <p:spPr>
          <a:xfrm rot="2310600">
            <a:off x="3564000" y="3428640"/>
            <a:ext cx="1619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Mudr"/>
          <p:cNvPicPr/>
          <p:nvPr/>
        </p:nvPicPr>
        <p:blipFill>
          <a:blip r:embed="rId2"/>
          <a:stretch/>
        </p:blipFill>
        <p:spPr>
          <a:xfrm>
            <a:off x="5829480" y="2095560"/>
            <a:ext cx="3314520" cy="476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6" descr="Revolution"/>
          <p:cNvPicPr/>
          <p:nvPr/>
        </p:nvPicPr>
        <p:blipFill>
          <a:blip r:embed="rId3"/>
          <a:stretch/>
        </p:blipFill>
        <p:spPr>
          <a:xfrm>
            <a:off x="3635280" y="1052640"/>
            <a:ext cx="2247840" cy="476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Pompadur"/>
          <p:cNvPicPr/>
          <p:nvPr/>
        </p:nvPicPr>
        <p:blipFill>
          <a:blip r:embed="rId4"/>
          <a:stretch/>
        </p:blipFill>
        <p:spPr>
          <a:xfrm>
            <a:off x="0" y="0"/>
            <a:ext cx="3600360" cy="476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Picture 9" descr="photo1017"/>
          <p:cNvPicPr/>
          <p:nvPr/>
        </p:nvPicPr>
        <p:blipFill>
          <a:blip r:embed="rId5"/>
          <a:stretch/>
        </p:blipFill>
        <p:spPr>
          <a:xfrm rot="1960800">
            <a:off x="880560" y="4960800"/>
            <a:ext cx="20574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В 18-19 века действовали в городе крупные игрушечные мастерские. Одним из стимулов развития кукольного производства в России начала 19 века стало использование для изготовления кукольных голов папье-маше.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516"/>
          <p:cNvPicPr/>
          <p:nvPr/>
        </p:nvPicPr>
        <p:blipFill>
          <a:blip r:embed="rId1"/>
          <a:stretch/>
        </p:blipFill>
        <p:spPr>
          <a:xfrm>
            <a:off x="6877080" y="260280"/>
            <a:ext cx="1413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пеасг"/>
          <p:cNvPicPr/>
          <p:nvPr/>
        </p:nvPicPr>
        <p:blipFill>
          <a:blip r:embed="rId1"/>
          <a:stretch/>
        </p:blipFill>
        <p:spPr>
          <a:xfrm>
            <a:off x="6948360" y="189000"/>
            <a:ext cx="1905120" cy="252396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Существует музей кукол Анастасии Чижовой или «Галерея Анастасии Чижовой». Где представлены куклы Олины Вентцель. Эти куклы, как и люди, обладают характером, вложенным в них творцом; одни-нежны и застенчивы, другие-горды и, строптивы и неприступны. Каждая кукла-это привнесение мастером в изображаемую им индивидуальность своего видения и прочтения, создание художественного об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Всего более 100 кукол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льмапл"/>
          <p:cNvPicPr/>
          <p:nvPr/>
        </p:nvPicPr>
        <p:blipFill>
          <a:blip r:embed="rId1"/>
          <a:stretch/>
        </p:blipFill>
        <p:spPr>
          <a:xfrm>
            <a:off x="1116000" y="270000"/>
            <a:ext cx="6840720" cy="6384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стовая кук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конца 19 века популярными стали театральные кук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рос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рекла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мех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ая кукла-галерея Ирины Пахомовой «Русь изначальна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зей уникальных кукол театральной художницы Юлии Вишнев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я сознания куклы Бар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иболее популярные куклы в наше время-это театральные, рекламные, кукла Бар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гоапм"/>
          <p:cNvPicPr/>
          <p:nvPr/>
        </p:nvPicPr>
        <p:blipFill>
          <a:blip r:embed="rId1"/>
          <a:stretch/>
        </p:blipFill>
        <p:spPr>
          <a:xfrm>
            <a:off x="3635280" y="2014560"/>
            <a:ext cx="5040360" cy="4843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 детстве, мы не задумываемся об истории создания куко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 временем, куклы перестали служить только игрушкой, теперь их по праву можно считать произведениям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90480" y="1124640"/>
            <a:ext cx="58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тория возникновения ку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903960" y="429192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овременные кук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833400" y="2707560"/>
            <a:ext cx="56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площение детской меч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320x240"/>
          <p:cNvPicPr/>
          <p:nvPr/>
        </p:nvPicPr>
        <p:blipFill>
          <a:blip r:embed="rId2"/>
          <a:stretch/>
        </p:blipFill>
        <p:spPr>
          <a:xfrm>
            <a:off x="6948360" y="3645000"/>
            <a:ext cx="2032200" cy="3047760"/>
          </a:xfrm>
          <a:prstGeom prst="rect">
            <a:avLst/>
          </a:prstGeom>
          <a:ln w="57240">
            <a:solidFill>
              <a:srgbClr val="9900ff"/>
            </a:solidFill>
            <a:miter/>
          </a:ln>
        </p:spPr>
      </p:pic>
      <p:pic>
        <p:nvPicPr>
          <p:cNvPr id="50" name="Picture 9" descr="baboch3"/>
          <p:cNvPicPr/>
          <p:nvPr/>
        </p:nvPicPr>
        <p:blipFill>
          <a:blip r:embed="rId3"/>
          <a:stretch/>
        </p:blipFill>
        <p:spPr>
          <a:xfrm rot="17414400">
            <a:off x="6972480" y="739800"/>
            <a:ext cx="1784160" cy="125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45888"/>
          <p:cNvPicPr/>
          <p:nvPr/>
        </p:nvPicPr>
        <p:blipFill>
          <a:blip r:embed="rId4"/>
          <a:stretch/>
        </p:blipFill>
        <p:spPr>
          <a:xfrm>
            <a:off x="1619280" y="3357720"/>
            <a:ext cx="21607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331560"/>
            <a:ext cx="4356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вным-давно, когда еще не было ни пластмассы, ни стекла, ни красок, ни искусственных волос, дети играли деревянной куклой. У нее нет ни рук, ни ног, она некрасочная. Позже человек сделал глиняную куклу и раскрасил угольками. Вскоре придумали искусственные краски и стали раскрашивать глиняных кукол красками. Они стали яркими и красивыми. Эти куклы сохранились и до наших дней, но ими не играют. Они служат для укра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ymk2"/>
          <p:cNvPicPr/>
          <p:nvPr/>
        </p:nvPicPr>
        <p:blipFill>
          <a:blip r:embed="rId2"/>
          <a:stretch/>
        </p:blipFill>
        <p:spPr>
          <a:xfrm>
            <a:off x="4500720" y="189000"/>
            <a:ext cx="4468680" cy="66690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54" name="Rectangle 6"/>
          <p:cNvSpPr/>
          <p:nvPr/>
        </p:nvSpPr>
        <p:spPr>
          <a:xfrm>
            <a:off x="252720" y="62362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vremena07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1660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24000" y="436824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России, да и в других странах живут люди, коллекционирующие старые игрушки. Украшением служат дымковские, богородские, филимоновские игр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dimk4"/>
          <p:cNvPicPr/>
          <p:nvPr/>
        </p:nvPicPr>
        <p:blipFill>
          <a:blip r:embed="rId2"/>
          <a:stretch/>
        </p:blipFill>
        <p:spPr>
          <a:xfrm>
            <a:off x="1763640" y="260280"/>
            <a:ext cx="4897440" cy="37134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8" name="Rectangle 7"/>
          <p:cNvSpPr/>
          <p:nvPr/>
        </p:nvSpPr>
        <p:spPr>
          <a:xfrm>
            <a:off x="8029800" y="62362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vremena07.mp3" descr=""/>
          <p:cNvPicPr/>
          <p:nvPr/>
        </p:nvPicPr>
        <p:blipFill>
          <a:blip r:embed="rId3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1660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2700360" y="25812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Потом придумали соломенную куклу. С этой куклой можно было играть, но она непрочная, легко ломается, её нельзя од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ris3iz"/>
          <p:cNvPicPr/>
          <p:nvPr/>
        </p:nvPicPr>
        <p:blipFill>
          <a:blip r:embed="rId1"/>
          <a:stretch/>
        </p:blipFill>
        <p:spPr>
          <a:xfrm>
            <a:off x="179280" y="2060640"/>
            <a:ext cx="2651400" cy="4653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62" name="vremena07.mp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1660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755640" y="4003200"/>
            <a:ext cx="78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рошло много лет, и человек придумал другую куклу – тряпичную. Она была сделана из ткани , то есть сшита из ткани. С ней можно было играть. Но она быстро пачк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08-2"/>
          <p:cNvPicPr/>
          <p:nvPr/>
        </p:nvPicPr>
        <p:blipFill>
          <a:blip r:embed="rId1"/>
          <a:stretch/>
        </p:blipFill>
        <p:spPr>
          <a:xfrm>
            <a:off x="0" y="0"/>
            <a:ext cx="2671920" cy="342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08-4"/>
          <p:cNvPicPr/>
          <p:nvPr/>
        </p:nvPicPr>
        <p:blipFill>
          <a:blip r:embed="rId2"/>
          <a:stretch/>
        </p:blipFill>
        <p:spPr>
          <a:xfrm>
            <a:off x="6330960" y="189000"/>
            <a:ext cx="2813040" cy="294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рмагош"/>
          <p:cNvPicPr/>
          <p:nvPr/>
        </p:nvPicPr>
        <p:blipFill>
          <a:blip r:embed="rId3"/>
          <a:stretch/>
        </p:blipFill>
        <p:spPr>
          <a:xfrm>
            <a:off x="1979640" y="2997360"/>
            <a:ext cx="518328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ccff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457236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много лет спустя человек изобрел пластмассу и научился из неё делать различные предметы, в том числе большие куклы с искусственными волосами. Её можно купать, расчесывать, одевать, разд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maksimka"/>
          <p:cNvPicPr/>
          <p:nvPr/>
        </p:nvPicPr>
        <p:blipFill>
          <a:blip r:embed="rId1"/>
          <a:stretch/>
        </p:blipFill>
        <p:spPr>
          <a:xfrm>
            <a:off x="6012000" y="189000"/>
            <a:ext cx="2971800" cy="4734000"/>
          </a:xfrm>
          <a:prstGeom prst="rect">
            <a:avLst/>
          </a:prstGeom>
          <a:ln w="57240">
            <a:solidFill>
              <a:srgbClr val="ff3399"/>
            </a:solidFill>
            <a:miter/>
          </a:ln>
        </p:spPr>
      </p:pic>
      <p:pic>
        <p:nvPicPr>
          <p:cNvPr id="69" name="Picture 8" descr="babochka_2"/>
          <p:cNvPicPr/>
          <p:nvPr/>
        </p:nvPicPr>
        <p:blipFill>
          <a:blip r:embed="rId2"/>
          <a:stretch/>
        </p:blipFill>
        <p:spPr>
          <a:xfrm rot="4088400">
            <a:off x="353880" y="661680"/>
            <a:ext cx="2144520" cy="1773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baboch"/>
          <p:cNvPicPr/>
          <p:nvPr/>
        </p:nvPicPr>
        <p:blipFill>
          <a:blip r:embed="rId3"/>
          <a:stretch/>
        </p:blipFill>
        <p:spPr>
          <a:xfrm rot="18780000">
            <a:off x="3020040" y="2053080"/>
            <a:ext cx="2232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11280" y="18684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Человек придумал таких кукол, которые сами ходят, танцуют, говорят, поют. У них сгибаются руки, ноги, голова поворачивается и наклоня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doll"/>
          <p:cNvPicPr/>
          <p:nvPr/>
        </p:nvPicPr>
        <p:blipFill>
          <a:blip r:embed="rId1"/>
          <a:stretch/>
        </p:blipFill>
        <p:spPr>
          <a:xfrm>
            <a:off x="395280" y="2349360"/>
            <a:ext cx="3240000" cy="34513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73" name="Picture 6" descr="11_793s"/>
          <p:cNvPicPr/>
          <p:nvPr/>
        </p:nvPicPr>
        <p:blipFill>
          <a:blip r:embed="rId2"/>
          <a:stretch/>
        </p:blipFill>
        <p:spPr>
          <a:xfrm>
            <a:off x="5219640" y="2276640"/>
            <a:ext cx="2768760" cy="35287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b6ebb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baboch9"/>
          <p:cNvPicPr/>
          <p:nvPr/>
        </p:nvPicPr>
        <p:blipFill>
          <a:blip r:embed="rId1"/>
          <a:stretch/>
        </p:blipFill>
        <p:spPr>
          <a:xfrm rot="21150600">
            <a:off x="0" y="188640"/>
            <a:ext cx="15336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ергиев Посад по праву считается столицей русского кукольного производства. Впервые этот город упоминается в связи с изготовлением кукол в 1787 году. Но кукол здесь делали и ранее. Сохранились предания о том, что основатель Троице-Сергиевой лавры преподобный Сергий Радонежский еще в 15 веке собственноручно делал деревянных кукол и одаривал ими детей, прихожан Троицкой обители. Постепенно вокруг лавры вырос посад-поселение мастеров-игрушечнико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 ку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hoto1019"/>
          <p:cNvPicPr/>
          <p:nvPr/>
        </p:nvPicPr>
        <p:blipFill>
          <a:blip r:embed="rId2"/>
          <a:stretch/>
        </p:blipFill>
        <p:spPr>
          <a:xfrm rot="18590400">
            <a:off x="7244280" y="5004360"/>
            <a:ext cx="1782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15:37:03Z</dcterms:created>
  <dc:creator>люба</dc:creator>
  <dc:description/>
  <dc:language>en-US</dc:language>
  <cp:lastModifiedBy>школа</cp:lastModifiedBy>
  <dcterms:modified xsi:type="dcterms:W3CDTF">2013-06-24T06:37:56Z</dcterms:modified>
  <cp:revision>11</cp:revision>
  <dc:subject/>
  <dc:title>Слайд 1</dc:title>
</cp:coreProperties>
</file>