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5B0-2B0C-463C-9123-2C0E6FD6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4D8-4405-4F2E-B058-EE544B16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F6EFF-59AC-4F51-9401-E0BFB32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BF60-D135-428C-AD85-1733C3EA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56CB7-B86E-476D-9C25-F33A7CBF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599B9-BDD4-4BA6-8FB3-D06F641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DA892-7CE6-4679-902A-CE456DB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8B38-B74B-4462-A5F7-119610C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6F59F-F407-4910-A8E0-6B1548A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C649F-2399-444B-9A5B-E71CA494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2E4F8-D832-4C0D-A8C6-73D5462E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F03BE-FCD0-4D06-8058-F9E768C7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381-8E68-4D11-A06C-EB00F818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2B183-3434-44C6-A537-AFE6291E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D6888-B98E-49CC-AC20-6A35B5E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DB669-D003-4A10-AF3F-8538821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0E0D4-1861-4965-A4F4-2452DD9D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AC071-F13E-4A84-962C-EA83D62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10241-7BB2-4963-9541-7E2F94F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025BC-4BE3-4482-BEFA-E510F2E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A0272-CF8A-4524-B811-DD936B7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28A5C-463B-4876-A299-0F024E6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DFC86-51FC-442F-B652-0DC05A4E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998-9AAC-4825-8C19-96F95055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0781A-A021-4CAD-9E71-822F4960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73A3-52B6-409E-A526-CAC79668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27A55-EDAE-4058-8651-0F9F79D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07AB4-42EE-4A26-AFF1-3C9D2AEF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6C117-034F-4AFC-98C0-8B4449CA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7DBD8-D0A3-46B9-8B07-52BF5BF2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81D4-D9C4-4856-92FC-D67D5262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06600-2E00-4CD9-B992-A17B7FF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3F32E-7C17-453F-8C7E-A585D10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E378C-7B1F-4F02-AE90-E26B282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166C-2664-4A50-8FC5-056C67CD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FFD32-32C6-4D5E-BEE2-4D91D74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A8B3-6269-42E5-A09A-A27AD0F4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49639-C718-4FBA-BFEF-C746329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D41-EB67-423C-8F63-CBEEB1A5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C5C7-B0AC-47BB-B5B3-0555838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4BC-7ADC-464F-82C6-4BA53B2E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8744-07BD-47F6-A9FC-BA8A0BA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CD5-7C27-4059-AF1D-BB7E4554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170D-CAC5-44D2-8D3C-8D24DE8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439-12E0-4DB1-95ED-13C9B96E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867F-4356-46B8-8824-8AC7D9D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D7A5-41A3-41CE-A7F7-8C0BEA5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7553-02E3-4ACD-BBD8-281A455E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541-892B-4209-8A6F-98AA2E5E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C7B3-9717-4CDF-9810-C3DC4BE0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4A664-C08F-4614-8551-47112EB9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62B7-603E-4E14-9F45-57D03F5E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5DF8A-9875-45E6-A0A6-95D23863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764A1-41AE-4C9D-81EA-151EBB7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F919E-FBE8-49FB-9C58-E5EDD0C4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01A-F590-4762-AFFF-3322C020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14B2C-EFE0-4526-B00F-58708487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7B69E-9448-401F-B25B-D4A354A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5D6C4-4D1B-4515-8099-DC9F718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1C54F-ACFD-4D18-9AE9-89ABA76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A565A-BFAE-492E-8040-8B25FFE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F9A93-7672-4EB8-A1C7-4A6CC97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36712-7ED3-4D6A-95B0-95730429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ADD3-5310-4090-9776-8ED9EF0E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5DC8-5B6C-40DC-A82D-1593753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8BA4-093B-4FBF-9D4A-0D739CED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8B4-7C90-407B-991A-0C88CE5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86D6-17A2-48BC-81D0-61A8FEE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914C-5B69-408F-B338-1E211C08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6A55-5E8D-48C4-B712-7171F9B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9282-06FD-4EBF-8413-940503D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C881-8E53-4E16-BDC1-A796178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3A37-F4B0-4A81-ACCE-C81E7D0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506D-89F9-4E2A-A0F3-74F45BC7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040D-1314-469D-9C8A-65D96467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1B67-50FB-4D60-B934-A892C5ED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C64C8-AE28-4B8E-AD1C-22E34894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857-BBF1-4D4E-BBCA-F338E513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DFF9D-E63E-4C57-9E1D-BB707C0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0B202-B274-480E-8F93-8D84226F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4EA24-8C89-447D-B2E2-436C53A6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C493A-A908-44A6-BD48-55D60E5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888C5-B10D-4D75-B3BC-50C636D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78E54-6377-47D7-9A30-A2631D2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86811-2037-4AED-917F-C1CA3E4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2780C-215B-4D10-9379-50170AF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A1428-0D83-46AE-8830-665EAD41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BCC38-B7A2-407F-A05B-198A8F16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12A-5042-4973-A740-D66C008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27B0C-8872-4394-96F2-5442A82B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96408-97EE-41AD-8BBA-629AA4B9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4E880-B087-490A-90E9-6152410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5A91A-22AA-4C2C-937E-34596C4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272B2-35E3-4B9D-BBE6-EDBBDE5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4835D-815E-4658-99E6-48CF14EB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72859-7416-47A6-ADFB-81779A46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115FF-1D0C-48F9-8CDE-40F28F3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E2B35-37C9-4600-8814-3A81B5D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27264-3B03-4C4A-ADEB-2DCB953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ECF-2291-42D8-9985-ACCA05B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9A5C0-9A28-486A-AE16-9B5128D9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F855B-28A6-4E76-A0E9-D7D9E5AA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EFCD7-D04B-440D-9312-1BAF823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95D6E-AC9C-4680-BF9A-2D7C6E2C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6BD12-323D-49BC-838C-6AEDC886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B187E-DF01-41BA-9C26-50A43357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E02E9-A6DF-4645-91C0-FAB13D4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77DDF-B69A-488A-9A0F-C7B77D2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8D3B5-136D-42B3-8173-17ECA3A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7EDF1-A479-4472-9181-6C20E7CC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669-BD3E-4F08-A774-13CDD47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39E67-3099-4B37-95E1-4534BB6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7D64D-85AB-418C-92BF-08BD810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AD4BD-D6E1-4554-BD79-0A0F210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F3020-4972-413C-9387-9479C29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20F23-4C6B-41B3-8B16-4778207A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F5AF-C884-41B4-9CA9-E0D8780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798A-EF3A-455C-A6BB-E438482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CCB7-00E0-4755-A4A4-117EC57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7A24-EB83-4957-8348-302BAF06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EBDD3-AE88-470A-87BD-258D23A0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2E1-92FA-42D5-8C62-D23B52C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F479A-DE81-42E6-A4E5-6F320E5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658F-9280-44B4-B9BF-067641B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329D1-9A12-4A68-940E-93D6117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107B5-DFDC-4F92-97FA-384C0B2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E7EC3-9D9E-4B22-A0E9-6B0D76E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DE0E-EAAA-468F-AD62-3C3CCC2E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8413-1530-4B13-BE04-470248F4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FC91F-E5A4-4C3D-9D71-5DB57459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3663-A97F-4BAE-AFD5-F3A9F29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3FE3-A2E1-4064-A9FF-ABA1DD1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AA1-969F-405E-99B4-36FDCAD4CF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AE2-9098-4D16-9645-6F2DF3C138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6502-43E6-4235-9705-C384792B70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32E-82DD-4B09-8EBB-0928ED8642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EC6B-CBD3-4B04-8886-46AD07E76C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0E03-CD01-47AC-9582-7EA6839ADA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343-A70C-4398-9792-C53FDCF298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B9E8-0D6F-4243-A43A-5D9E73C236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3D9-D3B7-4797-96BB-2B6C1F56A9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A0E-712F-4B7D-B04A-CD1CFC4380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680E-FA66-46D6-9AB5-C6D69D2B33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«ЛЕСНЫЕ ОПАСНОСТ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2клас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 М.Л.Марфел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НЕСЪЕДОБНЫЕ ГРИБЫ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960720" cy="2664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3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ледная пога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ый ядовитый гриб. Спасти человека, отравившегося ею, почти невозможно.  Шляпка гриба зелёная или зеленоватая до белой. Пластинки белые. Ножка с пленчатым кольцом  и мешочк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а похожа на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шампиньо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У него пластинки розовые, с возрастом -фиолетовы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УХОМОР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чень красив. В старости шляпка гриба загибается по краям и становится похожей на блюдце. В ней скаплива-ется дождевая вода, которая смешивается с ядовитым соком мухомора.  Если муха или другое насекомое прикоснётся  к этой «воде»,она погибает. Наверное, поэтому и назвали гриб так (мухо- мор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 это съедобный вид мухоморов – поплаво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4648320" y="620640"/>
            <a:ext cx="4038480" cy="2737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884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ЯДОВИТЫЕ РАСТ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урман растёт на пустырях, свалках, в замусоренных оврагах, придорожных канавах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содержит едкое, неприятное вещество. Колючки этого растения действуют механически, нанося р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1" name="Picture 11" descr=""/>
          <p:cNvPicPr/>
          <p:nvPr/>
        </p:nvPicPr>
        <p:blipFill>
          <a:blip r:embed="rId1"/>
          <a:stretch/>
        </p:blipFill>
        <p:spPr>
          <a:xfrm>
            <a:off x="5781600" y="2876400"/>
            <a:ext cx="1771560" cy="19735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7"/>
          <p:cNvSpPr/>
          <p:nvPr/>
        </p:nvSpPr>
        <p:spPr>
          <a:xfrm>
            <a:off x="468360" y="393372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ЛЧЬЕ ЛЫК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ивое, но очень опасное растен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 растения, попадая на кожу, вызывает сильное раздражение. Особенно опасно попадание сока в глаза.  Может быть поэтому люди, считая волка олицетворением всего страшного и опасного, злого, назвали растение волчьи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дней осенью появляются ярко- красные ягоды на месте розовато – фиолетовых цве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4784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НДЫШ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887640" cy="43210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андыш за всю свою долгую жизнь цветёт всего 2-3 раз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ё растение ядовито, но препараты из его листьев, цветков, семян – лекарственные средства, которые укрепляют и улучшают работу сердц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ВИЛ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бирай грибы, которых не знаеш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бирай те грибы, в съедобности которых ты сомневаеш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ходясь в лесу, не срывай и не бери в рот незнакомые растения: травы, яг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ЧЕЛА                   ШМЕ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960720" cy="4465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2"/>
          <a:stretch/>
        </p:blipFill>
        <p:spPr>
          <a:xfrm>
            <a:off x="5213520" y="2900520"/>
            <a:ext cx="1771560" cy="197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ВИЛ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приближайся, особенно в жаркие дни, к пчелиным ульям. Вблизи них не делай резких движ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разоряй осиные гнёз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жалящее насекомое залетело в комнату, не гоняйся за ним, открой пошире окно и подожди, пока насекомое улет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ы частенько забираются в мёд, варенье, ползают по фруктам. Будьте осторожны, когда едите или пьёте, чтобы оса не ужалила вас в язык или губ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50:10Z</dcterms:created>
  <dc:creator>Admin</dc:creator>
  <dc:description/>
  <dc:language>en-US</dc:language>
  <cp:lastModifiedBy>ADMIN</cp:lastModifiedBy>
  <dcterms:modified xsi:type="dcterms:W3CDTF">2013-10-10T17:41:14Z</dcterms:modified>
  <cp:revision>3</cp:revision>
  <dc:subject/>
  <dc:title>Несъедобные грибы</dc:title>
</cp:coreProperties>
</file>