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E01-EA05-43BA-AC93-ADD0C932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2F3-59BC-4613-B7CA-EC3C924A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C74-2FC6-4273-AC32-89E927E8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FFD-15D4-4477-B3D9-0E1C313C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654E-B405-4AA3-B806-FAA0ACF2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3FF7-621F-44B2-8EAB-4AE6D7C8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1762-C29B-4E0A-88C0-84C9ABF4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FC7D-82CC-48F3-8AE8-5E887C4D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9BD5-64CE-4F1A-BD41-2E77659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6BE4-49EB-4C27-8C5F-04E0420A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835D-BEBF-40E3-8FFD-5F6B46C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33F-143F-45F1-96F0-78E27690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5CE-566F-4597-878E-B8B69C2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C184-B7A8-4FE2-9F0C-44874E2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587B-4506-4E74-B087-E2C40F38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6769-AA38-44AC-BF04-67621F0A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04BC-7B37-4313-B6ED-779231D3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518-6030-4EB8-BFB7-C744F3C0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5F0-E66E-4FAF-B6AC-F387EDF1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421-949D-4643-A51F-8BB15952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24B-A653-4EDD-9BC9-DDEBC60B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D14-8D9F-4D3F-BC23-20B9B9BF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49E-F27B-4311-9996-EB3D572B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C52-4F11-42DD-B457-21B1ED0B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DB61-CBF4-4D65-8540-53F37ABCB6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3B20-92A8-4E03-86E1-EC60BB968C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Люблю природу русскую…»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(Обобщающий урок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клас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М.Л.Марф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eec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и урока: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вторить и обобщить изученный материал.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должать работу над темпом чтения и пониманием.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вивать реч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гадай загадк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кто такой садовник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ил вишню и крыжовни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ил сливы и цветы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мыл травы и лис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как сумерки наст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м по радио сказ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и завтра он придё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польёт наш огор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Бежал по тропке луговой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ивали маки головой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Бежал по речке голубой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речка сделалась рябой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925360"/>
            <a:ext cx="822960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тром бусы засверк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ю траву собой затка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пошли искать их днё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щем, ищем не найдё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гадай-ка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ружилась листва золот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розоватой воде на пруд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но бабочек лёгкая ст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замираньем летит на звезд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в осени первоначаль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откая, но дивная пора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сь день стоит как бы хрустальный, и лучезарны вечер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гадай-ка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певает брусника, стали дни холодне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от птичьего кр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ердце стало грустне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и птиц улетаю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ь за синее мо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деревья блистаю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азноцветном убо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ень наступила, высохли цвет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глядят уныло голые кус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янет и желтеет травка на луг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лько зеленеет озимь на пол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сстанови текс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вела меня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лес густо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кошко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рзинку взя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али дни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спевает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 от птичьего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сердце стало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5:51:34Z</dcterms:created>
  <dc:creator>Admin</dc:creator>
  <dc:description/>
  <dc:language>en-US</dc:language>
  <cp:lastModifiedBy>ADMIN</cp:lastModifiedBy>
  <dcterms:modified xsi:type="dcterms:W3CDTF">2013-10-10T17:47:38Z</dcterms:modified>
  <cp:revision>3</cp:revision>
  <dc:subject/>
  <dc:title>Отгадай загадки.</dc:title>
</cp:coreProperties>
</file>