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9692-CE22-4DD4-95B3-B0E2A09B9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AAB0-19E6-4886-A447-AF4462686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A237-25CA-4E29-B4CD-9DFD92D59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8785-6686-45F3-BA51-6B8A2B01E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E2C4-F3C9-4D5D-9A78-E16B87023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8E5A-A4AD-4DD6-9156-7B1A8EEC5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94A8-D68A-466C-A14F-0D85EA789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8E16-B226-4B0B-B789-1425E463B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E4DF-FCB6-4DC4-B169-06A874E8B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BA88-F122-4615-8DF1-252B4B0B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BB9A-7DEF-4919-82F6-8E46316D2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E17E-39AB-4C26-BD97-A59679CD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620FB-8B07-4238-83DC-FC77D0F46F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295200" y="-228600"/>
            <a:ext cx="973440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ФОРМИРОВАНИЕ НАВЫКОВ МОРФЕМНОГО ЧЛЕНЕНИЯ СЛОВА КАК ОСНОВЫ ОРФОГРАФИЧЕСКОЙ ГРАМОТНОСТИ УЧАЩИХС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ЗЕНТАЦИЯ ОПЫТА РАБОТЫ УЧИТЕЛЯ МОУ ООШ Д.ЗИМНИК КАЛАБИНОЙ ТАТЬЯНЫ АЛЕКСАНДРОВ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-295200" y="-228600"/>
            <a:ext cx="9734400" cy="73152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«Составь слово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96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зьмите одну приставку от слова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раскопат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вторую – от слова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попрыгунь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первый суффикс от слова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купи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второй – от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слова жит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третий – от слова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умы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-295200" y="-228600"/>
            <a:ext cx="9734400" cy="73152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сторическое членение сл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96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сника заинтересовало слово «родник», и он рассказал мне о нём: «Я это слово давно приметил. Надо думать, получилось оно оттого, что тут вода зарождается. Родник родит реку, а река льётся – течёт через всю родину, кормит народ. Вы глядите, как это складно выходит, - родник, родина, народ. И все эти слова как бы родня между собой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Много ли родственников у кольчуги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Коло – «колесо, круг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лова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обеда, платье, плотник, погреб, тунеядец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-295200" y="-228600"/>
            <a:ext cx="9734400" cy="73152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монимия корней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 какого дерева упали листь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да, водитель, водник, переводить, проводник, приводниться, водянистый, водоросль, безводный, вводить, водительск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295200" y="-228600"/>
            <a:ext cx="9734400" cy="7315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СНОВНАЯ ИДЕ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МЕНИЕ ВИДЕТЬ МОРФЕМЫ В СЛОВЕ – ВАЖНЕЙШИЙ ЗАЛОГ ФОРМИРОВАНИЯ ОРФОГРАФИЧЕСКОЙ ЗОРКОСТИ УЧАЩИХ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295200" y="-228600"/>
            <a:ext cx="9734400" cy="73152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ЭТАПЫ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ВОНАЧАЛЬНОЕ ОЗНАКОМЛЕНИЕ С МОРФЕМНЫМ СОСТАВОМ СЛОВА (НАЧАЛЬНАЯ ШКОЛ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СШИРЕНИЕ ЗНАНИЙ О МОРФЕМАХ, ОСОБЕННО ОБ ИХ ЛЕКСИЧЕСКОЙ ЗНАЧИМОСТИ И СЛОВООБРАЗОВАТЕЛЬНОЙ РОЛИ, ИЗУЧЕНИЕ НА ЭТОЙ ОСНОВЕ ОРФОГРАФИЧЕСКОГО МАТЕРИ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ТОРИЧЕСКОЕ ЧЛЕНЕНИЕ КАК СПОСОБ ФОРМИРОВАНИЯ ОРФОГРАФИЧЕСКОЙ ЗОРК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ВЕРШЕНСТВОВАНИЕ ОРФОГРАФИЧЕСКОЙ ГРАМОТНОСТИ НА БОЛЕЕ ШИРОКОМ ЛЕКСИЧЕСКОМ МАТЕРИА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295200" y="-228600"/>
            <a:ext cx="9734400" cy="7315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ИЁМЫ ВВОДА ПОНЯТИЯ «КОРЕНЬ СЛОВ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263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ОБЩЕНИЕ УЧИТЕ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БОТА С УЧЕБНИ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НИМАТЕЛЬНЫЙ РАССК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ИХ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БОТА НАД МНОГОЗНАЧНОСТЬЮ СЛОВА «КОРЕН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295200" y="-228600"/>
            <a:ext cx="9734400" cy="73152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ОРЕ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Подземная часть растения, служащая для укрепления его в почве и всасывания из неё воды и питательных веществ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устить корн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нутренняя,находящаяся в теле часть волоса, зуба, ногтя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окраснеть до корней волос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ерен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чало,источник, основа чего-нибудь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корень зл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Вматематике:число,которе при возведении его в определённую степень даёт данное число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извлечь квадратный корен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В языкознании: основная значимая часть слова, вычленяемая в нём после отделения окончания, приставок и суффик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-295200" y="-228600"/>
            <a:ext cx="9734400" cy="73152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ИЁМЫ ОТРАБОТКИ НАВЫКОВ ВЫДЕЛЕНИЯ КОРНЯ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КСТ С ЛИНГВИСТИЧЕСКИМ ЗАДАНИЕМ: НАЙТИ ОДНОКОРЕННЫЕ СЛ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КТО БОЛЬШЕ?» (введение понятия «гнездо» однокоренных сл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СЕКРЕТЫ НАЗВАН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СОСТАВЬ СЛОВ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МОНИМИЯ КОРН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ЕСЕДА «Много ли родственников у кольчуги» (историческое членение слов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9439200" cy="70930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екст с лингвистическим зада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2565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заросших садах  живёт малиновка. Ещё её называют зарянкой. Это потому, что у неё грудка оранжевого цвета, как вечерняя зар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-195120" y="-160200"/>
            <a:ext cx="9339120" cy="70182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«Кто больше?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обрать однокоренные слова к слову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«земл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Земелька,землица,земличка,землишка.землячок,землячка,земляк,землячество,земляческий,землянин,земельный,землистый,землистость,землянка,земляночка,земляной,земляника,земляничка,земляничный,землянистый,землянистость,земной,безземельный,внеземной,наземь,наземный,оземь,околоземной,позёмка,подземный,приземистый,заземлить,заземлиться,заземление,приземлимть,призеземледелец,земледельческий,земледелие,землемер,землеописание,землепашец,,землепользование,землетрясение,землепашец,землечерпалка,иноземец,иноземка,чернозём,чернозёмный,чужеземец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-324000" y="0"/>
            <a:ext cx="9734760" cy="73152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«Секрет назван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ъясните, почему так названы перина, земляника, медведь, синица, шиповник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ини-сочинение-рассуждение по пла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Почему этот предмет так называет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Какая часть слова помогает объяснить название предме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Почему мы можем использовать корень для объяснения назва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8T07:36:01Z</dcterms:created>
  <dc:creator>школа</dc:creator>
  <dc:description/>
  <dc:language>en-US</dc:language>
  <cp:lastModifiedBy>школа</cp:lastModifiedBy>
  <dcterms:modified xsi:type="dcterms:W3CDTF">2010-02-08T16:42:15Z</dcterms:modified>
  <cp:revision>10</cp:revision>
  <dc:subject/>
  <dc:title>ФОРМИРОВАНИЕ НАВЫКОВ МОРФЕМНОГО ЧЛЕНЕНИЯ КАК ОСНОВЫ ОРФОГРАФИЧЕСКОЙ ГРАМОТНОСТИ УЧАЩИХСЯ </dc:title>
</cp:coreProperties>
</file>