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E38E-4D62-4E72-BC9D-1865612A5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1FA0-AD70-4414-A48B-35498FDC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DB86-5A78-4E8D-95CD-1468965FF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E63B-EB4C-48EE-AA34-E551EF6A0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B920-0616-4FB3-973F-FF07ADEE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E286-472F-488F-8B52-3897B1F5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A916-ACC5-4235-AFDB-ADAB2DF0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FBBE-63FA-46F5-AE3D-F61D87C4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E4C2-A5B8-4A51-B532-3B31D68F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671E-1263-4B36-BCEC-CBAFB847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8136-6587-4463-B3FB-E5BB0D83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71C6-CD6B-447D-B16B-6557967B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A1A8-447E-41DF-A529-78EDE6C0D0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28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Мороз и солнце – день чудесный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148360" y="4365720"/>
            <a:ext cx="327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гомолов Ренат, Бекетова Женя, Медведев Толя, Шмелева Лена – ученики 4 «в» кла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: Авагумашвили Г. 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i?id=28215807&amp;tov=5"/>
          <p:cNvPicPr/>
          <p:nvPr/>
        </p:nvPicPr>
        <p:blipFill>
          <a:blip r:embed="rId1"/>
          <a:stretch/>
        </p:blipFill>
        <p:spPr>
          <a:xfrm>
            <a:off x="971640" y="3500280"/>
            <a:ext cx="3529080" cy="2295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исок литерату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урнал «Спортивная жизнь» Москва № 2 2004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урнал «Физическая культура в школе» Просвещение № 4 2003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ях В. И. учебник «Мой друг – физкультура» Москва 2006 го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77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770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0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333399"/>
                </a:solidFill>
                <a:latin typeface="Arial"/>
              </a:rPr>
              <a:t>Мы думаем что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имние игры приносят пользу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i?id=2696230&amp;tov=5"/>
          <p:cNvPicPr/>
          <p:nvPr/>
        </p:nvPicPr>
        <p:blipFill>
          <a:blip r:embed="rId2"/>
          <a:stretch/>
        </p:blipFill>
        <p:spPr>
          <a:xfrm>
            <a:off x="1979640" y="3068640"/>
            <a:ext cx="2808360" cy="2090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i?id=31677728&amp;tov=3"/>
          <p:cNvPicPr/>
          <p:nvPr/>
        </p:nvPicPr>
        <p:blipFill>
          <a:blip r:embed="rId3"/>
          <a:stretch/>
        </p:blipFill>
        <p:spPr>
          <a:xfrm>
            <a:off x="3995640" y="4437000"/>
            <a:ext cx="3259080" cy="1878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Наш план действ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1.Встретиться с врачом педиатр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2.Провести анкету среди одноклассни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3.Поговорить с работником библиоте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4.Посетить урок физкультуры зим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5.Узнать мнение родител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От врача педиатра мы узнали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гры зимой приносят пользу т.к.воздух свежий, хорошо работают легкие, улучшается кровообращение, происходит закаливание организма, повышается работоспособ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j0182794"/>
          <p:cNvPicPr/>
          <p:nvPr/>
        </p:nvPicPr>
        <p:blipFill>
          <a:blip r:embed="rId1"/>
          <a:stretch/>
        </p:blipFill>
        <p:spPr>
          <a:xfrm>
            <a:off x="1979640" y="3716280"/>
            <a:ext cx="1754280" cy="2664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AUL318K"/>
          <p:cNvPicPr/>
          <p:nvPr/>
        </p:nvPicPr>
        <p:blipFill>
          <a:blip r:embed="rId2"/>
          <a:stretch/>
        </p:blipFill>
        <p:spPr>
          <a:xfrm>
            <a:off x="4859280" y="4292640"/>
            <a:ext cx="2521080" cy="1879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Мы задали этот вопрос одноклассникам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4"/>
          <p:cNvGraphicFramePr/>
          <p:nvPr/>
        </p:nvGraphicFramePr>
        <p:xfrm>
          <a:off x="539640" y="1844640"/>
          <a:ext cx="8136000" cy="47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844640"/>
                    <a:ext cx="8136000" cy="47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Мы посетили библиоте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алентина Ивановна предложила нам прочитать журналы: «Спортивная жизнь», «Советский спорт»,статьи из газет. Из них мы узнали, что занятия на улице зимой укрепляют здоровье. Привлекают детей к занятиям зимним спортом. Готовят нас к участию в соревнованиях. К большому спор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i?id=20417413&amp;tov=2"/>
          <p:cNvPicPr/>
          <p:nvPr/>
        </p:nvPicPr>
        <p:blipFill>
          <a:blip r:embed="rId2"/>
          <a:stretch/>
        </p:blipFill>
        <p:spPr>
          <a:xfrm>
            <a:off x="1476360" y="4797360"/>
            <a:ext cx="2158920" cy="1616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CA7PXNT3"/>
          <p:cNvPicPr/>
          <p:nvPr/>
        </p:nvPicPr>
        <p:blipFill>
          <a:blip r:embed="rId3"/>
          <a:stretch/>
        </p:blipFill>
        <p:spPr>
          <a:xfrm>
            <a:off x="4788000" y="4797360"/>
            <a:ext cx="2952720" cy="1487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Посетили урок физкультуры зим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4859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учили заряд бодрости и энерг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сказал, что занятия зимой имеют оздоровительное, прикладное значение. Игры развивают силу, ловкость, способствуют воспитанию смелости Зимой воздух чище, чем ле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CA36UL7Z"/>
          <p:cNvPicPr/>
          <p:nvPr/>
        </p:nvPicPr>
        <p:blipFill>
          <a:blip r:embed="rId1"/>
          <a:stretch/>
        </p:blipFill>
        <p:spPr>
          <a:xfrm>
            <a:off x="5867280" y="1773360"/>
            <a:ext cx="2448000" cy="1962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A2NSLKL"/>
          <p:cNvPicPr/>
          <p:nvPr/>
        </p:nvPicPr>
        <p:blipFill>
          <a:blip r:embed="rId2"/>
          <a:stretch/>
        </p:blipFill>
        <p:spPr>
          <a:xfrm>
            <a:off x="5364000" y="4437000"/>
            <a:ext cx="3168720" cy="1555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Узнали мнение родителе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708360" y="1196640"/>
            <a:ext cx="5184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ие сказали, что играть зимой вредно, т. к. воздух холодный. Дети много часов без перерыва находятся на морозе, распахивают пальто, некоторые едят снег. Снег залетает в сапоги ноги мерзн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CAVRLTH5"/>
          <p:cNvPicPr/>
          <p:nvPr/>
        </p:nvPicPr>
        <p:blipFill>
          <a:blip r:embed="rId1"/>
          <a:stretch/>
        </p:blipFill>
        <p:spPr>
          <a:xfrm>
            <a:off x="755640" y="1700280"/>
            <a:ext cx="2664000" cy="1778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CABA7Q5K"/>
          <p:cNvPicPr/>
          <p:nvPr/>
        </p:nvPicPr>
        <p:blipFill>
          <a:blip r:embed="rId2"/>
          <a:stretch/>
        </p:blipFill>
        <p:spPr>
          <a:xfrm>
            <a:off x="1187280" y="3789360"/>
            <a:ext cx="1776600" cy="237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77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770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0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2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9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1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3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66"/>
                </a:solidFill>
                <a:latin typeface="Arial"/>
              </a:rPr>
              <a:t>Вывод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оздух зимой гораздо чище, чем летом, в нем почти совсем нет пы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ети становятся более здоровыми, крепк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оисходит закаливание орган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оспитывает стремление к зимним видам спорта: лыжи, биатлон, хоккей, коньки, санный спорт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11:31:42Z</dcterms:created>
  <dc:creator>Т-4</dc:creator>
  <dc:description/>
  <dc:language>en-US</dc:language>
  <cp:lastModifiedBy>User</cp:lastModifiedBy>
  <dcterms:modified xsi:type="dcterms:W3CDTF">2013-10-16T06:44:23Z</dcterms:modified>
  <cp:revision>5</cp:revision>
  <dc:subject/>
  <dc:title>Мороз и солнце - д</dc:title>
</cp:coreProperties>
</file>