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8F7-B56F-41BC-BD3A-6B16E98F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503-254E-40BE-984E-C9AF872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F03-3840-429E-B9D5-1F8ACAEF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C98-33F7-4474-9DA5-6BE2C6C2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103E-37F9-42E0-B4AC-1A989FC6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129-C051-4B0B-AA6C-A3F72C13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10A-A526-4C0F-803B-C00A5B7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F69A-3E77-4280-B544-77C731B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C46-AC85-40E4-94BA-F8D89585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D37F-7D51-46D3-B8FE-3DF6370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74AE-CF5A-4A8D-9E19-4A441F1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DD-272B-487B-B31A-D55D4AB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AA0-77A6-4773-AAE4-434F8B54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FBA-AC8F-4D0C-8043-2ACEA88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837-E119-4709-8DF9-F62F009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5405-A530-451B-9477-B6C53474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F3A7-6083-4941-ABD0-8E37B7BB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861-46AA-4624-8A1C-E5B7496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588-E9E1-4528-816C-CB1E4659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4E5-76B4-45C2-B2BC-9AB653C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E28-1445-4225-814A-D1BAA71B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59C-A252-4016-861B-30197546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A39-8BA5-40AD-98C1-F931498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1DD-CF10-4888-9FEA-1934045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03FA-0641-4385-A6C2-ED54B84A2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7909-8C7F-4683-88C8-D793092D7A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осковский Кремл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окружающего мира во 2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М.Л.Марф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сковский Крем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432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дственное слово к слову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 кремен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»- т.е. крепк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 древнерусског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«кремь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крепкий строевой лес. Кремлевое  дерево, выросшее на просторе, на краю леса- особенно крепко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08040" y="366840"/>
            <a:ext cx="8053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ены и башни Крем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пасская башня            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00400" cy="478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eec94"/>
                </a:solidFill>
                <a:latin typeface="Times New Roman"/>
              </a:rPr>
              <a:t>Успенский собор    Благовещенский       </a:t>
            </a:r>
            <a:br>
              <a:rPr sz="3800"/>
            </a:br>
            <a:r>
              <a:rPr b="1" lang="ru-RU" sz="3800" spc="-1" strike="noStrike">
                <a:solidFill>
                  <a:srgbClr val="feec94"/>
                </a:solidFill>
                <a:latin typeface="Times New Roman"/>
              </a:rPr>
              <a:t>                                             собор</a:t>
            </a:r>
            <a:endParaRPr b="1" lang="en-US" sz="3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98800" cy="485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71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7840" y="277920"/>
            <a:ext cx="8148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рхангельский собор           Колокольня «Ивана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Великого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960720" cy="518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403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3889440" cy="463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3827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Verdan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eec94"/>
                </a:solidFill>
                <a:latin typeface="Verdana"/>
              </a:rPr>
              <a:t>за   внимание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48:28Z</dcterms:created>
  <dc:creator>Admin</dc:creator>
  <dc:description/>
  <dc:language>en-US</dc:language>
  <cp:lastModifiedBy>ADMIN</cp:lastModifiedBy>
  <dcterms:modified xsi:type="dcterms:W3CDTF">2013-10-10T17:50:00Z</dcterms:modified>
  <cp:revision>3</cp:revision>
  <dc:subject/>
  <dc:title>Московский Кремль</dc:title>
</cp:coreProperties>
</file>