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204-99B3-4BA9-9C59-B7AD2D53A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423-5F99-4F0D-81E4-CD073F0A7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AFF-2E0A-4A62-8A7C-5C4436841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AB82-831C-44EC-8526-377333092E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81B-6CEF-4AF1-96D0-CD5AC8B94E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AFC-6053-4BDA-B200-317927B11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B724-B444-41C7-9A1B-D119A06A9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AC4E-F94E-4684-B211-55D0E04CC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78B-D400-4A82-A5BD-DDFAD8A2D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6251-9D8F-452B-98F3-D7AA03945E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915-CE73-4F88-922D-8AEDCBB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FBD-5713-4701-9712-E36D56F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94C-7423-4A12-AC1C-EF8AA1D1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BF8-77BA-47E0-BECD-D527C96F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246-321E-435F-9F08-B5EB1CE2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521-90D1-4074-BCC0-DE4F8D8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19F-AB1D-4725-A818-8A8B7C15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36D-6107-41B2-962A-9F2E214B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D42-6331-4D1D-A7E7-1E72DC5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487-B0CB-4B8D-9F16-C0FB263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272-C577-4CC7-83DC-2DC3B5B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D6A-C0BD-4491-BCAC-F173C97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D80-E7E7-466F-8462-14AADCF73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риродоведение 5 клас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23\Desktop\анимашки-профессия\рашкова\анимашки\j0356710[1].gif"/>
          <p:cNvPicPr/>
          <p:nvPr/>
        </p:nvPicPr>
        <p:blipFill>
          <a:blip r:embed="rId1"/>
          <a:stretch/>
        </p:blipFill>
        <p:spPr>
          <a:xfrm>
            <a:off x="357120" y="214308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28616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федо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СОШ»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ягань ХМ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м урока. Науки о природ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23\Desktop\презентации учеников\анимашки-профессия\природа\nature94[1].jpg"/>
          <p:cNvPicPr/>
          <p:nvPr/>
        </p:nvPicPr>
        <p:blipFill>
          <a:blip r:embed="rId1"/>
          <a:stretch/>
        </p:blipFill>
        <p:spPr>
          <a:xfrm>
            <a:off x="1643040" y="4214880"/>
            <a:ext cx="2524320" cy="252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23\Desktop\презентации учеников\анимашки-профессия\природа\nature7[1].gif"/>
          <p:cNvPicPr/>
          <p:nvPr/>
        </p:nvPicPr>
        <p:blipFill>
          <a:blip r:embed="rId2"/>
          <a:stretch/>
        </p:blipFill>
        <p:spPr>
          <a:xfrm>
            <a:off x="6572160" y="3143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23\Desktop\презентации учеников\анимашки-профессия\природа\nature6[1].gif"/>
          <p:cNvPicPr/>
          <p:nvPr/>
        </p:nvPicPr>
        <p:blipFill>
          <a:blip r:embed="rId3"/>
          <a:stretch/>
        </p:blipFill>
        <p:spPr>
          <a:xfrm>
            <a:off x="4071960" y="18572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23\Desktop\презентации учеников\анимашки-профессия\природа\nature13[1].gif"/>
          <p:cNvPicPr/>
          <p:nvPr/>
        </p:nvPicPr>
        <p:blipFill>
          <a:blip r:embed="rId4"/>
          <a:stretch/>
        </p:blipFill>
        <p:spPr>
          <a:xfrm>
            <a:off x="928800" y="18572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860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уро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ться с естественным науками и объектами их из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124"/>
          <p:cNvPicPr/>
          <p:nvPr/>
        </p:nvPicPr>
        <p:blipFill>
          <a:blip r:embed="rId1"/>
          <a:stretch/>
        </p:blipFill>
        <p:spPr>
          <a:xfrm>
            <a:off x="214200" y="0"/>
            <a:ext cx="2957760" cy="297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облака"/>
          <p:cNvPicPr/>
          <p:nvPr/>
        </p:nvPicPr>
        <p:blipFill>
          <a:blip r:embed="rId2"/>
          <a:stretch/>
        </p:blipFill>
        <p:spPr>
          <a:xfrm>
            <a:off x="5214960" y="3786120"/>
            <a:ext cx="3137040" cy="23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4"/>
          <p:cNvPicPr/>
          <p:nvPr/>
        </p:nvPicPr>
        <p:blipFill>
          <a:blip r:embed="rId3"/>
          <a:stretch/>
        </p:blipFill>
        <p:spPr>
          <a:xfrm>
            <a:off x="857160" y="3755880"/>
            <a:ext cx="3000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естественные науки,                  которые вам извест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arth"/>
          <p:cNvPicPr/>
          <p:nvPr/>
        </p:nvPicPr>
        <p:blipFill>
          <a:blip r:embed="rId1"/>
          <a:stretch/>
        </p:blipFill>
        <p:spPr>
          <a:xfrm>
            <a:off x="357120" y="17146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облака"/>
          <p:cNvPicPr/>
          <p:nvPr/>
        </p:nvPicPr>
        <p:blipFill>
          <a:blip r:embed="rId2"/>
          <a:stretch/>
        </p:blipFill>
        <p:spPr>
          <a:xfrm>
            <a:off x="5572080" y="1411200"/>
            <a:ext cx="2779920" cy="208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23\Desktop\презентации учеников\анимашки-профессия\рашкова\анимашки\j0283696[1].gif"/>
          <p:cNvPicPr/>
          <p:nvPr/>
        </p:nvPicPr>
        <p:blipFill>
          <a:blip r:embed="rId3"/>
          <a:stretch/>
        </p:blipFill>
        <p:spPr>
          <a:xfrm>
            <a:off x="2643120" y="1500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5dr"/>
          <p:cNvPicPr/>
          <p:nvPr/>
        </p:nvPicPr>
        <p:blipFill>
          <a:blip r:embed="rId4"/>
          <a:stretch/>
        </p:blipFill>
        <p:spPr>
          <a:xfrm>
            <a:off x="103320" y="3929040"/>
            <a:ext cx="1668240" cy="173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terrestrial_planets"/>
          <p:cNvPicPr/>
          <p:nvPr/>
        </p:nvPicPr>
        <p:blipFill>
          <a:blip r:embed="rId5"/>
          <a:stretch/>
        </p:blipFill>
        <p:spPr>
          <a:xfrm>
            <a:off x="2214720" y="3714840"/>
            <a:ext cx="6635520" cy="288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office4"/>
          <p:cNvPicPr/>
          <p:nvPr/>
        </p:nvPicPr>
        <p:blipFill>
          <a:blip r:embed="rId6"/>
          <a:stretch/>
        </p:blipFill>
        <p:spPr>
          <a:xfrm>
            <a:off x="214200" y="214200"/>
            <a:ext cx="16430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1" descr="BIGIMOT"/>
          <p:cNvPicPr/>
          <p:nvPr/>
        </p:nvPicPr>
        <p:blipFill>
          <a:blip r:embed="rId1"/>
          <a:stretch/>
        </p:blipFill>
        <p:spPr>
          <a:xfrm>
            <a:off x="285840" y="128592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115"/>
          <p:cNvPicPr/>
          <p:nvPr/>
        </p:nvPicPr>
        <p:blipFill>
          <a:blip r:embed="rId2"/>
          <a:stretch/>
        </p:blipFill>
        <p:spPr>
          <a:xfrm>
            <a:off x="3429000" y="3286080"/>
            <a:ext cx="3857760" cy="336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1" descr="087"/>
          <p:cNvPicPr/>
          <p:nvPr/>
        </p:nvPicPr>
        <p:blipFill>
          <a:blip r:embed="rId3"/>
          <a:stretch/>
        </p:blipFill>
        <p:spPr>
          <a:xfrm>
            <a:off x="5556240" y="1214280"/>
            <a:ext cx="287352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21420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сейчас предлагаю прочитать текст учебника на стр.6-13 и заполнить таблиц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4200" y="1150920"/>
          <a:ext cx="8643960" cy="5429160"/>
        </p:xfrm>
        <a:graphic>
          <a:graphicData uri="http://schemas.openxmlformats.org/drawingml/2006/table">
            <a:tbl>
              <a:tblPr/>
              <a:tblGrid>
                <a:gridCol w="642960"/>
                <a:gridCol w="1928880"/>
                <a:gridCol w="2857680"/>
                <a:gridCol w="3214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означает термин, которым названа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изучает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астрон»-звезда; «номос» -за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небесных те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3840" y="21420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сейчас предлагаю прочитать текст учебника на стр.6-13 и заполнить таблиц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4200" y="1150920"/>
          <a:ext cx="8643960" cy="5668920"/>
        </p:xfrm>
        <a:graphic>
          <a:graphicData uri="http://schemas.openxmlformats.org/drawingml/2006/table">
            <a:tbl>
              <a:tblPr/>
              <a:tblGrid>
                <a:gridCol w="642960"/>
                <a:gridCol w="1928880"/>
                <a:gridCol w="2857680"/>
                <a:gridCol w="3214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означает термин, которым названа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изучает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астрон»-звезда; «номос» -за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небесных те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физис» -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ает разнообразные явления при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химевсис»- смеш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веществах и их превращ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гео» – земля; «логос» -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Земле, ее форме, строении, составе и развит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гео» –земля;  «графо» -пиш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Земле, которая описывает материки, океаны,моря, горы, страны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«биос»- жизнь; «логос» -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 живой при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греч.  «экос» –дом; «логос» -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 об окружающей среде и связях между организм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теперь давайте вспомним, что относится к телам, веществам и явлениям задание на стр.14 №1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одумайте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5840" y="1714680"/>
          <a:ext cx="8691480" cy="5000400"/>
        </p:xfrm>
        <a:graphic>
          <a:graphicData uri="http://schemas.openxmlformats.org/drawingml/2006/table">
            <a:tbl>
              <a:tblPr/>
              <a:tblGrid>
                <a:gridCol w="500040"/>
                <a:gridCol w="2214360"/>
                <a:gridCol w="2428920"/>
                <a:gridCol w="35481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ществ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вле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нц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ход солн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ен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 раст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стр.6 – 13 читать и пересказывать, ответить на вопросы стр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Рисунок3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211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111420997"/>
          <p:cNvPicPr/>
          <p:nvPr/>
        </p:nvPicPr>
        <p:blipFill>
          <a:blip r:embed="rId2"/>
          <a:stretch/>
        </p:blipFill>
        <p:spPr>
          <a:xfrm>
            <a:off x="3286080" y="385776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08:16Z</dcterms:created>
  <dc:creator>Пользователь Windows</dc:creator>
  <dc:description/>
  <dc:language>en-US</dc:language>
  <cp:lastModifiedBy>Татьяна</cp:lastModifiedBy>
  <dcterms:modified xsi:type="dcterms:W3CDTF">2009-12-16T08:48:37Z</dcterms:modified>
  <cp:revision>11</cp:revision>
  <dc:subject/>
  <dc:title>Природоведение 5 класс</dc:title>
</cp:coreProperties>
</file>