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59C-818B-4AAF-833D-D499BF34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825-103E-4F8D-B960-72B29E14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2B0-1E9B-4524-8601-B6D13C2C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D99-8A48-4D2F-839F-4518179B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E14F-7567-48C8-BAA1-58869D32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E0E9-F0FC-44E9-B9E1-579DC6EA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8D0A-1408-4015-81F0-FB38583C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4FC2-C865-4417-8BA8-592065A1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114A-4EF7-4D45-BD01-9CF0924D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A249-5D5D-4840-B587-AED005BC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0379-6988-459D-8E04-5060E497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0AD-BD79-405F-8BD1-712BE0E5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A83B-A053-4C70-B349-77AEAEFD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7F8F-7175-4697-B7E7-3701A58A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DC68-6EC6-412C-BE66-A722ED8A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CE84-86A2-4908-8DAF-C23CDB9E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63B2-F566-496B-98BE-92A40805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8AD-D00F-4E24-928A-15632F07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DD6-223D-4A10-B6A1-0ACB362C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53B-8158-49D8-BCD7-8A99FBE6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D10-5676-4260-AA82-19CA1101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D15-3422-417F-ABA1-FF73D1B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709-F4D8-4F9C-9190-601A9954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147-6F3C-4A08-897D-99F07AA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d3b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01ED-EB75-4099-907A-F0BFCDCC8F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6352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8711-6A54-4E98-9FC7-DB51030EA2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8b27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ahoma"/>
              </a:rPr>
              <a:t>Моделирование в  среде табличного процессора</a:t>
            </a:r>
            <a:endParaRPr b="0" lang="en-US" sz="66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41497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Расчёт геометрических параметров объ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87640" y="1197000"/>
            <a:ext cx="647640" cy="5661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197000"/>
            <a:ext cx="647640" cy="5661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1052640"/>
            <a:ext cx="720720" cy="5805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1197000"/>
            <a:ext cx="826920" cy="5661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Эксперимент 2. Определение наибольшего объема коробки и соответствующего выреза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столбцу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пределите наибольший объем короб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столбцу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пределите размер выреза, соответствующий наибольшему объему короб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75640" cy="6508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956720" y="907920"/>
            <a:ext cx="971280" cy="5661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44000" y="2924280"/>
            <a:ext cx="6476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2997360"/>
            <a:ext cx="863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6868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езультаты эксперимента разместите в ячейках на свободном пространстве электронной таблицы по следующему образц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7704000" cy="267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Эксперимент 3. Зависимость наибольшего объема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коробки от размера исходного ли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значение наибольшего объема коробки для нескольких значений (60 и 80) длины картонного листа. Для этого в ячейку В4 введите новое исходное зна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4508640"/>
            <a:ext cx="6769440" cy="2004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торить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Эксперимент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Эксперимент 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но заполнит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ок столбца А, если длина картонного листа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6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м и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трок столбца А, если длина листа картона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зультаты эксперимента разместите в ячейках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Таблицы эксперимент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120000" cy="223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Эксперимент 4. Зависимость наибольшего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объема коробки от шага изменения вырез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ите в ячейку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В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новое значение шага изменения выреза, например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0,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828036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4869000"/>
            <a:ext cx="863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значение наибольшего объема коробки для нескольких значений (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0, 60, 8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длины картонного ли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зультаты эксперимента разместите в ячейках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Таблицы экспериментов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559320" cy="290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ahoma"/>
              </a:rPr>
              <a:t>4 этап. Анализ результатов моделир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результатам экспериментов сформулируйте выводы (см.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Таблицу экспериментов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форматируйте таблицу по своему усмотр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йте в своей именной папке папк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Моделирование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сохраните туда свою работу под именем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Максимальный объем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короб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жите работу учител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1 вариант. Определение максимальной площади треугольни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ямоугольном треугольнике задана длина гипотенузы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Найти размеры катетов, при которых треугольник имеет наибольшую площадь. Составить геометрическую и математическую модель. Провести расчё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2 вариант. Определение минимальной длины изгороди садового участ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довый участок прямоугольной формы имеет площадь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При каких размерах длины и ширины участка длина изгороди будет наименьшей. Составить геометрическую и математическую модель. Провести расчё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ahoma"/>
              </a:rPr>
              <a:t>1 этап. Постановка 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ся квадратный лист картона. Из листа по углам вырезают четыре квадрата и склеивают короб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а должна быть сторона вырезанного квадрата, чтобы коробка имела наибольшую вместим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1773360"/>
            <a:ext cx="4826160" cy="410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1773360"/>
            <a:ext cx="1152720" cy="1008000"/>
          </a:xfrm>
          <a:prstGeom prst="rect">
            <a:avLst/>
          </a:prstGeom>
          <a:solidFill>
            <a:srgbClr val="b9a61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1773360"/>
            <a:ext cx="1152720" cy="1008000"/>
          </a:xfrm>
          <a:prstGeom prst="rect">
            <a:avLst/>
          </a:prstGeom>
          <a:solidFill>
            <a:srgbClr val="b9a61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4869000"/>
            <a:ext cx="1152720" cy="1008000"/>
          </a:xfrm>
          <a:prstGeom prst="rect">
            <a:avLst/>
          </a:prstGeom>
          <a:solidFill>
            <a:srgbClr val="b9a61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869000"/>
            <a:ext cx="1152720" cy="1008000"/>
          </a:xfrm>
          <a:prstGeom prst="rect">
            <a:avLst/>
          </a:prstGeom>
          <a:solidFill>
            <a:srgbClr val="b9a61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2781360"/>
            <a:ext cx="252072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11640" y="3429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77080" y="1773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587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1773360"/>
            <a:ext cx="0" cy="410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24360" y="134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877080" y="134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141300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236000" y="3357720"/>
            <a:ext cx="40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56360" y="765000"/>
            <a:ext cx="40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ahoma"/>
              </a:rPr>
              <a:t>2 этап. Разработка модели (математической)</a:t>
            </a:r>
            <a:endParaRPr b="0" lang="en-US" sz="2800" spc="-1" strike="noStrike">
              <a:solidFill>
                <a:srgbClr val="d8b274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чётные параметры объекта определяются по формула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=а-2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длина стороны д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=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щадь д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=S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длина стороны картонного лис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мер выре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оначальный размер выреза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=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ующие размеры выреза определяются по формуле: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ahoma"/>
              </a:rPr>
              <a:t>i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ahoma"/>
              </a:rPr>
              <a:t>+1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Компьютерная модель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ет содержать три обла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ходные данн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межуточные расчё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зульта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полнить таблицу по образц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этой области заданы исходные параметры а=40 см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1 с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74872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ставьте таблицу расчёта по приведенному образц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3280" y="1125360"/>
            <a:ext cx="8640720" cy="1808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7993080" cy="3730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3 этап. Компьютерный экспери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Эксперимент 1. Исследование параметров модел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роведения исследования заполните в компьютерной модели 20 стр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толбцу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следите, как изменяется длина стороны д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толбцу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следите, как изменяется площадь д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толбцу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следите, как изменяется объем короб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1:43:29Z</dcterms:created>
  <dc:creator>Anton Terekhov</dc:creator>
  <dc:description/>
  <dc:language>en-US</dc:language>
  <cp:lastModifiedBy>Елена</cp:lastModifiedBy>
  <dcterms:modified xsi:type="dcterms:W3CDTF">2013-09-19T04:11:57Z</dcterms:modified>
  <cp:revision>24</cp:revision>
  <dc:subject/>
  <dc:title>Освоение среды табличного процессора</dc:title>
</cp:coreProperties>
</file>