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CCE-258F-4662-A67E-962A28C8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54-EB1A-463B-AD23-CBAD72A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176-CCCE-419F-ACD7-ECF770EB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136-D30B-4296-AC21-A9EE6501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5A5-930C-4C44-80BF-C356E1D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FA1-18CF-4A5C-9AE9-62803A67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888-4A14-4E10-BA4F-6516469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6BB-8359-4F4C-AE42-0E087FB2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68D-96BD-4BAA-B303-E980C59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A16-429F-4A9C-854C-D935654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26C-A6F3-4AE4-AB1C-EF5EC19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238-0401-479D-A742-6FF6F54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0C2-E395-4B0A-8499-79588EBC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57:36Z</dcterms:created>
  <dc:creator>Kaтя</dc:creator>
  <dc:description/>
  <dc:language>en-US</dc:language>
  <cp:lastModifiedBy>1</cp:lastModifiedBy>
  <dcterms:modified xsi:type="dcterms:W3CDTF">2008-11-09T19:13:01Z</dcterms:modified>
  <cp:revision>9</cp:revision>
  <dc:subject/>
  <dc:title>ТЕОРЕМА ПИФАОРА</dc:title>
</cp:coreProperties>
</file>