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394-FE9F-4559-ADFA-6B73CB6E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018-1A84-42E1-B3B1-B3D42A00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61C7-11C8-43B0-9E28-66401163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42F-46E1-4E66-BEB9-31BBEDD8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E3EA-E0EB-4FCF-B0D8-D4E79E69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A78C-8E24-4607-9FB2-19CE3B00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806C-72F2-4024-936A-D71335CB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35A0-FEAB-4913-A9CD-00D1A5E2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B130-F33D-4D74-BCB3-12BB18B9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6B67-D261-41D8-A0F9-C3598F45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A005-C653-46B4-ABEF-62953158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B45-1941-44CB-B553-EBD3063C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287E-D63C-45EE-B725-BEA242EF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0C79-F3FA-4AFF-87E5-A02FC429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3A0C-8908-4402-A8BA-574E73EF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294C-6CCD-47DF-8B52-D6B3C2E7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DD03-C126-425C-BD0C-59BA5F24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782-CB0F-4DBD-B234-185592F8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2BA8-0F59-4A1A-A42D-A76979B5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9CA-2733-46F1-9B69-39112E07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647-99FA-4C88-9894-EE46149B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E28-CE3F-4E05-AAAC-B012DB3B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D17-9FCD-415A-B1B0-F581A18C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F4D-9FDD-45DE-90D4-ED92D6F9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3C5D-8D0A-43D7-8F0D-3435AFF2E19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C3B2-880B-487E-B344-8CF19851161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Times New Roman"/>
              </a:rPr>
              <a:t>Поделки своими руками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843280" y="4868640"/>
            <a:ext cx="45244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ыполнил Шибаев Александ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МБОУ Сосновская СОШ №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Times New Roman"/>
              </a:rPr>
              <a:t>Бумага и карто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64800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64818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6480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64818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6481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6624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62661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спользованные материал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Личные фотографии работ ученик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1:02:18Z</dcterms:created>
  <dc:creator>дом</dc:creator>
  <dc:description/>
  <dc:language>en-US</dc:language>
  <cp:lastModifiedBy>дом</cp:lastModifiedBy>
  <dcterms:modified xsi:type="dcterms:W3CDTF">2013-10-17T06:47:16Z</dcterms:modified>
  <cp:revision>4</cp:revision>
  <dc:subject/>
  <dc:title>Поделки своими руками</dc:title>
</cp:coreProperties>
</file>