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AA1-380C-4A0B-AD86-26528EE0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5E8C-387A-4383-8ADE-7BC05C12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891A-B464-4BE0-B3DB-A3606D6C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95A-5047-4466-A6B5-5D505E1E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14C3-BFFF-4CDF-9013-E0787052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21F8-AB11-4958-A19D-1C59DCCB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6505-2EA0-4435-AE49-18491958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47D2-AF19-4B1C-A43F-A98B0F5A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7740-724C-4BBF-89B7-AA6F844D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3340-AEBD-484D-88FD-8945EBC4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A2B3-A029-4F6B-8246-F0803413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D916-DFB8-4DA3-B118-29FC44FA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6CCA-9D22-4AE6-9F42-48E09F35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2A3F-D4EC-4912-BF8D-177E59F9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B91C-400F-4F9C-AA9D-8DBC966F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3E94-FBFE-42E3-A21F-2CBFAEE1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18F3-74DB-4500-81E4-574737F4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A109B-E26C-4791-B9FB-B043CC1A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CC9F6-A371-4B82-98C5-B42F9C97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D8221-6D6A-4AE6-B88A-169DA8C5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F85E7-BAB6-40EC-A988-9B4BF95C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99228-1FEB-4028-B145-B67F9178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7F5-9F2E-4593-8BBC-97C0ECEE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F5A02-779D-423F-9C57-F4A2C624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CB95F-8CAB-4A8D-A800-6C1B5A8C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8FEF9-7554-4EA7-9E9B-97570148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4C063-15D3-4AF8-B4B3-BC2D8EBB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337D6-5B59-412C-BE64-F27E64C1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4AF62-EC4A-4699-A7D0-F9449AE4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17DB5-512E-44A9-A443-75F6A72F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51C12-07AD-439E-90E6-E899AB93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0824F-9C7A-4B24-B81C-7F90A896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A433E-69C9-4270-8897-2758B234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815-8577-460C-8CCF-DF723A91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7AFC4-2F9F-4004-BE43-4174EBB8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C84BE-E4B3-44F6-B7E5-7D9B74FD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772C5-C952-4A27-9926-B6DB27C8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04733-98FD-4E5A-8C8E-418CEDFE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D1EC4-03D6-46F0-95CD-48A16E78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327B2-0D56-43CA-B9BB-E88A4424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ECFD1-3C35-4AA3-9F05-B5D02F51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2CC4E-04B4-4970-B3A2-2A599D72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54E34-FC8D-4019-97EE-E0D41020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8BFA-2B3F-4ED1-B298-0398E104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ED9C-D417-406C-B71C-C72592ED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944-BF0E-4612-A18F-EEC77106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7E78-D205-49A9-BF32-A04A8D78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6779-6E12-4790-9E8C-B25E954C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0971-1BB9-4330-9496-D81B5719728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3901-D592-4855-997D-002BEA64CFB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BCCD-17F4-4D12-85AC-A6918CB7D32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F0CE-142D-4188-AD26-83720C3A894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87440" y="493560"/>
            <a:ext cx="8034120" cy="2773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99680" y="328608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Arial"/>
                <a:ea typeface="Arial"/>
              </a:rPr>
              <a:t>Использование современных образовательных технологий, в т.ч. ИКТ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935000"/>
          <a:ext cx="8229600" cy="1559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 используемой технолог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уппы в которых используется 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снование примен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Имеющийся или прогнозируе-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Arial"/>
                <a:ea typeface="Arial"/>
              </a:rPr>
              <a:t>Достижения воспитанник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ключают сертификаты, дипломы, грамоты, свидетельствующие об участии в различных конкурсах, и т.д., сертификаты участия педагога и детей в проектах разного уровня и направлен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Arial"/>
                <a:ea typeface="Arial"/>
              </a:rPr>
              <a:t>Отзывы о педагогической деятельности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Отзывы руководителей разных уровней о педагоге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Отзывы коллег, родителей, выпускников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Рецензии, благодарственные письма и т.д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Arial"/>
                <a:ea typeface="Arial"/>
              </a:rPr>
              <a:t>«Портфолио»- инновационная форма обобщения опыта профессиональной деятельности педагог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ртфолио- собрание достижений, набор материалов, демонстрирующих умение педагога решать задачи своей профессиональной деятельности, выбирать стратегию и тактику профессионального поведе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формляется в папке- накопителе с файлами, состав портфолио зависит от конкретных задач, которые ставит перед собой педагог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Arial"/>
                <a:ea typeface="Arial"/>
              </a:rPr>
              <a:t>Основная цель портфолио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071440"/>
            <a:ext cx="82296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оанализировать и представить наиболее значимые профессиональные результаты педагог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зволяет учитывать результаты, достигнутые  педагогом в разнообразных видах деятельности- обучающей, воспитательной, творческой, самообразовательно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Arial"/>
                <a:ea typeface="Arial"/>
              </a:rPr>
              <a:t>Структура портфоли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Титульный лист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в правом верхнем углу титульного листа помещается фотография произвольных размеров и характера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ФИО педагог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полное название О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преподаваемый предмет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азвание ВУЗа, оконченного педагого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стаж работы в данном О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имеющиеся наград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квалификационная  категор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указание периода за который представлены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окументы и материал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7855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9ca3"/>
                </a:solidFill>
                <a:latin typeface="Arial"/>
                <a:ea typeface="Arial"/>
              </a:rPr>
              <a:t>Раздел 1 . «Официальные документы</a:t>
            </a:r>
            <a:r>
              <a:rPr b="1" lang="ru-RU" sz="2800" spc="-1" strike="noStrike">
                <a:solidFill>
                  <a:srgbClr val="089ca3"/>
                </a:solidFill>
                <a:latin typeface="Constanti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этом разделе помещаются все имеющиеся у педагога сертифицированные документы, подтверждающие его индивидуальные достижения: дипломы, участие в конкурсах, грамоты, благодарственные письма, сертификаты, и т.д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42960" y="1500120"/>
          <a:ext cx="8072280" cy="1011240"/>
        </p:xfrm>
        <a:graphic>
          <a:graphicData uri="http://schemas.openxmlformats.org/drawingml/2006/table">
            <a:tbl>
              <a:tblPr/>
              <a:tblGrid>
                <a:gridCol w="857160"/>
                <a:gridCol w="2371680"/>
                <a:gridCol w="1614600"/>
                <a:gridCol w="1614600"/>
                <a:gridCol w="1614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 доку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одерж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ем выд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огда выд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Arial"/>
                <a:ea typeface="Arial"/>
              </a:rPr>
              <a:t>Раздел 2. Данные о повышении квалификации и профессиональной подготовке.</a:t>
            </a:r>
            <a:br>
              <a:rPr sz="2600"/>
            </a:b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35684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--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бота в РМО,МО,ТГ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--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истематичность повышения квалификации, профессиональная переподготовка, получение дополнительного образов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42960" y="1857240"/>
          <a:ext cx="7215120" cy="1920960"/>
        </p:xfrm>
        <a:graphic>
          <a:graphicData uri="http://schemas.openxmlformats.org/drawingml/2006/table">
            <a:tbl>
              <a:tblPr/>
              <a:tblGrid>
                <a:gridCol w="1803240"/>
                <a:gridCol w="1805040"/>
                <a:gridCol w="1803600"/>
                <a:gridCol w="18032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 МО,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ема засе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ема, над которой работает педаг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642960" y="5357880"/>
          <a:ext cx="7286760" cy="1011240"/>
        </p:xfrm>
        <a:graphic>
          <a:graphicData uri="http://schemas.openxmlformats.org/drawingml/2006/table">
            <a:tbl>
              <a:tblPr/>
              <a:tblGrid>
                <a:gridCol w="1822320"/>
                <a:gridCol w="1820880"/>
                <a:gridCol w="1822680"/>
                <a:gridCol w="1820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 КП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ол-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ро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ид доку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50104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04617b"/>
                </a:solidFill>
                <a:latin typeface="Arial"/>
                <a:ea typeface="Arial"/>
              </a:rPr>
              <a:t>Раздел 3. Работа учителя по обобщению и распространению собственного педагогического опыта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--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личие собственной системы методических разработо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-- Наличие публикаций по проблемам обучения, развития , воспитания дет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28760" y="2428920"/>
          <a:ext cx="7643520" cy="1006560"/>
        </p:xfrm>
        <a:graphic>
          <a:graphicData uri="http://schemas.openxmlformats.org/drawingml/2006/table">
            <a:tbl>
              <a:tblPr/>
              <a:tblGrid>
                <a:gridCol w="1911240"/>
                <a:gridCol w="1911240"/>
                <a:gridCol w="1909800"/>
                <a:gridCol w="1911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 раб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е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ъем в п.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а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500040" y="4357800"/>
          <a:ext cx="7572240" cy="1011240"/>
        </p:xfrm>
        <a:graphic>
          <a:graphicData uri="http://schemas.openxmlformats.org/drawingml/2006/table">
            <a:tbl>
              <a:tblPr/>
              <a:tblGrid>
                <a:gridCol w="1514520"/>
                <a:gridCol w="1514520"/>
                <a:gridCol w="1514520"/>
                <a:gridCol w="1514520"/>
                <a:gridCol w="1514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 раб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е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ъем в п.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Изд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частие в проведении мастер- классов, круглых столов, конференций, стажировок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частие в инновационной деятель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работка и реализация авторских концепций, программ, проект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42960" y="1357200"/>
          <a:ext cx="7929720" cy="2103480"/>
        </p:xfrm>
        <a:graphic>
          <a:graphicData uri="http://schemas.openxmlformats.org/drawingml/2006/table">
            <a:tbl>
              <a:tblPr/>
              <a:tblGrid>
                <a:gridCol w="1585800"/>
                <a:gridCol w="1586160"/>
                <a:gridCol w="1585800"/>
                <a:gridCol w="1585800"/>
                <a:gridCol w="158616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орма представления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е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ровень (ДОУ, муници-  пальный, региональный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ро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тзыв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642960" y="3857760"/>
          <a:ext cx="7572240" cy="1214280"/>
        </p:xfrm>
        <a:graphic>
          <a:graphicData uri="http://schemas.openxmlformats.org/drawingml/2006/table">
            <a:tbl>
              <a:tblPr/>
              <a:tblGrid>
                <a:gridCol w="2523960"/>
                <a:gridCol w="2524320"/>
                <a:gridCol w="2523960"/>
              </a:tblGrid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орма участ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одержание рабо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зультативность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357120" y="3500280"/>
          <a:ext cx="8229600" cy="1006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частие в проф.конкур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рове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Arial"/>
                <a:ea typeface="Arial"/>
              </a:rPr>
              <a:t>Раздел 4. Участие в муниципальных, региональных и всероссийских профессиональных конкурсах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03:04:47Z</dcterms:created>
  <dc:creator>User</dc:creator>
  <dc:description/>
  <dc:language>en-US</dc:language>
  <cp:lastModifiedBy>User</cp:lastModifiedBy>
  <dcterms:modified xsi:type="dcterms:W3CDTF">2013-10-17T08:52:10Z</dcterms:modified>
  <cp:revision>19</cp:revision>
  <dc:subject/>
  <dc:title>Портфолио педагога</dc:title>
</cp:coreProperties>
</file>