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882-C078-4889-9A9B-D373D07B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ECB-5B2D-49AB-86CD-DFF2B9A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8BA-C33A-481E-8C13-E23D1239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EA5-FCCF-4A72-A1C7-747687F6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928A1-885A-46EE-9137-2E895E6C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8D7D0-DB0D-4F8C-8C60-B209118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AFE9-60D9-40E3-A468-12C61E3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2817-3FF5-45B1-BD89-C68CC4B3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4D09-4E0C-43C1-854F-2B6B3A07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62B30-3811-43E4-AB79-6FFF413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18B7-DBD0-4B12-A9D5-A037BB8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210-8E38-48B2-816D-46C93EAF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90FB-CA52-46B5-9117-ADE60BA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975F2-02B4-452B-B6AF-B60182C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BD643-02FE-410F-98FD-98665D61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77CB0-BF43-4649-A95C-7BA7CA5A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09B2-6B0E-412E-8E3E-AA70AEDF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213-E020-423D-BA6A-22BEA77C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8D4-9FA5-4C8B-BDB9-869692F7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C1E-8001-4E09-A854-424002E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ABF-1528-43D9-B1C6-CCBF2A8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8A4-C93E-4D10-BF63-B05BA2F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F56-8979-4F29-99EC-D75C314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C56-3AA3-4240-905D-D1199F7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574-6D2B-49D9-B4A3-239F7EA7C9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5CE-5950-4940-898D-DBB16A35B1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Arial"/>
              </a:rPr>
              <a:t>Рабство в Древнем Рим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источники рабства в Древнем Рим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564000" y="1773360"/>
            <a:ext cx="2016000" cy="223200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11280" y="2133720"/>
            <a:ext cx="2736720" cy="1728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ое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3348000" y="4221000"/>
            <a:ext cx="2592360" cy="1729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рат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5867280" y="2133720"/>
            <a:ext cx="2592360" cy="1728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ти рабы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Использование рабов </a:t>
            </a:r>
            <a:br>
              <a:rPr sz="4800"/>
            </a:b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в Рим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900000" y="1628640"/>
            <a:ext cx="144000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80000" y="1628640"/>
            <a:ext cx="143964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804000" y="1628640"/>
            <a:ext cx="144000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68360" y="3573360"/>
            <a:ext cx="2521080" cy="201636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мен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дель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276720" y="3573360"/>
            <a:ext cx="2447640" cy="201636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дом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гат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б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дель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6300720" y="3645000"/>
            <a:ext cx="2303640" cy="201600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ре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фитеа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Из Конституции Российской Федераци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тья 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имеет право на 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тья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Достоиноство личности охраняется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что не может быть основанием для его ума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тья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Каждый имеет право на свободу и лич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икосно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тья 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д свобод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удительный труд запрещё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3e3ff"/>
                </a:solidFill>
                <a:latin typeface="Arial"/>
              </a:rPr>
              <a:t>Рабство в Риме: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о классическим по с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сило массовый х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о глубоко безнравственным и амора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вело к падению могущественной Римской имп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7:22:00Z</dcterms:created>
  <dc:creator>Глеб</dc:creator>
  <dc:description/>
  <dc:language>en-US</dc:language>
  <cp:lastModifiedBy>admin</cp:lastModifiedBy>
  <dcterms:modified xsi:type="dcterms:W3CDTF">2013-10-17T20:18:59Z</dcterms:modified>
  <cp:revision>16</cp:revision>
  <dc:subject/>
  <dc:title>Слайд 1</dc:title>
</cp:coreProperties>
</file>