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2E3-7E2D-465F-9BD4-447ABC2E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9DB-374B-4D58-98AF-819A319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643-38EB-45F7-896E-E06307D0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ACB-D08B-43E7-9316-1A0703C2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0BA-BCFC-4FDE-8F9F-B6E13641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91B-2E2A-448D-99EB-5EF4B263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72A-A844-4451-AE95-51BC013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2D7-2061-4350-8602-863E404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994-D5B8-44C3-A4AB-A8715F11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F1C-24D2-46F3-9B41-C3893EE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D49-C775-494A-A086-AB10C76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16C-A8FE-453F-B956-540A6BA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7D62-3B2D-4F52-BD31-8FB16554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0600" y="2315880"/>
            <a:ext cx="40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ё что мы положим в р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адает к нам в…(Жив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962160" cy="2997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3047760" cy="245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886200" cy="3848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45560" y="208440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524480" cy="366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31956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3200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дные 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840" y="1528920"/>
            <a:ext cx="8572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2560" y="3430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а «полезное и вредно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00600" cy="386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81680" y="434340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1123920"/>
            <a:ext cx="6096240" cy="4610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4724280"/>
            <a:ext cx="15620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7720" y="6056280"/>
            <a:ext cx="48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любим кушать много разных 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52560" y="343080"/>
            <a:ext cx="7238880" cy="6172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767120" cy="4767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608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610840" cy="473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7760" y="567540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хорошо себя чувствовать, нужно правильно пит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772400" cy="582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9960" y="6056280"/>
            <a:ext cx="73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полезны фрукты. В них много витаминов. Особенно ябл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4762800" cy="476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4480" y="2286000"/>
            <a:ext cx="1838520" cy="192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236232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480" y="5904000"/>
            <a:ext cx="78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ельсины и лимоны помогут нам не болеть, с ними не нужны таб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71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895560" cy="389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3828960" cy="190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724280" y="44197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191120" y="228600"/>
            <a:ext cx="1962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10-15T19:5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