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B6CD-B7B0-4133-A3CE-EF24E681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DF7-B47F-46B4-9E63-224ACED2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7140-5594-4DBE-ACF4-1805B1BF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DA9-7A06-47AC-A87C-CE5D3B2B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A031-3509-43F9-A92E-6C11E692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9D56-2AD4-4F55-BEED-BCDDC6F5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7361-E737-4865-A3AB-B7518E7A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F70C-5E2D-4E13-A82C-A1B3CCD4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50EE-2C35-4F11-8B86-1DA18CD3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1B73-1179-40E1-A6E6-FD917667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12A3-A86A-45EA-80DA-D41CC30C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D86-C94F-490C-9C52-1EE1A7A5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C6A2-C37D-454A-8CC9-418FB036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FE0D-4647-4DCF-930C-46CDD13F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3AA5-7E01-4F09-ACF8-A9F8A657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A012-76B9-4ADA-A3DE-D932A1FD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F857-8A91-49A0-8A44-9AECC299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DDB5-ECCF-4DDF-8FC4-A9B260CF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4BD-094A-456C-8744-977B2CA2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755-55F5-4ED9-B928-2313C81A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8149-E474-41C6-B554-6A90EBA6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2E9C-442A-432B-9094-FD4E4BEB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8F8-D66A-4747-A4D3-B1E08939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190-8DE3-4DD4-BBEA-F66777C7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EECF-77CD-495A-A584-192976ADF93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5925-C0ED-40CA-8576-D96E66C3870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одзаголовок 2" descr=""/>
          <p:cNvPicPr/>
          <p:nvPr/>
        </p:nvPicPr>
        <p:blipFill>
          <a:blip r:embed="rId1"/>
          <a:stretch/>
        </p:blipFill>
        <p:spPr>
          <a:xfrm>
            <a:off x="1000080" y="2060640"/>
            <a:ext cx="7174080" cy="199368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3" descr=""/>
          <p:cNvPicPr/>
          <p:nvPr/>
        </p:nvPicPr>
        <p:blipFill>
          <a:blip r:embed="rId2"/>
          <a:stretch/>
        </p:blipFill>
        <p:spPr>
          <a:xfrm>
            <a:off x="554040" y="517680"/>
            <a:ext cx="7821720" cy="180468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7" descr=""/>
          <p:cNvPicPr/>
          <p:nvPr/>
        </p:nvPicPr>
        <p:blipFill>
          <a:blip r:embed="rId3"/>
          <a:stretch/>
        </p:blipFill>
        <p:spPr>
          <a:xfrm>
            <a:off x="420840" y="4925880"/>
            <a:ext cx="874224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Admin\Рабочий стол\534ccc70c180c766970d8f3e2e5c9ecb.png"/>
          <p:cNvPicPr/>
          <p:nvPr/>
        </p:nvPicPr>
        <p:blipFill>
          <a:blip r:embed="rId1"/>
          <a:stretch/>
        </p:blipFill>
        <p:spPr>
          <a:xfrm>
            <a:off x="-420840" y="12600"/>
            <a:ext cx="6602400" cy="6175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Program Files\Microsoft Office\MEDIA\CAGCAT10\j0301252.wmf"/>
          <p:cNvPicPr/>
          <p:nvPr/>
        </p:nvPicPr>
        <p:blipFill>
          <a:blip r:embed="rId2"/>
          <a:stretch/>
        </p:blipFill>
        <p:spPr>
          <a:xfrm>
            <a:off x="5052960" y="3143160"/>
            <a:ext cx="40910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88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Admin\Рабочий стол\32.gif"/>
          <p:cNvPicPr/>
          <p:nvPr/>
        </p:nvPicPr>
        <p:blipFill>
          <a:blip r:embed="rId2"/>
          <a:stretch/>
        </p:blipFill>
        <p:spPr>
          <a:xfrm>
            <a:off x="1231920" y="1047600"/>
            <a:ext cx="721044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Documents and Settings\Admin\Рабочий стол\image038.gif"/>
          <p:cNvPicPr/>
          <p:nvPr/>
        </p:nvPicPr>
        <p:blipFill>
          <a:blip r:embed="rId1"/>
          <a:srcRect l="0" t="0" r="0" b="8795"/>
          <a:stretch/>
        </p:blipFill>
        <p:spPr>
          <a:xfrm>
            <a:off x="1428840" y="0"/>
            <a:ext cx="6745320" cy="6286680"/>
          </a:xfrm>
          <a:prstGeom prst="rect">
            <a:avLst/>
          </a:prstGeom>
          <a:ln w="0">
            <a:noFill/>
          </a:ln>
        </p:spPr>
      </p:pic>
      <p:grpSp>
        <p:nvGrpSpPr>
          <p:cNvPr id="90" name="4-конечная звезда 5"/>
          <p:cNvGrpSpPr/>
          <p:nvPr/>
        </p:nvGrpSpPr>
        <p:grpSpPr>
          <a:xfrm>
            <a:off x="7265880" y="4602240"/>
            <a:ext cx="682560" cy="860400"/>
            <a:chOff x="7265880" y="4602240"/>
            <a:chExt cx="682560" cy="860400"/>
          </a:xfrm>
        </p:grpSpPr>
        <p:pic>
          <p:nvPicPr>
            <p:cNvPr id="91" name="4-конечная звезда 5" descr=""/>
            <p:cNvPicPr/>
            <p:nvPr/>
          </p:nvPicPr>
          <p:blipFill>
            <a:blip r:embed="rId2"/>
            <a:stretch/>
          </p:blipFill>
          <p:spPr>
            <a:xfrm>
              <a:off x="7265880" y="4602240"/>
              <a:ext cx="6825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505640" y="4921200"/>
              <a:ext cx="619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4-конечная звезда 7"/>
          <p:cNvGrpSpPr/>
          <p:nvPr/>
        </p:nvGrpSpPr>
        <p:grpSpPr>
          <a:xfrm>
            <a:off x="8265960" y="249120"/>
            <a:ext cx="682920" cy="860400"/>
            <a:chOff x="8265960" y="249120"/>
            <a:chExt cx="682920" cy="860400"/>
          </a:xfrm>
        </p:grpSpPr>
        <p:pic>
          <p:nvPicPr>
            <p:cNvPr id="94" name="4-конечная звезда 7" descr=""/>
            <p:cNvPicPr/>
            <p:nvPr/>
          </p:nvPicPr>
          <p:blipFill>
            <a:blip r:embed="rId3"/>
            <a:stretch/>
          </p:blipFill>
          <p:spPr>
            <a:xfrm>
              <a:off x="8265960" y="249120"/>
              <a:ext cx="68292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505720" y="563400"/>
              <a:ext cx="619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4-конечная звезда 8"/>
          <p:cNvGrpSpPr/>
          <p:nvPr/>
        </p:nvGrpSpPr>
        <p:grpSpPr>
          <a:xfrm>
            <a:off x="49320" y="6108840"/>
            <a:ext cx="682560" cy="858600"/>
            <a:chOff x="49320" y="6108840"/>
            <a:chExt cx="682560" cy="858600"/>
          </a:xfrm>
        </p:grpSpPr>
        <p:pic>
          <p:nvPicPr>
            <p:cNvPr id="97" name="4-конечная звезда 8" descr=""/>
            <p:cNvPicPr/>
            <p:nvPr/>
          </p:nvPicPr>
          <p:blipFill>
            <a:blip r:embed="rId4"/>
            <a:stretch/>
          </p:blipFill>
          <p:spPr>
            <a:xfrm>
              <a:off x="49320" y="6108840"/>
              <a:ext cx="68256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90520" y="6421320"/>
              <a:ext cx="619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4-конечная звезда 9"/>
          <p:cNvGrpSpPr/>
          <p:nvPr/>
        </p:nvGrpSpPr>
        <p:grpSpPr>
          <a:xfrm>
            <a:off x="7407360" y="963720"/>
            <a:ext cx="682560" cy="858600"/>
            <a:chOff x="7407360" y="963720"/>
            <a:chExt cx="682560" cy="858600"/>
          </a:xfrm>
        </p:grpSpPr>
        <p:pic>
          <p:nvPicPr>
            <p:cNvPr id="100" name="4-конечная звезда 9" descr=""/>
            <p:cNvPicPr/>
            <p:nvPr/>
          </p:nvPicPr>
          <p:blipFill>
            <a:blip r:embed="rId5"/>
            <a:stretch/>
          </p:blipFill>
          <p:spPr>
            <a:xfrm>
              <a:off x="7407360" y="963720"/>
              <a:ext cx="68256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648560" y="1278000"/>
              <a:ext cx="619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4-конечная звезда 10"/>
          <p:cNvGrpSpPr/>
          <p:nvPr/>
        </p:nvGrpSpPr>
        <p:grpSpPr>
          <a:xfrm>
            <a:off x="49320" y="1536840"/>
            <a:ext cx="682560" cy="858600"/>
            <a:chOff x="49320" y="1536840"/>
            <a:chExt cx="682560" cy="858600"/>
          </a:xfrm>
        </p:grpSpPr>
        <p:pic>
          <p:nvPicPr>
            <p:cNvPr id="103" name="4-конечная звезда 10" descr=""/>
            <p:cNvPicPr/>
            <p:nvPr/>
          </p:nvPicPr>
          <p:blipFill>
            <a:blip r:embed="rId6"/>
            <a:stretch/>
          </p:blipFill>
          <p:spPr>
            <a:xfrm>
              <a:off x="49320" y="1536840"/>
              <a:ext cx="68256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90520" y="1849320"/>
              <a:ext cx="619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4-конечная звезда 11"/>
          <p:cNvGrpSpPr/>
          <p:nvPr/>
        </p:nvGrpSpPr>
        <p:grpSpPr>
          <a:xfrm>
            <a:off x="1122480" y="3035160"/>
            <a:ext cx="682560" cy="860400"/>
            <a:chOff x="1122480" y="3035160"/>
            <a:chExt cx="682560" cy="860400"/>
          </a:xfrm>
        </p:grpSpPr>
        <p:pic>
          <p:nvPicPr>
            <p:cNvPr id="106" name="4-конечная звезда 11" descr=""/>
            <p:cNvPicPr/>
            <p:nvPr/>
          </p:nvPicPr>
          <p:blipFill>
            <a:blip r:embed="rId7"/>
            <a:stretch/>
          </p:blipFill>
          <p:spPr>
            <a:xfrm>
              <a:off x="1122480" y="3035160"/>
              <a:ext cx="6825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362240" y="3349800"/>
              <a:ext cx="619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4-конечная звезда 12"/>
          <p:cNvGrpSpPr/>
          <p:nvPr/>
        </p:nvGrpSpPr>
        <p:grpSpPr>
          <a:xfrm>
            <a:off x="8478720" y="5962680"/>
            <a:ext cx="684360" cy="858960"/>
            <a:chOff x="8478720" y="5962680"/>
            <a:chExt cx="684360" cy="858960"/>
          </a:xfrm>
        </p:grpSpPr>
        <p:pic>
          <p:nvPicPr>
            <p:cNvPr id="109" name="4-конечная звезда 12" descr=""/>
            <p:cNvPicPr/>
            <p:nvPr/>
          </p:nvPicPr>
          <p:blipFill>
            <a:blip r:embed="rId8"/>
            <a:stretch/>
          </p:blipFill>
          <p:spPr>
            <a:xfrm>
              <a:off x="8478720" y="5962680"/>
              <a:ext cx="6843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8720280" y="6278400"/>
              <a:ext cx="619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4-конечная звезда 13"/>
          <p:cNvGrpSpPr/>
          <p:nvPr/>
        </p:nvGrpSpPr>
        <p:grpSpPr>
          <a:xfrm>
            <a:off x="7912080" y="2603520"/>
            <a:ext cx="677880" cy="858960"/>
            <a:chOff x="7912080" y="2603520"/>
            <a:chExt cx="677880" cy="858960"/>
          </a:xfrm>
        </p:grpSpPr>
        <p:pic>
          <p:nvPicPr>
            <p:cNvPr id="112" name="4-конечная звезда 13" descr=""/>
            <p:cNvPicPr/>
            <p:nvPr/>
          </p:nvPicPr>
          <p:blipFill>
            <a:blip r:embed="rId9"/>
            <a:stretch/>
          </p:blipFill>
          <p:spPr>
            <a:xfrm>
              <a:off x="7912080" y="2603520"/>
              <a:ext cx="67788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8148600" y="2921040"/>
              <a:ext cx="619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4-конечная звезда 14"/>
          <p:cNvGrpSpPr/>
          <p:nvPr/>
        </p:nvGrpSpPr>
        <p:grpSpPr>
          <a:xfrm>
            <a:off x="835200" y="5102280"/>
            <a:ext cx="682560" cy="865080"/>
            <a:chOff x="835200" y="5102280"/>
            <a:chExt cx="682560" cy="865080"/>
          </a:xfrm>
        </p:grpSpPr>
        <p:pic>
          <p:nvPicPr>
            <p:cNvPr id="115" name="4-конечная звезда 14" descr=""/>
            <p:cNvPicPr/>
            <p:nvPr/>
          </p:nvPicPr>
          <p:blipFill>
            <a:blip r:embed="rId10"/>
            <a:stretch/>
          </p:blipFill>
          <p:spPr>
            <a:xfrm>
              <a:off x="835200" y="5102280"/>
              <a:ext cx="68256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076400" y="5421240"/>
              <a:ext cx="619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4-конечная звезда 15"/>
          <p:cNvGrpSpPr/>
          <p:nvPr/>
        </p:nvGrpSpPr>
        <p:grpSpPr>
          <a:xfrm>
            <a:off x="334800" y="103320"/>
            <a:ext cx="682920" cy="860400"/>
            <a:chOff x="334800" y="103320"/>
            <a:chExt cx="682920" cy="860400"/>
          </a:xfrm>
        </p:grpSpPr>
        <p:pic>
          <p:nvPicPr>
            <p:cNvPr id="118" name="4-конечная звезда 15" descr=""/>
            <p:cNvPicPr/>
            <p:nvPr/>
          </p:nvPicPr>
          <p:blipFill>
            <a:blip r:embed="rId11"/>
            <a:stretch/>
          </p:blipFill>
          <p:spPr>
            <a:xfrm>
              <a:off x="334800" y="103320"/>
              <a:ext cx="68292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76360" y="420840"/>
              <a:ext cx="619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Admin\Рабочий стол\i_007.png"/>
          <p:cNvPicPr/>
          <p:nvPr/>
        </p:nvPicPr>
        <p:blipFill>
          <a:blip r:embed="rId1"/>
          <a:stretch/>
        </p:blipFill>
        <p:spPr>
          <a:xfrm>
            <a:off x="-237960" y="-23760"/>
            <a:ext cx="959472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2" descr=""/>
          <p:cNvPicPr/>
          <p:nvPr/>
        </p:nvPicPr>
        <p:blipFill>
          <a:blip r:embed="rId1"/>
          <a:stretch/>
        </p:blipFill>
        <p:spPr>
          <a:xfrm>
            <a:off x="-146160" y="1743120"/>
            <a:ext cx="4962600" cy="3335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Documents and Settings\Admin\Рабочий стол\mistake_thumb_57bc9b9f04a18c68b190e8f1f2478b41_223.jpg"/>
          <p:cNvPicPr/>
          <p:nvPr/>
        </p:nvPicPr>
        <p:blipFill>
          <a:blip r:embed="rId2"/>
          <a:stretch/>
        </p:blipFill>
        <p:spPr>
          <a:xfrm>
            <a:off x="4340160" y="1322280"/>
            <a:ext cx="5095800" cy="49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5:51:27Z</dcterms:created>
  <dc:creator>Admin</dc:creator>
  <dc:description/>
  <dc:language>en-US</dc:language>
  <cp:lastModifiedBy>UserXP</cp:lastModifiedBy>
  <dcterms:modified xsi:type="dcterms:W3CDTF">2013-10-17T07:38:58Z</dcterms:modified>
  <cp:revision>13</cp:revision>
  <dc:subject/>
  <dc:title>Слайд 1</dc:title>
</cp:coreProperties>
</file>