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camera.wav" ContentType="audio/x-wav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82D2-468B-4F88-A324-299542F7CF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38E6-5459-4CFC-9856-174CC3BE20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идно одно упражнение занимает более половины страницы учебника. Текст упражнения содержит всего 8 слов. Весь остальной объем – это задание к упражнению. Для четкого выполнения упражнения необходимо точно следовать инструкцям. Для того, чтобы ребенок мог ориентироваться в таком количестве разных заданий, начиная с первого класса, мы учим детей работать с текстом заданий. В классе внимательно изучаем текст задания, останавливаясь подробно на каждой фразе и обсуждаем. Если задание необходимо сделать письменно, помечаем цифрой и т. д. После выполнения упражнения  контроль за правильностью (сначала самоконтроль, затем контроль учителя. По мере повышения уровня самостоятельности выполнения подобные упражнения задаются на д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A41-CDDF-46EB-A9AC-776EA441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3E4-B5CE-4678-B285-2E89BF2B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0EF-FF96-4173-8141-6BE47BF7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237-DE04-4F16-829D-753EC916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DE62-A40E-4C8A-99C5-477552F6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FA0B-639E-431A-ACD2-B261B13B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9A21-9425-41FE-A730-CC8E87C8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4E95-A395-43F2-8F9D-F9780EF6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8931-2593-49DA-AAF3-064CD76F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44F0-78F7-46D3-974E-56D6CE9E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0357-3B95-491D-9F39-D251E64F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397-4038-48E3-AD38-4B1E4C99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1598-F425-4B83-A6B8-0E2447DE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58A0-1301-4467-92D4-85266237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5F9B-7807-42AC-AAD8-DBEEA149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FECF-247B-4195-875F-F3298225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3B3C-3450-42CA-B8A8-D8827840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59E-44ED-41D6-9840-1F1E8A74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13D-C742-4FA6-B8CF-6474C9B8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3F3-6466-401C-B7E3-12EC47F0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DFB-8934-4BA8-BCF2-8DEEF6BE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DAD-735E-451F-AEAA-AC41D992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E9D-6C92-4E02-AFB2-008E7E6B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524-457D-4062-B4CC-E1583BAE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407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FA17-4BF0-40BB-A732-FD89FB95A7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225E-2DBE-406C-91F6-E12BA85840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360" y="836640"/>
            <a:ext cx="514368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амостоятельная деятельность младшего школьника.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87280" y="3428640"/>
            <a:ext cx="42991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Возможнос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МК «Школа  2100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 формированию навыка самостоятельной работы с текстам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2100"/>
          <p:cNvPicPr/>
          <p:nvPr/>
        </p:nvPicPr>
        <p:blipFill>
          <a:blip r:embed="rId1"/>
          <a:stretch/>
        </p:blipFill>
        <p:spPr>
          <a:xfrm>
            <a:off x="1066680" y="549360"/>
            <a:ext cx="2928960" cy="237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shkola-2100"/>
          <p:cNvPicPr/>
          <p:nvPr/>
        </p:nvPicPr>
        <p:blipFill>
          <a:blip r:embed="rId2"/>
          <a:stretch/>
        </p:blipFill>
        <p:spPr>
          <a:xfrm>
            <a:off x="5638680" y="3581280"/>
            <a:ext cx="27100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971640" y="476280"/>
            <a:ext cx="7715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иемы подготовленной речи. Риторика.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31" name="Picture 6" descr="CCF02112009_00009"/>
          <p:cNvPicPr/>
          <p:nvPr/>
        </p:nvPicPr>
        <p:blipFill>
          <a:blip r:embed="rId3"/>
          <a:stretch/>
        </p:blipFill>
        <p:spPr>
          <a:xfrm>
            <a:off x="1116000" y="1484280"/>
            <a:ext cx="3562200" cy="5037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2" name="Picture 7" descr="CCF02112009_00010"/>
          <p:cNvPicPr/>
          <p:nvPr/>
        </p:nvPicPr>
        <p:blipFill>
          <a:blip r:embed="rId4"/>
          <a:stretch/>
        </p:blipFill>
        <p:spPr>
          <a:xfrm>
            <a:off x="4932360" y="1484280"/>
            <a:ext cx="3562200" cy="5037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5"/>
          <p:cNvSpPr txBox="1"/>
          <p:nvPr/>
        </p:nvSpPr>
        <p:spPr>
          <a:xfrm>
            <a:off x="1252440" y="404640"/>
            <a:ext cx="742320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абота над текстовыми задачами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34" name="Picture 7" descr="CCF02112009_00005"/>
          <p:cNvPicPr/>
          <p:nvPr/>
        </p:nvPicPr>
        <p:blipFill>
          <a:blip r:embed="rId3"/>
          <a:srcRect l="6097" t="0" r="0" b="12796"/>
          <a:stretch/>
        </p:blipFill>
        <p:spPr>
          <a:xfrm>
            <a:off x="1042920" y="1413000"/>
            <a:ext cx="3840120" cy="5043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5" name="Picture 8" descr="CCF02112009_00006"/>
          <p:cNvPicPr/>
          <p:nvPr/>
        </p:nvPicPr>
        <p:blipFill>
          <a:blip r:embed="rId4"/>
          <a:srcRect l="10098" t="0" r="0" b="12799"/>
          <a:stretch/>
        </p:blipFill>
        <p:spPr>
          <a:xfrm>
            <a:off x="5003640" y="1413000"/>
            <a:ext cx="3675240" cy="5041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1187280" y="333360"/>
            <a:ext cx="748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рупповая самостоятельная деятельность 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1116000" y="907920"/>
            <a:ext cx="7508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о определению причинно-следственных связей.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38" name="Picture 9" descr="CCF02112009_00002"/>
          <p:cNvPicPr/>
          <p:nvPr/>
        </p:nvPicPr>
        <p:blipFill>
          <a:blip r:embed="rId5"/>
          <a:srcRect l="5053" t="8570" r="2020" b="2902"/>
          <a:stretch/>
        </p:blipFill>
        <p:spPr>
          <a:xfrm>
            <a:off x="1258920" y="1628640"/>
            <a:ext cx="726264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CCF02112009_00000"/>
          <p:cNvPicPr/>
          <p:nvPr/>
        </p:nvPicPr>
        <p:blipFill>
          <a:blip r:embed="rId1"/>
          <a:stretch/>
        </p:blipFill>
        <p:spPr>
          <a:xfrm>
            <a:off x="1116000" y="765000"/>
            <a:ext cx="748512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221304"/>
                </a:solidFill>
                <a:latin typeface="Times New Roman"/>
              </a:rPr>
              <a:t>конец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езентация составлена учителем начальных классов ГБОУ СОШ № 8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омарчук О.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62012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Задача школы состоит в том, чтобы давать определенный минимум знаний, фактов, положений , истин. Но самое главное – научить школьника овладевать методами добывания знаний, приемами исследования и логикой научного мышления, закономерностями познания. Для этого</a:t>
            </a:r>
            <a:br>
              <a:rPr sz="3200"/>
            </a:b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660066"/>
                </a:solidFill>
                <a:latin typeface="Times New Roman"/>
              </a:rPr>
              <a:t>необходимо учить детей самостоятельности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Условия, при которых самостоятельная деятельность младших школьников даст положительные результаты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 они имели знания и умения, которыми потребуется самостоятельно пользовать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ждый новый для них вид работы они сначала осваивают при непосредственном участии учителя, который их обучает соответствующим приемам и порядку действ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е должно даваться так, чтобы учащиеся восприняли его как свою собственную познавательную и практическую цель и активно стремились к лучшим успех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стоятельная деятельность должна иметь развивающее знач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Требования к самостоятельной деятельности младшего школьника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274284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учать на уроках правильным, рациональным приемам самостоятельной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ить, чтобы не было перегруз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ть время на уроке с максимальной продуктивност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еимущества самостоятельного решения пробле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26665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о учит мыслить логич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ует  знания-убеждения, что служит основой формирования научного мировоззр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йствует формированию прочных зн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ует элементарные навыки поисковой, исследов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Рационально организованная и систематическая проводимая учителем на уроках самостоятельная работа способствует: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владению глубокими и прочными знани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изации умственных операц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ю познавательных сил и способностей к интеллектуаль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стоятельному осваиванию современных програм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владению процессом самостоятельного и целенаправленному проектированию своего жизненного пути на основе сформированных ЗУ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CCF02112009_00011"/>
          <p:cNvPicPr/>
          <p:nvPr/>
        </p:nvPicPr>
        <p:blipFill>
          <a:blip r:embed="rId1"/>
          <a:stretch/>
        </p:blipFill>
        <p:spPr>
          <a:xfrm>
            <a:off x="2843280" y="2060640"/>
            <a:ext cx="3203640" cy="439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2" name="AutoShape 10"/>
          <p:cNvSpPr/>
          <p:nvPr/>
        </p:nvSpPr>
        <p:spPr>
          <a:xfrm>
            <a:off x="6373800" y="1916280"/>
            <a:ext cx="2305080" cy="1152360"/>
          </a:xfrm>
          <a:prstGeom prst="wedgeRoundRectCallout">
            <a:avLst>
              <a:gd name="adj1" fmla="val -77481"/>
              <a:gd name="adj2" fmla="val 163222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6443640" y="4221000"/>
            <a:ext cx="2232000" cy="1152720"/>
          </a:xfrm>
          <a:prstGeom prst="wedgeRoundRectCallout">
            <a:avLst>
              <a:gd name="adj1" fmla="val -76814"/>
              <a:gd name="adj2" fmla="val 7190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1187280" y="2205000"/>
            <a:ext cx="1297080" cy="2736720"/>
          </a:xfrm>
          <a:prstGeom prst="wedgeRoundRectCallout">
            <a:avLst>
              <a:gd name="adj1" fmla="val 118787"/>
              <a:gd name="adj2" fmla="val 54930"/>
              <a:gd name="adj3" fmla="val 16667"/>
            </a:avLst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1547640" y="2565360"/>
            <a:ext cx="6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6659640" y="2152800"/>
            <a:ext cx="18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6659640" y="45291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WordArt 23"/>
          <p:cNvSpPr txBox="1"/>
          <p:nvPr/>
        </p:nvSpPr>
        <p:spPr>
          <a:xfrm>
            <a:off x="1066680" y="620640"/>
            <a:ext cx="76201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 над текстами упражнений по русскому языку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187280" y="476280"/>
            <a:ext cx="75679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абота над ошибками по русскому языку.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20" name="Picture 6" descr="CCF02112009_00012"/>
          <p:cNvPicPr/>
          <p:nvPr/>
        </p:nvPicPr>
        <p:blipFill>
          <a:blip r:embed="rId3"/>
          <a:stretch/>
        </p:blipFill>
        <p:spPr>
          <a:xfrm>
            <a:off x="4788000" y="1413000"/>
            <a:ext cx="3894120" cy="4935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1" name="Picture 7" descr="CCF03112009_00000"/>
          <p:cNvPicPr/>
          <p:nvPr/>
        </p:nvPicPr>
        <p:blipFill>
          <a:blip r:embed="rId4"/>
          <a:stretch/>
        </p:blipFill>
        <p:spPr>
          <a:xfrm>
            <a:off x="1116000" y="1341360"/>
            <a:ext cx="3562200" cy="5038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116000" y="404640"/>
            <a:ext cx="755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абота над текстом на уроках чтения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23" name="Picture 5" descr="CCF03112009_00003"/>
          <p:cNvPicPr/>
          <p:nvPr/>
        </p:nvPicPr>
        <p:blipFill>
          <a:blip r:embed="rId3"/>
          <a:stretch/>
        </p:blipFill>
        <p:spPr>
          <a:xfrm>
            <a:off x="1403280" y="1484280"/>
            <a:ext cx="2808360" cy="4940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" name="AutoShape 6"/>
          <p:cNvSpPr/>
          <p:nvPr/>
        </p:nvSpPr>
        <p:spPr>
          <a:xfrm>
            <a:off x="4788000" y="1700280"/>
            <a:ext cx="3816360" cy="1008000"/>
          </a:xfrm>
          <a:prstGeom prst="wedgeRoundRectCallout">
            <a:avLst>
              <a:gd name="adj1" fmla="val -94967"/>
              <a:gd name="adj2" fmla="val 55199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4859280" y="3068640"/>
            <a:ext cx="3745080" cy="1081080"/>
          </a:xfrm>
          <a:prstGeom prst="wedgeRoundRectCallout">
            <a:avLst>
              <a:gd name="adj1" fmla="val -98833"/>
              <a:gd name="adj2" fmla="val -12995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4800600" y="4572000"/>
            <a:ext cx="3745080" cy="1152360"/>
          </a:xfrm>
          <a:prstGeom prst="wedgeRoundRectCallout">
            <a:avLst>
              <a:gd name="adj1" fmla="val -120537"/>
              <a:gd name="adj2" fmla="val -3444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029200" y="49179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99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роверь себя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4952880" y="1981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99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задай вопрос автор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952880" y="33526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99"/>
                </a:solidFill>
                <a:latin typeface="Times New Roman"/>
              </a:rPr>
              <a:t>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ответь на вопрос са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24:40Z</dcterms:created>
  <dc:creator>Ольга</dc:creator>
  <dc:description/>
  <dc:language>en-US</dc:language>
  <cp:lastModifiedBy>Психологи</cp:lastModifiedBy>
  <dcterms:modified xsi:type="dcterms:W3CDTF">2013-09-24T10:23:27Z</dcterms:modified>
  <cp:revision>17</cp:revision>
  <dc:subject/>
  <dc:title>Самостоятельная деятельность младшего школьника.  </dc:title>
</cp:coreProperties>
</file>