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045E-99E1-4938-8F56-F2C2BA2870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225E-37D8-4690-821F-68E9210B4B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31E-2669-41F8-92D0-B9FDFF7E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4D1-0B43-4DE4-9D55-AFB3FB28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D70-A239-4204-AC49-AB1362E6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7FF-CBD0-4945-AF74-EF2F378A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7F66-C33A-4E06-B9DE-E55A3E3C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88A5-E192-436F-96C0-52F2133D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6A83-4AA6-4527-8C5F-414A811D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8FBA-1E8B-49DE-BDDB-B59213B6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CACC-7348-4C54-ABF4-500CC4DF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5574-EFD1-4DDC-9855-81F387DD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35B8-4520-4836-BB79-E92576E3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8BA-DBBE-4E85-8DAA-ED89850C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C1CB-6232-475A-85D4-E522678B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71AA-C582-4F5C-8AD1-3CC25E3C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3B26-43F7-4468-97CA-D2345DFF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0AD2-FA93-4E4E-8C10-880199DB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D2BC-3073-49E7-8AF7-6551DBBB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748-2E17-462E-84C8-01AC98B0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4408-8D31-45E5-B6F3-C5FE7ADB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6BD-D381-4D0E-B12F-51F6E7C4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7F6-8BA0-4E25-ABD2-976009E8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660-395D-491E-9CFF-BB2A3178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893-F799-4B30-88A4-4A3180A8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FB4-EA56-4933-B421-61C20B6B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63BF-390C-47B8-9122-1E44F4C60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50A2-A2B7-48AF-A50A-B7AACB7F1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images.yandex.ru/yandsearch?text=&#1101;&#1083;&#1077;&#1082;&#1090;&#1088;&#1080;&#1095;&#1077;&#1089;&#1082;&#1072;&#1103;%20&#1101;&#1085;&#1077;&#1088;&#1075;&#1080;&#1103;%20&#1082;&#1072;&#1088;&#1090;&#1080;&#1085;&#1082;&#1080;&amp;noreask=1&amp;img_url=http%3A%2F%2Fmyrt.ru%2Fnews%2Fuploads%2Fposts%2F2008-08%2F1218543321_lump.jpg&amp;pos=3&amp;rpt=simage&amp;lr=191&amp;nojs=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282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cc6600"/>
                </a:solidFill>
                <a:latin typeface="Times New Roman"/>
              </a:rPr>
              <a:t>ПРОЕКТ </a:t>
            </a:r>
            <a:br>
              <a:rPr sz="6600"/>
            </a:br>
            <a:r>
              <a:rPr b="1" i="1" lang="en-US" sz="4400" spc="-1" strike="noStrike">
                <a:solidFill>
                  <a:srgbClr val="a26d18"/>
                </a:solidFill>
                <a:latin typeface="Times New Roman"/>
              </a:rPr>
              <a:t>по окружающему миру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3533760"/>
            <a:ext cx="914400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Автор:  ученица </a:t>
            </a:r>
            <a:r>
              <a:rPr b="1" i="1" lang="ru-RU" sz="3200" spc="-1" strike="noStrike">
                <a:solidFill>
                  <a:srgbClr val="cc6600"/>
                </a:solidFill>
                <a:latin typeface="Arial"/>
              </a:rPr>
              <a:t>3</a:t>
            </a: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 «В» кл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гимназии №1 г.Брянс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cc6600"/>
                </a:solidFill>
                <a:latin typeface="Arial"/>
              </a:rPr>
              <a:t>Братусь Дарь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Учитель: Лукутова И. 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395280" y="1197000"/>
            <a:ext cx="856944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ереходе энергии из одной формы в другую часть ее обязательно превращается в тепло, которое рассеивается. Поэтому энергию надо бе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Нагретый утюг или чайник  остывает, и никто не может собрать все это тепло снова. Придется включить утюг, чайник  и опять нагреть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"/>
          <p:cNvSpPr/>
          <p:nvPr/>
        </p:nvSpPr>
        <p:spPr>
          <a:xfrm>
            <a:off x="990720" y="19810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6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24000" y="907560"/>
            <a:ext cx="8424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347400" indent="-347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-347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-347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-347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-347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ша Земля тоже теряет тепло. А на остывшей планете станет так же холодно, как и в космосе. Как же мы будем жит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-347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емля не остынет, потому что она все время получает солнечную энергию в виде света и теп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2376720" cy="1379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95280" y="0"/>
            <a:ext cx="7308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лнечная энергия используется человеком для отопления жилых домов, дач. На крышах домов строят солнечные батаре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4753080" cy="1619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492360" y="4292640"/>
            <a:ext cx="468000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ного изобретений создал человек использую солнечную энерг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2005200" cy="1215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76720" y="3645000"/>
            <a:ext cx="1942920" cy="1174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508720" y="4724280"/>
            <a:ext cx="2087640" cy="117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3628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6600"/>
                </a:solidFill>
                <a:latin typeface="Arial"/>
              </a:rPr>
              <a:t>В</a:t>
            </a:r>
            <a:r>
              <a:rPr b="1" lang="en-US" sz="6600" spc="-1" strike="noStrike">
                <a:solidFill>
                  <a:srgbClr val="cc6600"/>
                </a:solidFill>
                <a:latin typeface="comic"/>
              </a:rPr>
              <a:t>ыводы :</a:t>
            </a:r>
            <a:br>
              <a:rPr sz="6600"/>
            </a:br>
            <a:endParaRPr b="1" lang="en-US" sz="6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В ходе создания своего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я хотела рассказать об энергии, о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использовании энергии человеком,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          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о сохранении энерг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          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Человек должен энергию беречь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900000" y="44370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6600"/>
                </a:solidFill>
                <a:latin typeface="Arial"/>
              </a:rPr>
              <a:t>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i="1" lang="en-US" sz="7200" spc="-1" strike="noStrike">
                <a:solidFill>
                  <a:srgbClr val="cc6600"/>
                </a:solidFill>
                <a:latin typeface="Arial"/>
              </a:rPr>
              <a:t>ТЕМА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Arial"/>
              </a:rPr>
              <a:t>             </a:t>
            </a:r>
            <a:r>
              <a:rPr b="1" i="1" lang="en-US" sz="4400" spc="-1" strike="noStrike">
                <a:solidFill>
                  <a:srgbClr val="cc6600"/>
                </a:solidFill>
                <a:latin typeface="Arial"/>
              </a:rPr>
              <a:t>« Энергия. Солнечная энергия.  Использование энергии  в быту.</a:t>
            </a:r>
            <a:r>
              <a:rPr b="1" i="1" lang="en-US" sz="4400" spc="-1" strike="noStrike">
                <a:solidFill>
                  <a:srgbClr val="cc6600"/>
                </a:solidFill>
                <a:latin typeface="comic"/>
              </a:rPr>
              <a:t> 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comic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i="1" lang="ru-RU" sz="7200" spc="-1" strike="noStrike">
                <a:solidFill>
                  <a:srgbClr val="cc6600"/>
                </a:solidFill>
                <a:latin typeface="Arial"/>
              </a:rPr>
              <a:t>Вопросы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Что такое энергия</a:t>
            </a:r>
            <a:r>
              <a:rPr b="1" i="1" lang="en-US" sz="3600" spc="-1" strike="noStrike">
                <a:solidFill>
                  <a:srgbClr val="cc66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Закон сохранения энерг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спользование энергии в быту</a:t>
            </a:r>
            <a:r>
              <a:rPr b="1" i="1" lang="en-US" sz="3600" spc="-1" strike="noStrike">
                <a:solidFill>
                  <a:srgbClr val="cc66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35640" y="4724280"/>
            <a:ext cx="2004840" cy="1365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Рисунок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419640" y="1052640"/>
            <a:ext cx="4763880" cy="49100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6600"/>
                </a:solidFill>
                <a:latin typeface="Arial"/>
              </a:rPr>
              <a:t>ЦЕЛЬ : </a:t>
            </a:r>
            <a:endParaRPr b="1" lang="en-US" sz="6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00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1.Сформировать и расширить представление об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2. Рассмотреть закон сохранения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3. Узнать как производится электрическая энерг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4. Как использует человек энергию в бы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6600"/>
                </a:solidFill>
                <a:latin typeface="Times New Roman"/>
              </a:rPr>
              <a:t>План работы:</a:t>
            </a:r>
            <a:endParaRPr b="1" lang="en-US" sz="6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Aharoni"/>
              </a:rPr>
              <a:t>Изучить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литературу. Использовать </a:t>
            </a:r>
            <a:r>
              <a:rPr b="1" i="1" lang="en-US" sz="2800" spc="-1" strike="noStrike">
                <a:solidFill>
                  <a:srgbClr val="cc6600"/>
                </a:solidFill>
                <a:latin typeface="Aharoni"/>
              </a:rPr>
              <a:t> энциклопед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Aharoni"/>
              </a:rPr>
              <a:t>Использовать материал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по теме</a:t>
            </a:r>
            <a:r>
              <a:rPr b="1" i="1" lang="en-US" sz="2800" spc="-1" strike="noStrike">
                <a:solidFill>
                  <a:srgbClr val="cc6600"/>
                </a:solidFill>
                <a:latin typeface="Aharoni"/>
              </a:rPr>
              <a:t> из интерне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клип0015"/>
          <p:cNvPicPr/>
          <p:nvPr/>
        </p:nvPicPr>
        <p:blipFill>
          <a:blip r:embed="rId3"/>
          <a:stretch/>
        </p:blipFill>
        <p:spPr>
          <a:xfrm>
            <a:off x="6357960" y="4076640"/>
            <a:ext cx="2390760" cy="244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64000" y="3789360"/>
            <a:ext cx="331344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2"/>
          <p:cNvSpPr/>
          <p:nvPr/>
        </p:nvSpPr>
        <p:spPr>
          <a:xfrm>
            <a:off x="4211640" y="3213000"/>
            <a:ext cx="5467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250920" y="620640"/>
            <a:ext cx="424980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84601"/>
                </a:solidFill>
                <a:latin typeface="Arial"/>
              </a:rPr>
              <a:t>Что такое энергия</a:t>
            </a:r>
            <a:r>
              <a:rPr b="1" lang="en-US" sz="3200" spc="-1" strike="noStrike">
                <a:solidFill>
                  <a:srgbClr val="684601"/>
                </a:solidFill>
                <a:latin typeface="Arial"/>
              </a:rPr>
              <a:t>?</a:t>
            </a:r>
            <a:r>
              <a:rPr b="1" lang="ru-RU" sz="3200" spc="-1" strike="noStrike">
                <a:solidFill>
                  <a:srgbClr val="68460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4601"/>
                </a:solidFill>
                <a:latin typeface="Monotype Corsiva"/>
              </a:rPr>
              <a:t>Определенного понятия энергии нет. Энергия  электричества заставляет двигаться игрушку. Энергия пищи  превратилась в тепло человеческого тела. Энергия падающей воды превратилась в электрическую  энергию, а электрическая – в световую энергию ламп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3809880" cy="499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81400" y="2404800"/>
            <a:ext cx="2504880" cy="20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763560"/>
            <a:ext cx="9144000" cy="114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Ученые давно замечали, что  использование энергии всегда проводит  к какому-нибудь движению, действию, изменению. После долгих  исследований они открыли закон сохранения 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Энергия никогда не возникает из ничего и не исчезает бесследно. Но она может изменяться и переходить из одной формы в другую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84720" y="4869000"/>
            <a:ext cx="1932120" cy="142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762120" y="228600"/>
            <a:ext cx="7543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2484360" y="1413000"/>
            <a:ext cx="37688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ассмотрим появление  энергии для игр у детей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6"/>
          <p:cNvSpPr/>
          <p:nvPr/>
        </p:nvSpPr>
        <p:spPr>
          <a:xfrm>
            <a:off x="2935440" y="286704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4"/>
          <p:cNvSpPr/>
          <p:nvPr/>
        </p:nvSpPr>
        <p:spPr>
          <a:xfrm>
            <a:off x="1476360" y="2349360"/>
            <a:ext cx="648828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нергия солнц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нергия, запасенная в веществе раст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нергия, запасенная в мол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ход энергии  на игры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2"/>
          <p:cNvSpPr/>
          <p:nvPr/>
        </p:nvSpPr>
        <p:spPr>
          <a:xfrm>
            <a:off x="2438280" y="4724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494320" y="4653000"/>
            <a:ext cx="311004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609480" y="53352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762120" y="1125360"/>
            <a:ext cx="57150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Электричество производится на электростанциях. Существуют различные виды электростанций, но самыми распространенными в мире являются тепловые, атомные и гидроэлектроста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32360" y="3212280"/>
            <a:ext cx="2814480" cy="2102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2448000" cy="1633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7T09:17:19Z</dcterms:created>
  <dc:creator>Дом</dc:creator>
  <dc:description/>
  <dc:language>en-US</dc:language>
  <cp:lastModifiedBy>Пользователь</cp:lastModifiedBy>
  <cp:lastPrinted>2012-04-05T13:05:32Z</cp:lastPrinted>
  <dcterms:modified xsi:type="dcterms:W3CDTF">2013-01-30T18:13:52Z</dcterms:modified>
  <cp:revision>142</cp:revision>
  <dc:subject/>
  <dc:title>Почему Солнце не везде        греет одинаково?</dc:title>
</cp:coreProperties>
</file>