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3EF-2C41-4B9F-A8E5-7F99CF44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CD8-BDB0-4917-8028-13BA4EAE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05F-F020-43E2-9C8C-6B1F173E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536-B167-4419-8810-8CC8E7F0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0D71-C592-4A69-905E-FF03C092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FE96-B76A-4562-80EB-D7BB3F80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F1ED-2E60-4310-B891-71F1375E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807A-D5C2-4FAE-88CD-2F94A75F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2747-FF16-4BC9-AC4B-0139E942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5DA7-29F3-4E1F-B00C-BA2384C0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CADD-D364-462C-A569-5873678B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0B8-8D5F-484D-B4A3-174ADD28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2802-C965-45BA-A304-3FA94A9D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E21F-9B62-4D41-A4B2-20E3599C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5C92-4140-4ED8-803B-2684D16E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7ED7-21C5-43DD-B750-35CFE794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D557-6386-49B3-A343-A8C075FF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A9C95-B58F-4D04-80D9-F0030F7C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CBE78-0006-415D-8234-CE717442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0408-09E7-4A48-A911-77DB868F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2760A-E64F-4AF6-94C3-A903C721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0C91E-AA85-4641-9DBC-CC92F0E6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0B4-1C1D-43C2-A976-E148B6C9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72641-FDFB-4EF1-B5E8-FAEF8654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897B-A0C0-485F-BF6D-B57B5F70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C8A5C-57A5-4CBE-8305-389986BB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298BB-0D8C-4AEB-BFC1-EA1A4D0E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9C376-3CC7-427C-8A33-2F5188CE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DE80-A2EA-420A-94D8-8B333E0F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5D1C-FDFD-456D-B2B1-4A310038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E7916-1DBE-4E7E-81DF-986856B3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386F9-F53F-470C-A049-509EA7A2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A2ED8-5912-4602-B8BC-21846249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E98-981C-44BE-BDB1-2C535BDF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B7C39-ADB2-4F00-86AB-BD53256D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60CCE-95E5-4C62-8AE9-A98A2B5E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5CAFC-3566-4AAC-89AC-480787A2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C2322-6214-48EF-90BF-FE6A4D5D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98EF0-0BBF-48E1-B0B1-2192D110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BC1B0-6063-4921-991D-309A799D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673E8-58E5-408B-8E2F-737CA318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23CBB-3BC1-46EB-9BE3-CED40463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2DE40-4818-4ABB-B7CF-4B85FEDF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76210-5503-4ABB-95F5-C5FF9F96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7F1-1E84-4909-B0F8-0D6EDAB4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19EBF-2DB4-4B36-8221-4564BDC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5E24F-D18E-4B3D-A63B-3AB24A7F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65DF8-BE20-47B1-B481-5CF99CF9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7AF25-27BF-4942-B096-92CCF039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322D6-8427-484F-8924-F4D0CDF1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B1AF7-3C18-459B-9A19-5F3B78AF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12155-D8BE-49C1-B905-707A580D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6A854-AE32-4D18-8636-4E7692A0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EB95B-09DD-4D2D-9BA8-BA7C0798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20557-6A0E-43BB-BFE8-6F58D78E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F2A-5D92-48B5-98BC-6A03A786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87C2E-054E-4302-BBC4-F724D81B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9F36D-ED9F-4808-87BD-1516CD8D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4883E-CBFC-4DDE-9FFA-5CBC7C7F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F1B11-C8A6-4182-87CE-FD87E4B7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C1DF5-5642-4102-8299-550E173F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F4E71-1B3B-440A-AA3F-C69B59AB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E260F-3196-4A4D-80F7-EB1667BC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345EA-4B51-4512-9C99-E16B40B7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FD807-5B3B-487D-A223-72A85476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75A80-CD0E-408D-B53A-5194F7A8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95C-6E65-4FDC-BB67-338E877E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A11E7-BC94-4E7C-AAB0-741D3606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D96C8-ADFD-42DF-9CAF-BA4BC1D0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BAB8C-4055-407D-9100-1D26FC7F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FE0D6-F6A7-46C9-8394-ED35640F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AF056-71A6-410B-A922-0095503C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A298E-E48A-4048-9024-585B9BDA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94ED5-5644-4427-B858-09BA0140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F8904-EEEF-4665-B47A-87FC0AF4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DBADD-B8D2-4F8B-AD9D-AE2814FF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99D47-1EC5-49D1-87B7-7C406AB2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BF5-1705-4FA4-AEF9-ECA8C3A8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F4E80-AC98-40F5-893D-0A327A4C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4A17E-A466-4179-A26B-9C7A5D64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56129-137D-4C05-BDEC-42522EAE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7FE56-488E-4AA8-8E2F-B660FB9A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581C1-C1D3-4655-A5B3-58AA7511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2A7-08C5-4DF3-8786-D9896729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B074-60A2-48A3-B41E-891AAEC8C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8DED-BE56-4F84-A2CC-691F0B4A1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8E17-9460-48FC-A9DF-B03B9B4A91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1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DF76-7ABE-4C39-A18B-B9B83B0B58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284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3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4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BBA6-F42C-4513-B008-17ACA61CC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330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7576-D920-43E9-B6AE-0CFC9FB92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88CA-D2B3-4281-9ECC-D420A76ED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578.WAV" TargetMode="External"/><Relationship Id="rId2" Type="http://schemas.microsoft.com/office/2007/relationships/media" Target="file:///tmp/home/.config/libreoffice/4/user/gallery/~PP3578.WA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600200" y="380880"/>
            <a:ext cx="527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380880"/>
            <a:ext cx="6781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20520" y="2362320"/>
            <a:ext cx="62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7d47d"/>
                </a:solidFill>
                <a:uFillTx/>
                <a:latin typeface="Times New Roman"/>
              </a:rPr>
              <a:t>по теме </a:t>
            </a:r>
            <a:r>
              <a:rPr b="1" i="1" lang="en-US" sz="2800" spc="-1" strike="noStrike" u="sng">
                <a:solidFill>
                  <a:srgbClr val="f7d47d"/>
                </a:solidFill>
                <a:uFillTx/>
                <a:latin typeface="Times New Roman"/>
              </a:rPr>
              <a:t>:” </a:t>
            </a:r>
            <a:r>
              <a:rPr b="1" i="1" lang="ru-RU" sz="2800" spc="-1" strike="noStrike" u="sng">
                <a:solidFill>
                  <a:srgbClr val="f7d47d"/>
                </a:solidFill>
                <a:uFillTx/>
                <a:latin typeface="Times New Roman"/>
              </a:rPr>
              <a:t>ЧЕТЫРЁХУГОЛЬНИКИ </a:t>
            </a:r>
            <a:r>
              <a:rPr b="1" i="1" lang="en-US" sz="2800" spc="-1" strike="noStrike" u="sng">
                <a:solidFill>
                  <a:srgbClr val="f7d47d"/>
                </a:solidFill>
                <a:uFillTx/>
                <a:latin typeface="Times New Roman"/>
              </a:rPr>
              <a:t>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29000" y="1600200"/>
            <a:ext cx="321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09680" y="35053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7d47d"/>
                </a:solidFill>
                <a:uFillTx/>
                <a:latin typeface="Times New Roman"/>
              </a:rPr>
              <a:t>ТРАПЕЦИЯ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9144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7d47d"/>
                </a:solidFill>
                <a:uFillTx/>
                <a:latin typeface="Times New Roman"/>
              </a:rPr>
              <a:t>ПРОВЕРОЧНАЯ РАБОТА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2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вивающие кан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609480" y="5029200"/>
          <a:ext cx="3353040" cy="155268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5257800" y="1371600"/>
          <a:ext cx="3276720" cy="155268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ро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чер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609480" y="3019320"/>
          <a:ext cx="3352680" cy="1920600"/>
        </p:xfrm>
        <a:graphic>
          <a:graphicData uri="http://schemas.openxmlformats.org/drawingml/2006/table">
            <a:tbl>
              <a:tblPr/>
              <a:tblGrid>
                <a:gridCol w="1677240"/>
                <a:gridCol w="167544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5334120" y="3200400"/>
          <a:ext cx="3198600" cy="2391840"/>
        </p:xfrm>
        <a:graphic>
          <a:graphicData uri="http://schemas.openxmlformats.org/drawingml/2006/table">
            <a:tbl>
              <a:tblPr/>
              <a:tblGrid>
                <a:gridCol w="1599120"/>
                <a:gridCol w="159948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609480" y="1371600"/>
          <a:ext cx="3353040" cy="155268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ень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а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на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"/>
          <p:cNvSpPr/>
          <p:nvPr/>
        </p:nvSpPr>
        <p:spPr>
          <a:xfrm>
            <a:off x="5486400" y="3429000"/>
            <a:ext cx="1295280" cy="343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91320" y="4114800"/>
            <a:ext cx="6094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523480" y="4839120"/>
            <a:ext cx="1372320" cy="571320"/>
            <a:chOff x="5523480" y="4839120"/>
            <a:chExt cx="1372320" cy="571320"/>
          </a:xfrm>
        </p:grpSpPr>
        <p:sp>
          <p:nvSpPr>
            <p:cNvPr id="532" name=""/>
            <p:cNvSpPr/>
            <p:nvPr/>
          </p:nvSpPr>
          <p:spPr>
            <a:xfrm flipH="1">
              <a:off x="5523480" y="4839120"/>
              <a:ext cx="45684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523840" y="5410440"/>
              <a:ext cx="137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80680" y="4839120"/>
              <a:ext cx="9151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914400" y="51055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38080" y="5562720"/>
            <a:ext cx="1214640" cy="4572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10800000">
            <a:off x="838080" y="6095520"/>
            <a:ext cx="1214640" cy="38124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83880 h 381240"/>
              <a:gd name="textAreaBottom" fmla="*/ 2973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 advTm="13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419720" cy="25909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4833000" y="30492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 Script"/>
              </a:rPr>
              <a:t>ТРАПЕЦИ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380880"/>
            <a:ext cx="12956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380880"/>
            <a:ext cx="457200" cy="152424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1828440" y="380880"/>
            <a:ext cx="152280" cy="152424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1905120"/>
            <a:ext cx="190512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597320" y="1905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76960" y="1905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71120" y="152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4200" y="152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19760" y="1981080"/>
            <a:ext cx="96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ис. 1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200400"/>
            <a:ext cx="601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Segoe Print"/>
              </a:rPr>
              <a:t>ТРАПЕЦИЯ – ЭТО </a:t>
            </a:r>
            <a:r>
              <a:rPr b="1" lang="en-US" sz="1800" spc="-1" strike="noStrike">
                <a:solidFill>
                  <a:srgbClr val="009900"/>
                </a:solidFill>
                <a:latin typeface="Segoe Print"/>
              </a:rPr>
              <a:t>*,</a:t>
            </a:r>
            <a:r>
              <a:rPr b="1" lang="ru-RU" sz="1800" spc="-1" strike="noStrike">
                <a:solidFill>
                  <a:srgbClr val="009900"/>
                </a:solidFill>
                <a:latin typeface="Segoe Print"/>
              </a:rPr>
              <a:t> У КОТОРОГО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ПАРАЛЛЕЛЬНЫ</a:t>
            </a:r>
            <a:r>
              <a:rPr b="1" lang="en-US" sz="1800" spc="-1" strike="noStrike">
                <a:solidFill>
                  <a:srgbClr val="009900"/>
                </a:solidFill>
                <a:latin typeface="Segoe Print"/>
              </a:rPr>
              <a:t>,</a:t>
            </a:r>
            <a:r>
              <a:rPr b="1" lang="ru-RU" sz="1800" spc="-1" strike="noStrike">
                <a:solidFill>
                  <a:srgbClr val="009900"/>
                </a:solidFill>
                <a:latin typeface="Segoe Print"/>
              </a:rPr>
              <a:t> А ДВЕ ДРУГИЕ СТОРОНЫ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Segoe Print"/>
              </a:rPr>
              <a:t>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Segoe Print"/>
              </a:rPr>
              <a:t>BC, AD –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r>
              <a:rPr b="1" lang="ru-RU" sz="1800" spc="-1" strike="noStrike">
                <a:solidFill>
                  <a:srgbClr val="009900"/>
                </a:solidFill>
                <a:latin typeface="Segoe Print"/>
              </a:rPr>
              <a:t> ТРАПЕЦИ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Segoe Print"/>
              </a:rPr>
              <a:t>AB, CD –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r>
              <a:rPr b="1" lang="ru-RU" sz="1800" spc="-1" strike="noStrike">
                <a:solidFill>
                  <a:srgbClr val="009900"/>
                </a:solidFill>
                <a:latin typeface="Segoe Print"/>
              </a:rPr>
              <a:t> СТОРОНЫ ТРАПЕЦИИ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Segoe Print"/>
              </a:rPr>
              <a:t>(РИС.1)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 advTm="10000">
    <p:wheel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750"/>
                            </p:stCondLst>
                            <p:childTnLst>
                              <p:par>
                                <p:cTn id="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75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99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63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55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4570560" y="0"/>
            <a:ext cx="4573440" cy="31719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762440" y="228600"/>
            <a:ext cx="16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Виды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трапеций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28800" y="34290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6699"/>
                </a:solidFill>
                <a:uFillTx/>
                <a:latin typeface="Comic Sans MS"/>
              </a:rPr>
              <a:t>КРОМЕ ОБЫЧНОЙ ТРАПЕЦИИ СУЩЕСТВУЕТ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6699"/>
                </a:solidFill>
                <a:uFillTx/>
                <a:latin typeface="Comic Sans MS"/>
              </a:rPr>
              <a:t> </a:t>
            </a:r>
            <a:r>
              <a:rPr b="1" lang="ru-RU" sz="1800" spc="-1" strike="noStrike" u="sng">
                <a:solidFill>
                  <a:srgbClr val="336699"/>
                </a:solidFill>
                <a:uFillTx/>
                <a:latin typeface="Comic Sans MS"/>
              </a:rPr>
              <a:t>ЕЩЁ ДВА ВИДА ТРАПЕЦИИ</a:t>
            </a:r>
            <a:r>
              <a:rPr b="1" lang="en-US" sz="1800" spc="-1" strike="noStrike" u="sng">
                <a:solidFill>
                  <a:srgbClr val="336699"/>
                </a:solidFill>
                <a:uFillTx/>
                <a:latin typeface="Comic Sans MS"/>
              </a:rPr>
              <a:t>: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6699"/>
                </a:solidFill>
                <a:uFillTx/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6699"/>
                </a:solidFill>
                <a:uFillTx/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 advTm="10000">
    <p:wheel spokes="3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2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245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95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695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Segoe Print"/>
              </a:rPr>
              <a:t>Равнобедренная трапе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0800000">
            <a:off x="380880" y="1600200"/>
            <a:ext cx="2438640" cy="1828800"/>
          </a:xfrm>
          <a:custGeom>
            <a:avLst/>
            <a:gdLst>
              <a:gd name="textAreaLeft" fmla="*/ 536040 w 2438640"/>
              <a:gd name="textAreaRight" fmla="*/ 1902600 w 2438640"/>
              <a:gd name="textAreaTop" fmla="*/ 402120 h 1828800"/>
              <a:gd name="textAreaBottom" fmla="*/ 14266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540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760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135520" y="1371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74500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36196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56480" y="3809880"/>
            <a:ext cx="8458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Segoe Print"/>
              </a:rPr>
              <a:t>ТРАПЕЦИЯ НАЗЫВАЕТСЯ РАВНОБЕДРЕННОЙ</a:t>
            </a:r>
            <a:r>
              <a:rPr b="1" lang="en-US" sz="1600" spc="-1" strike="noStrike">
                <a:solidFill>
                  <a:srgbClr val="336699"/>
                </a:solidFill>
                <a:latin typeface="Segoe Print"/>
              </a:rPr>
              <a:t>,</a:t>
            </a:r>
            <a:r>
              <a:rPr b="1" lang="ru-RU" sz="1600" spc="-1" strike="noStrike">
                <a:solidFill>
                  <a:srgbClr val="336699"/>
                </a:solidFill>
                <a:latin typeface="Segoe Print"/>
              </a:rPr>
              <a:t>ЕСЛИ ЕЁ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Segoe Print"/>
              </a:rPr>
              <a:t>СТОРОНЫ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r>
              <a:rPr b="1" lang="ru-RU" sz="1600" spc="-1" strike="noStrike">
                <a:solidFill>
                  <a:srgbClr val="336699"/>
                </a:solidFill>
                <a:latin typeface="Segoe Print"/>
              </a:rPr>
              <a:t>.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6699"/>
                </a:solidFill>
                <a:uFillTx/>
                <a:latin typeface="Arial"/>
              </a:rPr>
              <a:t>Свойства равнобедренной трапеции</a:t>
            </a:r>
            <a:r>
              <a:rPr b="1" lang="en-US" sz="1800" spc="-1" strike="noStrike" u="sng">
                <a:solidFill>
                  <a:srgbClr val="336699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В равнобедренной трапеции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при каждом основании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В равнобедренной трапеции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равны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6699"/>
                </a:solidFill>
                <a:uFillTx/>
                <a:latin typeface="Arial"/>
              </a:rPr>
              <a:t>Признаки равнобедренной трапеции</a:t>
            </a:r>
            <a:r>
              <a:rPr b="1" lang="en-US" sz="1800" spc="-1" strike="noStrike" u="sng">
                <a:solidFill>
                  <a:srgbClr val="336699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сли в трапеции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ри каждом основании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то трапеция равнобедренная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сли в трапеции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равны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то трапеция равнобедренная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0800000">
            <a:off x="5181480" y="1600200"/>
            <a:ext cx="2438640" cy="1828800"/>
          </a:xfrm>
          <a:custGeom>
            <a:avLst/>
            <a:gdLst>
              <a:gd name="textAreaLeft" fmla="*/ 536040 w 2438640"/>
              <a:gd name="textAreaRight" fmla="*/ 1902600 w 2438640"/>
              <a:gd name="textAreaTop" fmla="*/ 402120 h 1828800"/>
              <a:gd name="textAreaBottom" fmla="*/ 14266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468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8820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936120" y="1371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4560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1600200"/>
            <a:ext cx="1828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5181480" y="1600200"/>
            <a:ext cx="1828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312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315200" y="3065400"/>
            <a:ext cx="193680" cy="355680"/>
          </a:xfrm>
          <a:custGeom>
            <a:avLst/>
            <a:gdLst/>
            <a:ahLst/>
            <a:rect l="l" t="t" r="r" b="b"/>
            <a:pathLst>
              <a:path w="122" h="224">
                <a:moveTo>
                  <a:pt x="122" y="0"/>
                </a:moveTo>
                <a:cubicBezTo>
                  <a:pt x="58" y="22"/>
                  <a:pt x="64" y="40"/>
                  <a:pt x="27" y="95"/>
                </a:cubicBezTo>
                <a:cubicBezTo>
                  <a:pt x="18" y="109"/>
                  <a:pt x="0" y="120"/>
                  <a:pt x="0" y="136"/>
                </a:cubicBezTo>
                <a:cubicBezTo>
                  <a:pt x="0" y="165"/>
                  <a:pt x="0" y="195"/>
                  <a:pt x="0" y="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905520" y="1623960"/>
            <a:ext cx="150840" cy="130320"/>
          </a:xfrm>
          <a:custGeom>
            <a:avLst/>
            <a:gdLst/>
            <a:ahLst/>
            <a:rect l="l" t="t" r="r" b="b"/>
            <a:pathLst>
              <a:path w="95" h="82">
                <a:moveTo>
                  <a:pt x="0" y="0"/>
                </a:moveTo>
                <a:cubicBezTo>
                  <a:pt x="6" y="42"/>
                  <a:pt x="1" y="59"/>
                  <a:pt x="34" y="82"/>
                </a:cubicBezTo>
                <a:cubicBezTo>
                  <a:pt x="54" y="77"/>
                  <a:pt x="74" y="68"/>
                  <a:pt x="95" y="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45240" y="1623960"/>
            <a:ext cx="193680" cy="176400"/>
          </a:xfrm>
          <a:custGeom>
            <a:avLst/>
            <a:gdLst/>
            <a:ahLst/>
            <a:rect l="l" t="t" r="r" b="b"/>
            <a:pathLst>
              <a:path w="122" h="111">
                <a:moveTo>
                  <a:pt x="0" y="88"/>
                </a:moveTo>
                <a:cubicBezTo>
                  <a:pt x="33" y="111"/>
                  <a:pt x="65" y="101"/>
                  <a:pt x="101" y="88"/>
                </a:cubicBezTo>
                <a:cubicBezTo>
                  <a:pt x="121" y="59"/>
                  <a:pt x="122" y="35"/>
                  <a:pt x="1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91240" y="1600200"/>
            <a:ext cx="404640" cy="307800"/>
          </a:xfrm>
          <a:custGeom>
            <a:avLst/>
            <a:gdLst/>
            <a:ahLst/>
            <a:rect l="l" t="t" r="r" b="b"/>
            <a:pathLst>
              <a:path w="210" h="158">
                <a:moveTo>
                  <a:pt x="0" y="155"/>
                </a:moveTo>
                <a:cubicBezTo>
                  <a:pt x="61" y="153"/>
                  <a:pt x="123" y="158"/>
                  <a:pt x="183" y="149"/>
                </a:cubicBezTo>
                <a:cubicBezTo>
                  <a:pt x="190" y="148"/>
                  <a:pt x="187" y="135"/>
                  <a:pt x="189" y="128"/>
                </a:cubicBezTo>
                <a:cubicBezTo>
                  <a:pt x="198" y="88"/>
                  <a:pt x="210" y="41"/>
                  <a:pt x="21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773760" y="1612800"/>
            <a:ext cx="316080" cy="300240"/>
          </a:xfrm>
          <a:custGeom>
            <a:avLst/>
            <a:gdLst/>
            <a:ahLst/>
            <a:rect l="l" t="t" r="r" b="b"/>
            <a:pathLst>
              <a:path w="199" h="189">
                <a:moveTo>
                  <a:pt x="2" y="0"/>
                </a:moveTo>
                <a:cubicBezTo>
                  <a:pt x="4" y="52"/>
                  <a:pt x="0" y="105"/>
                  <a:pt x="9" y="156"/>
                </a:cubicBezTo>
                <a:cubicBezTo>
                  <a:pt x="10" y="163"/>
                  <a:pt x="22" y="161"/>
                  <a:pt x="29" y="163"/>
                </a:cubicBezTo>
                <a:cubicBezTo>
                  <a:pt x="56" y="171"/>
                  <a:pt x="83" y="178"/>
                  <a:pt x="111" y="183"/>
                </a:cubicBezTo>
                <a:cubicBezTo>
                  <a:pt x="138" y="180"/>
                  <a:pt x="173" y="189"/>
                  <a:pt x="192" y="170"/>
                </a:cubicBezTo>
                <a:cubicBezTo>
                  <a:pt x="197" y="165"/>
                  <a:pt x="199" y="150"/>
                  <a:pt x="199" y="1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70400" y="3076560"/>
            <a:ext cx="227160" cy="333360"/>
          </a:xfrm>
          <a:custGeom>
            <a:avLst/>
            <a:gdLst/>
            <a:ahLst/>
            <a:rect l="l" t="t" r="r" b="b"/>
            <a:pathLst>
              <a:path w="143" h="210">
                <a:moveTo>
                  <a:pt x="0" y="41"/>
                </a:moveTo>
                <a:cubicBezTo>
                  <a:pt x="17" y="16"/>
                  <a:pt x="30" y="17"/>
                  <a:pt x="55" y="0"/>
                </a:cubicBezTo>
                <a:cubicBezTo>
                  <a:pt x="66" y="36"/>
                  <a:pt x="86" y="35"/>
                  <a:pt x="122" y="41"/>
                </a:cubicBezTo>
                <a:cubicBezTo>
                  <a:pt x="141" y="95"/>
                  <a:pt x="143" y="153"/>
                  <a:pt x="143" y="2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716256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 advTm="13000">
    <p:checke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1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1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10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74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14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98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26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406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30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658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22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259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0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1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2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bb95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*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Segoe Print"/>
              </a:rPr>
              <a:t>ТРАПЕ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1371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13716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676520" y="1371600"/>
            <a:ext cx="83808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2680" y="2971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2680" y="106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525680" y="106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440080" y="29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819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1600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762120" y="1371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88620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Segoe Print"/>
              </a:rPr>
              <a:t>ТРАПЕЦИЯ</a:t>
            </a:r>
            <a:r>
              <a:rPr b="1" lang="en-US" sz="1800" spc="-1" strike="noStrike">
                <a:solidFill>
                  <a:srgbClr val="336699"/>
                </a:solidFill>
                <a:latin typeface="Segoe Print"/>
              </a:rPr>
              <a:t>,</a:t>
            </a:r>
            <a:r>
              <a:rPr b="1" lang="ru-RU" sz="1800" spc="-1" strike="noStrike">
                <a:solidFill>
                  <a:srgbClr val="336699"/>
                </a:solidFill>
                <a:latin typeface="Segoe Print"/>
              </a:rPr>
              <a:t> ОДИН ИЗ УГЛОВ КОТОРОЙ ПРЯМОЙ</a:t>
            </a:r>
            <a:r>
              <a:rPr b="1" lang="en-US" sz="1800" spc="-1" strike="noStrike">
                <a:solidFill>
                  <a:srgbClr val="336699"/>
                </a:solidFill>
                <a:latin typeface="Segoe Print"/>
              </a:rPr>
              <a:t>,</a:t>
            </a:r>
            <a:r>
              <a:rPr b="1" lang="ru-RU" sz="1800" spc="-1" strike="noStrike">
                <a:solidFill>
                  <a:srgbClr val="336699"/>
                </a:solidFill>
                <a:latin typeface="Segoe Print"/>
              </a:rPr>
              <a:t> НАЗЫВАЕТСЯ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r>
              <a:rPr b="1" lang="ru-RU" sz="1800" spc="-1" strike="noStrike">
                <a:solidFill>
                  <a:srgbClr val="336699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 advTm="13000">
    <p:checker dir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ГОВОРИТ УЧ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3583080" cy="25905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5181480" y="1447920"/>
            <a:ext cx="3733920" cy="2590560"/>
          </a:xfrm>
          <a:prstGeom prst="wedgeEllipseCallout">
            <a:avLst>
              <a:gd name="adj1" fmla="val -77041"/>
              <a:gd name="adj2" fmla="val 37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РЕБЯТА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ДАВАЙТЕ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ОГОВОРИМ О СРЕДНЕЙ ЛИНИИ ТРАПЕЦИИ И ЕЁ СВОЙСТВАХ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29718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Print"/>
              </a:rPr>
              <a:t>СРЕДНЯЯ ЛИНИЯ ТРАПЕЦИИ И ЕЁ СВОЙСТВА.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 advTm="13000">
    <p:checker dir="horz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49360" y="22824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СРЕДНЯЯ ЛИНИЯ ТРАПЕЦИИ И ЕЁ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             СВОЙСТВА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0800000">
            <a:off x="1752480" y="1752480"/>
            <a:ext cx="2286000" cy="1524240"/>
          </a:xfrm>
          <a:custGeom>
            <a:avLst/>
            <a:gdLst>
              <a:gd name="textAreaLeft" fmla="*/ 502560 w 2286000"/>
              <a:gd name="textAreaRight" fmla="*/ 1783440 w 2286000"/>
              <a:gd name="textAreaTop" fmla="*/ 335160 h 1524240"/>
              <a:gd name="textAreaBottom" fmla="*/ 11890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057400" y="2438280"/>
            <a:ext cx="167652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7832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82880" y="1447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0" y="1447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8800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738440" y="20937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659400" y="21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809880" y="2743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504960" y="1981080"/>
            <a:ext cx="15228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209680" y="1905120"/>
            <a:ext cx="1526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2057400"/>
            <a:ext cx="15228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05120" y="26668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81080" y="25146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28800" y="388620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Century Gothic"/>
              </a:rPr>
              <a:t>Средняя линия трапеции – отрезок</a:t>
            </a:r>
            <a:r>
              <a:rPr b="1" i="1" lang="en-US" sz="1800" spc="-1" strike="noStrike">
                <a:solidFill>
                  <a:srgbClr val="cc00ff"/>
                </a:solidFill>
                <a:latin typeface="Century Gothic"/>
              </a:rPr>
              <a:t>,</a:t>
            </a:r>
            <a:r>
              <a:rPr b="1" i="1" lang="ru-RU" sz="1800" spc="-1" strike="noStrike">
                <a:solidFill>
                  <a:srgbClr val="cc00ff"/>
                </a:solidFill>
                <a:latin typeface="Century Gothic"/>
              </a:rPr>
              <a:t>соединяющий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r>
              <a:rPr b="1" i="1" lang="ru-RU" sz="1800" spc="-1" strike="noStrike">
                <a:solidFill>
                  <a:srgbClr val="cc00ff"/>
                </a:solidFill>
                <a:latin typeface="Century Gothic"/>
              </a:rPr>
              <a:t> боковых сторон трапеции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ff"/>
                </a:solidFill>
                <a:uFillTx/>
                <a:latin typeface="Century Gothic"/>
              </a:rPr>
              <a:t>Свойства средней линии трапеции</a:t>
            </a:r>
            <a:r>
              <a:rPr b="1" i="1" lang="en-US" sz="1800" spc="-1" strike="noStrike" u="sng">
                <a:solidFill>
                  <a:srgbClr val="cc00ff"/>
                </a:solidFill>
                <a:uFillTx/>
                <a:latin typeface="Century Gothic"/>
              </a:rPr>
              <a:t>: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Century Gothic"/>
              </a:rPr>
              <a:t> </a:t>
            </a:r>
            <a:r>
              <a:rPr b="1" i="1" lang="ru-RU" sz="1800" spc="-1" strike="noStrike">
                <a:solidFill>
                  <a:srgbClr val="cc00ff"/>
                </a:solidFill>
                <a:latin typeface="Century Gothic"/>
              </a:rPr>
              <a:t>Средняя линия трапеции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r>
              <a:rPr b="1" i="1" lang="ru-RU" sz="1800" spc="-1" strike="noStrike">
                <a:solidFill>
                  <a:srgbClr val="cc00ff"/>
                </a:solidFill>
                <a:latin typeface="Century Gothic"/>
              </a:rPr>
              <a:t> основаниям трапеции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Century Gothic"/>
              </a:rPr>
              <a:t> </a:t>
            </a:r>
            <a:r>
              <a:rPr b="1" i="1" lang="ru-RU" sz="1800" spc="-1" strike="noStrike">
                <a:solidFill>
                  <a:srgbClr val="cc00ff"/>
                </a:solidFill>
                <a:latin typeface="Century Gothic"/>
              </a:rPr>
              <a:t>Средняя линия трапеции равна полусумме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r>
              <a:rPr b="1" i="1" lang="ru-RU" sz="1800" spc="-1" strike="noStrike">
                <a:solidFill>
                  <a:srgbClr val="cc00ff"/>
                </a:solidFill>
                <a:latin typeface="Century Gothic"/>
              </a:rPr>
              <a:t> трапеции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 advTm="10000">
    <p:comb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50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500"/>
                            </p:stCondLst>
                            <p:childTnLst>
                              <p:par>
                                <p:cTn id="5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438280" y="30240"/>
            <a:ext cx="184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372320" y="144792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498" name=""/>
          <p:cNvCxnSpPr/>
          <p:nvPr/>
        </p:nvCxnSpPr>
        <p:spPr>
          <a:xfrm>
            <a:off x="-360" y="4527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9" name=""/>
          <p:cNvSpPr/>
          <p:nvPr/>
        </p:nvSpPr>
        <p:spPr>
          <a:xfrm>
            <a:off x="137160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4792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80880" y="380880"/>
            <a:ext cx="28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392840" y="3107880"/>
            <a:ext cx="2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10800000">
            <a:off x="304920" y="2895120"/>
            <a:ext cx="1676160" cy="1143000"/>
          </a:xfrm>
          <a:custGeom>
            <a:avLst/>
            <a:gdLst>
              <a:gd name="textAreaLeft" fmla="*/ 368640 w 1676160"/>
              <a:gd name="textAreaRight" fmla="*/ 1307520 w 167616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0"/>
            <a:ext cx="84582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ff"/>
                </a:solidFill>
                <a:latin typeface="Monotype Corsiva"/>
              </a:rPr>
              <a:t>             </a:t>
            </a:r>
            <a:r>
              <a:rPr b="1" lang="ru-RU" sz="4400" spc="-1" strike="noStrike">
                <a:solidFill>
                  <a:srgbClr val="3399ff"/>
                </a:solidFill>
                <a:latin typeface="Monotype Corsiva"/>
              </a:rPr>
              <a:t>ПРАКТИКУМ 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Monotype Corsiva"/>
              </a:rPr>
              <a:t>                        </a:t>
            </a:r>
            <a:r>
              <a:rPr b="1" lang="ru-RU" sz="4400" spc="-1" strike="noStrike">
                <a:solidFill>
                  <a:srgbClr val="3399ff"/>
                </a:solidFill>
                <a:latin typeface="Monotype Corsiva"/>
              </a:rPr>
              <a:t>Задача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В равнобедренной трапеции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KLMN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 угол К  равен 32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.Найдите остальные углы трапеции.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99ff"/>
                </a:solidFill>
                <a:latin typeface="Monotype Corsiva"/>
              </a:rPr>
              <a:t>      </a:t>
            </a:r>
            <a:r>
              <a:rPr b="1" lang="ru-RU" sz="3600" spc="-1" strike="noStrike">
                <a:solidFill>
                  <a:srgbClr val="3399ff"/>
                </a:solidFill>
                <a:latin typeface="Monotype Corsiva"/>
              </a:rPr>
              <a:t>                                                           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3520" y="3200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523520" y="32004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0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304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02000" y="2666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9828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65040" y="3862440"/>
            <a:ext cx="119160" cy="171360"/>
          </a:xfrm>
          <a:custGeom>
            <a:avLst/>
            <a:gdLst/>
            <a:ahLst/>
            <a:rect l="l" t="t" r="r" b="b"/>
            <a:pathLst>
              <a:path w="75" h="108">
                <a:moveTo>
                  <a:pt x="0" y="0"/>
                </a:moveTo>
                <a:cubicBezTo>
                  <a:pt x="36" y="7"/>
                  <a:pt x="48" y="10"/>
                  <a:pt x="68" y="40"/>
                </a:cubicBezTo>
                <a:cubicBezTo>
                  <a:pt x="75" y="103"/>
                  <a:pt x="75" y="81"/>
                  <a:pt x="75" y="1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43520" y="3541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38080" y="3505320"/>
            <a:ext cx="76320" cy="75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09880" y="270360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Дано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KLMN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– равнобедренная трапеци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К = 32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Найти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 K,L, M, N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578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525744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248520" y="3505320"/>
            <a:ext cx="75960" cy="75960"/>
          </a:xfrm>
          <a:prstGeom prst="ellipse">
            <a:avLst/>
          </a:prstGeom>
          <a:solidFill>
            <a:srgbClr val="ff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172200" y="41911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72200" y="4343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1600200"/>
            <a:ext cx="76320" cy="76320"/>
          </a:xfrm>
          <a:prstGeom prst="ellipse">
            <a:avLst/>
          </a:prstGeom>
          <a:solidFill>
            <a:srgbClr val="ff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 advTm="13000">
    <p:checker dir="horz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400"/>
                            </p:stCondLst>
                            <p:childTnLst>
                              <p:par>
                                <p:cTn id="562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4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9400"/>
                            </p:stCondLst>
                            <p:childTnLst>
                              <p:par>
                                <p:cTn id="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14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34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5400"/>
                            </p:stCondLst>
                            <p:childTnLst>
                              <p:par>
                                <p:cTn id="5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64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84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400"/>
                            </p:stCondLst>
                            <p:childTnLst>
                              <p:par>
                                <p:cTn id="6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64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2640"/>
                            </p:stCondLst>
                            <p:childTnLst>
                              <p:par>
                                <p:cTn id="6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4640"/>
                            </p:stCondLst>
                            <p:childTnLst>
                              <p:par>
                                <p:cTn id="6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ифрово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457200" y="1600200"/>
          <a:ext cx="8229600" cy="5175360"/>
        </p:xfrm>
        <a:graphic>
          <a:graphicData uri="http://schemas.openxmlformats.org/drawingml/2006/table">
            <a:tbl>
              <a:tblPr/>
              <a:tblGrid>
                <a:gridCol w="7315200"/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ллелограммом называется четырехугольник, у которого 2 стороны параллельны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гонали трапеции равны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ом называется ромб, у которого один из углов прямой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й прямоугольник – это параллелограмм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ждый параллелограмм – это четырехугольник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углов любого четырехугольника равна 36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пеция – это четырехугольник, две стороны которого не параллельны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гонали квадрата не перпендикулярны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ы ромба делятся его диагоналями пополам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овые стороны равнобедренной трапеции равны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ам. деректора по УВР</cp:lastModifiedBy>
  <dcterms:modified xsi:type="dcterms:W3CDTF">2013-10-17T10:35:04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