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3BF-8C5A-406D-BE32-3F433BDA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00C-C2A8-40A2-9475-A510657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1AD-0F5D-414A-AF6A-BDF48F39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A11-D282-4077-A364-CCEC2707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A48B-8B45-4F9D-9F5C-CF341395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BE5-0A64-4F12-81C2-F451038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5867-BE28-4D96-809D-589DBC53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6AC-88F1-4B32-B36B-C25F0446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D067-D92D-4725-B116-DAA4AC6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71D4-DA92-4E5D-8CB8-29F9AFFF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52F-EE61-4BC9-BE8F-436828C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CD5-A997-4F5B-ADD6-F63C5B1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F78D-D64C-46BB-B5C7-FE46537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771-2D02-4A76-BC55-29D6834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3E17-C894-4D7D-A39F-17781C47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F4DC-2CF8-4BEE-B5FA-F1219D93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5AA-69CC-43FE-B7ED-7B81E52B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7D23-4564-4211-B15E-022C20C6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EE05-4336-4839-8187-B910B9A3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3F44-202D-42D7-81EE-53AD93AB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A292-C175-42B3-ABBA-9CCD003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D380-D9BD-4F96-A65A-5E42331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78C-1033-40E6-889C-361E5F8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3490-D28E-47F2-BA92-18839A9C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74F6-A488-4776-B643-08B488C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9018-6112-4C54-884F-8CA3225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B99B-1811-445C-B9A0-D7F62C9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9E14-311A-4835-9938-0C238901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6003-758B-4DA8-BE20-9975CC7F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265A-4442-4854-9CA9-844D24F1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0047-AB8B-4F89-A46A-F3BFEAB1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C2A74-1C89-49A6-94C4-DC0FDAD9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2CBC-1397-483F-A0F4-17AAA6A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675-7CDF-463F-BD27-2D4F1F0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A31D-A950-4F0E-B813-6D9686E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BD4F-FB3A-4EEB-9ED7-44BB76CB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98EB-6208-4F1E-B048-C7112402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B66C-F6C6-4914-A7EA-6552B4F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0457-45EF-4898-8DDE-1DAA3C0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37E5-AC41-4AE0-9F0B-935B4C7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88E1-634F-4927-B3D7-2A3C9754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808B-0C2D-4DFF-A0AB-3BEE59ED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346C-35D9-4629-88BD-C52FFDD5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C77D-7022-40A9-8CB6-704690E2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156-3ACC-4673-B286-AA840FF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B3B8-3BBD-4776-9143-DEDBED1C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40728-57A4-46A8-875B-2EEC4FEB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E6ADA-88FE-44DB-892E-E1075948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1D025-08FE-4645-8A72-71957FDC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5842-29AF-4F57-9FB2-BE1810FB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9BBF5-DCE4-47CF-8AE7-7E7D6D6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C2BF-0DED-4497-9B88-793B56A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42DC-EB8A-4A25-B586-C0EBB4C6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6ADA-243B-4A25-87D0-072659B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4162-448B-40D4-A9C2-E4279F66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E17-FD84-42CF-A723-D7FD0F3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1CB06-F41F-4118-8522-FDC02B13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3A24-8571-4B4C-9DFC-4CEDF756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08FC4-9017-4500-9280-8E4D0E3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0F9B4-FCB9-44E5-BB13-197FCDAC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2C2A-355A-4014-B385-36569FF1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0A79-3500-4529-9049-E254EB04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8C12-23C1-4EBF-9482-E76BF9C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D9CB-11A5-4BE6-A005-3256D02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E6E9-9ADB-47E5-B6F2-FDA42EB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C6B8D-C8AB-45EB-845A-8E30B65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654-E948-4AD5-A294-5F8235E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FB74-6E8E-4C31-A8EB-1877685E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0720-5CDF-4CFA-AA26-482F5181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0DB3C-676E-4FD4-902C-BE4D6FCE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07F1-F286-48F9-BEB4-F1601A85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CB90-839C-42EC-A21E-84551D77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E71E0-E812-4F80-9217-861E1395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B3E00-B00E-4D64-915A-A9E37BC9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21BE3-8DDA-4CDA-8CED-50A7FAB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653BF-9A05-4862-ADD1-73500E1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AE18-74BC-4EB9-A2C3-5682555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FF3-E51B-4319-A501-D470D17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6BA0-6BD7-444D-BBCA-3F9C1B0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456E-BD73-446D-9D17-4C4745CC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66E0-02F7-42B9-BB0F-16E7D832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78C2-4E20-4BA3-B858-FFF53DBB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0F3C8-D9AB-4C24-8B82-0976BD0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A01-758C-46DE-9A12-F1FBE1D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8441-E381-47AF-9F78-C6F5F49AD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D25A-2FB0-4ED7-8ADE-AF542EAB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4ED-DC9A-4E3B-9D5B-22B47F5679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345D-5FE4-4F89-A977-2B5165B27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84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8F28-0E14-4E7B-84B9-DCB91F629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330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73B4-9004-447D-B4AC-7CCE16D6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84C-0EFA-44DF-80D9-DD6635B4B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578.WAV" TargetMode="External"/><Relationship Id="rId2" Type="http://schemas.microsoft.com/office/2007/relationships/media" Target="file:///tmp/home/.config/libreoffice/4/user/gallery/~PP357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00200" y="380880"/>
            <a:ext cx="527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380880"/>
            <a:ext cx="6781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20520" y="2362320"/>
            <a:ext cx="62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по теме </a:t>
            </a: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Times New Roman"/>
              </a:rPr>
              <a:t>:” </a:t>
            </a:r>
            <a:r>
              <a:rPr b="1" i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ЧЕТЫРЁХУГОЛЬНИКИ </a:t>
            </a: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Times New Roman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1600200"/>
            <a:ext cx="321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09680" y="35053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7d47d"/>
                </a:solidFill>
                <a:uFillTx/>
                <a:latin typeface="Times New Roman"/>
              </a:rPr>
              <a:t>ТРАПЕЦ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7d47d"/>
                </a:solidFill>
                <a:uFillTx/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вающие кан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09480" y="5029200"/>
          <a:ext cx="3353040" cy="155268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5257800" y="1371600"/>
          <a:ext cx="3276720" cy="155268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09480" y="3019320"/>
          <a:ext cx="3352680" cy="1920600"/>
        </p:xfrm>
        <a:graphic>
          <a:graphicData uri="http://schemas.openxmlformats.org/drawingml/2006/table">
            <a:tbl>
              <a:tblPr/>
              <a:tblGrid>
                <a:gridCol w="1677240"/>
                <a:gridCol w="16754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5334120" y="3200400"/>
          <a:ext cx="3198600" cy="2391840"/>
        </p:xfrm>
        <a:graphic>
          <a:graphicData uri="http://schemas.openxmlformats.org/drawingml/2006/table">
            <a:tbl>
              <a:tblPr/>
              <a:tblGrid>
                <a:gridCol w="1599120"/>
                <a:gridCol w="15994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609480" y="1371600"/>
          <a:ext cx="3353040" cy="155268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нь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н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5486400" y="3429000"/>
            <a:ext cx="129528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91320" y="411480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523480" y="4839120"/>
            <a:ext cx="1372320" cy="571320"/>
            <a:chOff x="5523480" y="4839120"/>
            <a:chExt cx="1372320" cy="571320"/>
          </a:xfrm>
        </p:grpSpPr>
        <p:sp>
          <p:nvSpPr>
            <p:cNvPr id="532" name=""/>
            <p:cNvSpPr/>
            <p:nvPr/>
          </p:nvSpPr>
          <p:spPr>
            <a:xfrm flipH="1">
              <a:off x="5523480" y="4839120"/>
              <a:ext cx="4568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23840" y="541044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80680" y="4839120"/>
              <a:ext cx="9151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14400" y="51055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5562720"/>
            <a:ext cx="1214640" cy="4572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800000">
            <a:off x="838080" y="6095520"/>
            <a:ext cx="1214640" cy="38124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725360" y="3063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РАПЕ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380880"/>
            <a:ext cx="12956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80880"/>
            <a:ext cx="457200" cy="15242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828440" y="380880"/>
            <a:ext cx="152280" cy="15242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905120"/>
            <a:ext cx="1905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97320" y="1905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76960" y="190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1120" y="152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4200" y="152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19760" y="1982880"/>
            <a:ext cx="8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. 1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20040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ТРАПЕЦИЯ – ЭТО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,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У КОТОРОГО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ПАРАЛЛЕЛЬНЫ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А ДВЕ ДРУГИЕ СТОРОНЫ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BC, AD –*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ТРАПЕЦ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AB, CD – *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СТОРОНЫ ТРАПЕЦИИ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(РИС.1)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0000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75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5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99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63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55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3171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802400" y="2239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Виды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трапеций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28800" y="34290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Times New Roman"/>
              </a:rPr>
              <a:t>КРОМЕ ОБЫЧНОЙ ТРАПЕЦИИ СУЩЕСТВУЕТ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Times New Roman"/>
              </a:rPr>
              <a:t>ЕЩЁ ДВА ВИДА ТРАПЕЦИИ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0000">
    <p:wheel spokes="3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2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45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95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95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Segoe Print"/>
              </a:rPr>
              <a:t>Равнобедренная трап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380880" y="1600200"/>
            <a:ext cx="2438640" cy="1828800"/>
          </a:xfrm>
          <a:custGeom>
            <a:avLst/>
            <a:gdLst>
              <a:gd name="textAreaLeft" fmla="*/ 536040 w 2438640"/>
              <a:gd name="textAreaRight" fmla="*/ 1902600 w 2438640"/>
              <a:gd name="textAreaTop" fmla="*/ 402120 h 1828800"/>
              <a:gd name="textAreaBottom" fmla="*/ 142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4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60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5520" y="13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4500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3619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5648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ТРАПЕЦИЯ НАЗЫВАЕТСЯ РАВНОБЕДРЕННОЙ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ЕСЛИ ЕЁ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СТОРОНЫ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Times New Roman"/>
              </a:rPr>
              <a:t>Свойства равнобедренной трапеции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В равнобедренной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при каждом основан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В равнобедренной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равны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Times New Roman"/>
              </a:rPr>
              <a:t>Признаки равнобедренной трапеции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Если в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при каждом основан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то трапеция равнобедренна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Если в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равны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то трапеция равнобедренна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5181480" y="1600200"/>
            <a:ext cx="2438640" cy="1828800"/>
          </a:xfrm>
          <a:custGeom>
            <a:avLst/>
            <a:gdLst>
              <a:gd name="textAreaLeft" fmla="*/ 536040 w 2438640"/>
              <a:gd name="textAreaRight" fmla="*/ 1902600 w 2438640"/>
              <a:gd name="textAreaTop" fmla="*/ 402120 h 1828800"/>
              <a:gd name="textAreaBottom" fmla="*/ 142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468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820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36120" y="13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4560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160020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181480" y="160020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3065400"/>
            <a:ext cx="193680" cy="3556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cubicBezTo>
                  <a:pt x="58" y="22"/>
                  <a:pt x="64" y="40"/>
                  <a:pt x="27" y="95"/>
                </a:cubicBezTo>
                <a:cubicBezTo>
                  <a:pt x="18" y="109"/>
                  <a:pt x="0" y="120"/>
                  <a:pt x="0" y="136"/>
                </a:cubicBezTo>
                <a:cubicBezTo>
                  <a:pt x="0" y="165"/>
                  <a:pt x="0" y="195"/>
                  <a:pt x="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05520" y="1623960"/>
            <a:ext cx="150840" cy="130320"/>
          </a:xfrm>
          <a:custGeom>
            <a:avLst/>
            <a:gdLst/>
            <a:ahLst/>
            <a:rect l="l" t="t" r="r" b="b"/>
            <a:pathLst>
              <a:path w="95" h="82">
                <a:moveTo>
                  <a:pt x="0" y="0"/>
                </a:moveTo>
                <a:cubicBezTo>
                  <a:pt x="6" y="42"/>
                  <a:pt x="1" y="59"/>
                  <a:pt x="34" y="82"/>
                </a:cubicBezTo>
                <a:cubicBezTo>
                  <a:pt x="54" y="77"/>
                  <a:pt x="74" y="68"/>
                  <a:pt x="95" y="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45240" y="1623960"/>
            <a:ext cx="193680" cy="17640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0" y="88"/>
                </a:moveTo>
                <a:cubicBezTo>
                  <a:pt x="33" y="111"/>
                  <a:pt x="65" y="101"/>
                  <a:pt x="101" y="88"/>
                </a:cubicBezTo>
                <a:cubicBezTo>
                  <a:pt x="121" y="59"/>
                  <a:pt x="122" y="35"/>
                  <a:pt x="1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91240" y="1600200"/>
            <a:ext cx="404640" cy="307800"/>
          </a:xfrm>
          <a:custGeom>
            <a:avLst/>
            <a:gdLst/>
            <a:ahLst/>
            <a:rect l="l" t="t" r="r" b="b"/>
            <a:pathLst>
              <a:path w="210" h="158">
                <a:moveTo>
                  <a:pt x="0" y="155"/>
                </a:moveTo>
                <a:cubicBezTo>
                  <a:pt x="61" y="153"/>
                  <a:pt x="123" y="158"/>
                  <a:pt x="183" y="149"/>
                </a:cubicBezTo>
                <a:cubicBezTo>
                  <a:pt x="190" y="148"/>
                  <a:pt x="187" y="135"/>
                  <a:pt x="189" y="128"/>
                </a:cubicBezTo>
                <a:cubicBezTo>
                  <a:pt x="198" y="88"/>
                  <a:pt x="210" y="41"/>
                  <a:pt x="21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1612800"/>
            <a:ext cx="316080" cy="300240"/>
          </a:xfrm>
          <a:custGeom>
            <a:avLst/>
            <a:gdLst/>
            <a:ahLst/>
            <a:rect l="l" t="t" r="r" b="b"/>
            <a:pathLst>
              <a:path w="199" h="189">
                <a:moveTo>
                  <a:pt x="2" y="0"/>
                </a:moveTo>
                <a:cubicBezTo>
                  <a:pt x="4" y="52"/>
                  <a:pt x="0" y="105"/>
                  <a:pt x="9" y="156"/>
                </a:cubicBezTo>
                <a:cubicBezTo>
                  <a:pt x="10" y="163"/>
                  <a:pt x="22" y="161"/>
                  <a:pt x="29" y="163"/>
                </a:cubicBezTo>
                <a:cubicBezTo>
                  <a:pt x="56" y="171"/>
                  <a:pt x="83" y="178"/>
                  <a:pt x="111" y="183"/>
                </a:cubicBezTo>
                <a:cubicBezTo>
                  <a:pt x="138" y="180"/>
                  <a:pt x="173" y="189"/>
                  <a:pt x="192" y="170"/>
                </a:cubicBezTo>
                <a:cubicBezTo>
                  <a:pt x="197" y="165"/>
                  <a:pt x="199" y="150"/>
                  <a:pt x="199" y="1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70400" y="3076560"/>
            <a:ext cx="227160" cy="333360"/>
          </a:xfrm>
          <a:custGeom>
            <a:avLst/>
            <a:gdLst/>
            <a:ahLst/>
            <a:rect l="l" t="t" r="r" b="b"/>
            <a:pathLst>
              <a:path w="143" h="210">
                <a:moveTo>
                  <a:pt x="0" y="41"/>
                </a:moveTo>
                <a:cubicBezTo>
                  <a:pt x="17" y="16"/>
                  <a:pt x="30" y="17"/>
                  <a:pt x="55" y="0"/>
                </a:cubicBezTo>
                <a:cubicBezTo>
                  <a:pt x="66" y="36"/>
                  <a:pt x="86" y="35"/>
                  <a:pt x="122" y="41"/>
                </a:cubicBezTo>
                <a:cubicBezTo>
                  <a:pt x="141" y="95"/>
                  <a:pt x="143" y="153"/>
                  <a:pt x="143" y="2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16256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1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1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74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14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9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2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6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3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65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2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25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1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2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9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1371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371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1371600"/>
            <a:ext cx="8380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268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2680" y="10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25680" y="106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4008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6212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886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ТРАПЕЦИЯ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ОДИН ИЗ УГЛОВ КОТОРОЙ ПРЯМОЙ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НАЗЫВАЕТСЯ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ОВОРИТ 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583080" cy="25905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181480" y="1447920"/>
            <a:ext cx="3733920" cy="2590560"/>
          </a:xfrm>
          <a:prstGeom prst="wedgeEllipseCallout">
            <a:avLst>
              <a:gd name="adj1" fmla="val -77041"/>
              <a:gd name="adj2" fmla="val 37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РЕБЯТА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ДАВАЙТЕ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ПОГОВОРИМ О СРЕДНЕЙ ЛИНИИ ТРАПЕЦИИ И ЕЁ СВОЙСТВАХ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29718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СРЕДНЯЯ ЛИНИЯ ТРАПЕЦИИ И ЕЁ СВОЙСТВА.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9360" y="22824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СРЕДНЯЯ ЛИНИЯ ТРАПЕЦИИ И ЕЁ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        СВОЙСТВА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1752480" y="1752480"/>
            <a:ext cx="2286000" cy="1524240"/>
          </a:xfrm>
          <a:custGeom>
            <a:avLst/>
            <a:gdLst>
              <a:gd name="textAreaLeft" fmla="*/ 502560 w 2286000"/>
              <a:gd name="textAreaRight" fmla="*/ 1783440 w 22860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832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8288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0" y="1447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8800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38440" y="2093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940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809880" y="2743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04960" y="198108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09680" y="1905120"/>
            <a:ext cx="1526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205740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05120" y="26668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25146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28800" y="3886200"/>
            <a:ext cx="601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Средняя линия трапеции – отрезок</a:t>
            </a:r>
            <a:r>
              <a:rPr b="1" i="1" lang="en-US" sz="1800" spc="-1" strike="noStrike">
                <a:solidFill>
                  <a:srgbClr val="cc00ff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соединяющий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 боковых сторон трапеции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ff"/>
                </a:solidFill>
                <a:uFillTx/>
                <a:latin typeface="Times New Roman"/>
              </a:rPr>
              <a:t>Свойства средней линии трапеции</a:t>
            </a:r>
            <a:r>
              <a:rPr b="1" i="1" lang="en-US" sz="1800" spc="-1" strike="noStrike" u="sng">
                <a:solidFill>
                  <a:srgbClr val="cc00ff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Средняя линия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 основаниям трапеции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Средняя линия трапеции равна полусумме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</a:rPr>
              <a:t> трапеции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0000">
    <p:comb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5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438280" y="30240"/>
            <a:ext cx="184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372320" y="14479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498" name=""/>
          <p:cNvCxnSpPr/>
          <p:nvPr/>
        </p:nvCxnSpPr>
        <p:spPr>
          <a:xfrm>
            <a:off x="-360" y="4527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137160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380880"/>
            <a:ext cx="28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92840" y="3107880"/>
            <a:ext cx="2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304920" y="2895120"/>
            <a:ext cx="1676160" cy="114300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ff"/>
                </a:solidFill>
                <a:latin typeface="Monotype Corsiva"/>
              </a:rPr>
              <a:t>             </a:t>
            </a:r>
            <a:r>
              <a:rPr b="1" lang="ru-RU" sz="4400" spc="-1" strike="noStrike">
                <a:solidFill>
                  <a:srgbClr val="3399ff"/>
                </a:solidFill>
                <a:latin typeface="Times New Roman"/>
              </a:rPr>
              <a:t>ПРАКТИКУМ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Times New Roman"/>
              </a:rPr>
              <a:t>                        </a:t>
            </a:r>
            <a:r>
              <a:rPr b="1" lang="ru-RU" sz="4400" spc="-1" strike="noStrike">
                <a:solidFill>
                  <a:srgbClr val="3399ff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В равнобедренной трапеции 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KLMN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 угол К  равен 32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 .Найдите остальные углы трапеции.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99ff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3399ff"/>
                </a:solidFill>
                <a:latin typeface="Monotype Corsiva"/>
              </a:rPr>
              <a:t>                                                           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3520" y="3200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523520" y="3200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30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0200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28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65040" y="3862440"/>
            <a:ext cx="119160" cy="17136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0"/>
                </a:moveTo>
                <a:cubicBezTo>
                  <a:pt x="36" y="7"/>
                  <a:pt x="48" y="10"/>
                  <a:pt x="68" y="40"/>
                </a:cubicBezTo>
                <a:cubicBezTo>
                  <a:pt x="75" y="103"/>
                  <a:pt x="75" y="81"/>
                  <a:pt x="75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3520" y="3541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3505320"/>
            <a:ext cx="76320" cy="75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270360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Дано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KLMN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– равнобедренная трапе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К = 32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Найт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K,L, M, N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578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2574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48520" y="3505320"/>
            <a:ext cx="75960" cy="75960"/>
          </a:xfrm>
          <a:prstGeom prst="ellipse">
            <a:avLst/>
          </a:prstGeom>
          <a:solidFill>
            <a:srgbClr val="ff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17220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722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1600200"/>
            <a:ext cx="76320" cy="76320"/>
          </a:xfrm>
          <a:prstGeom prst="ellipse">
            <a:avLst/>
          </a:prstGeom>
          <a:solidFill>
            <a:srgbClr val="ff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4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4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94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14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4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64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4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40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64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64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464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фрово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73152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ограммом называется четырехугольник, у которого 2 стороны параллель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онали трапеции рав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ом называется ромб, у которого один из углов прямой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й прямоугольник – это параллелограм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параллелограмм – это четырехугольни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любого четырехугольника равна 36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пеция – это четырехугольник, две стороны которого не параллель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онали квадрата не перпендикуляр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ы ромба делятся его диагоналями попола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ые стороны равнобедренной трапеции рав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м. деректора по УВР</cp:lastModifiedBy>
  <dcterms:modified xsi:type="dcterms:W3CDTF">2013-10-17T10:48:50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