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72E7-26B4-4385-A6E8-21B2CF9C4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36D3-719A-4D37-A9EE-D937346C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1EEA-F805-48C2-843D-F5918D518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78C7-57EF-4000-AF8F-3B5E2369D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EBF1-B69B-4CD5-A9DD-5E9F4E573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2358-7EA9-4119-A699-E17248C6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F9EB-5A4A-48CD-B226-CC47D5EA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B953-8E6A-484D-92D7-DD941A95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8738-202A-405E-AF71-FD7AA271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1319-055D-4DA7-ADEC-A0B12FF8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71EF-E1AF-4A6E-BDF9-E565ACBA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4A53-DB89-4A68-92E3-0AE29CA9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9382-F9BF-4B23-AC82-84594BF4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4C4B-AD0D-4505-AE37-8FB71658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8BA0-DB94-4C53-A199-73DBFABC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0D36-1445-46A0-909E-CDD2FBEA0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8F74-0CF8-4B9D-9C20-5957951AB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6375-59CF-4AEB-A75D-F75EE499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FDC1-43B6-47DE-A140-220FAED1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2502-9F89-49FA-9C75-3D909762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616F-F559-4FDF-ADE7-D6C0B095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CB2E-391C-43BB-8431-F2E94DB1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E85E-E34D-4BA1-B83D-22A07BCE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25DD-1878-45A4-9025-0422F16A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3844-6DF3-43C1-96EE-63F5293E543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FB5D-602D-453E-8617-BE3D6FAF96B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Работа с таблицами в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Microsoft Office Word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2924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Конец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6633"/>
                </a:solidFill>
                <a:uFillTx/>
                <a:latin typeface="Garamond"/>
              </a:rPr>
              <a:t>Для работы с таблицами служит пункт главного меню «Таблица»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13564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Таблица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Добавить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Столбцы (слева или справа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Для добавления строк – команда Таблица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Добавить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Строки (снизу или сверху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Для добавления ячеек служит команда Таблица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Добавить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Ячейк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Для удаления элементов таблицы служит команда Таблица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Удалить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 Таблица/Столбцы/Строки/Ячейк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Для слияния выделенных ячеек – команда Таблица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Объединить ячейк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Для разделения ячейки – команда Таблица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Разбить ячейк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886280" cy="2619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916360" y="2276640"/>
            <a:ext cx="57927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Меню таблиц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5904000" cy="3362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26920" y="4653000"/>
            <a:ext cx="59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Вставить табл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Нарисовать таблиц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Преобразовать табл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Таблица 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Экспресс табл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ставить таблицу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552920" cy="3705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211640" y="2276640"/>
            <a:ext cx="4295880" cy="3429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95280" y="5589720"/>
            <a:ext cx="512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Появится диалоговое окно создания табл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Например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 столбц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5 стр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900000" y="2565360"/>
          <a:ext cx="6796080" cy="2436840"/>
        </p:xfrm>
        <a:graphic>
          <a:graphicData uri="http://schemas.openxmlformats.org/drawingml/2006/table">
            <a:tbl>
              <a:tblPr/>
              <a:tblGrid>
                <a:gridCol w="2265480"/>
                <a:gridCol w="2265120"/>
                <a:gridCol w="226548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708360" y="3141720"/>
            <a:ext cx="5184720" cy="33670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Нарисовать таблицу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510552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Таблица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c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5219640" cy="3310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932360" y="1773360"/>
            <a:ext cx="4032360" cy="2943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35120" y="5032440"/>
            <a:ext cx="35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Импорт таблиц из 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Excel 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Экспресс таблицы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64468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12:02:06Z</dcterms:created>
  <dc:creator>Савченко А.П.</dc:creator>
  <dc:description/>
  <dc:language>en-US</dc:language>
  <cp:lastModifiedBy>Пользователь</cp:lastModifiedBy>
  <dcterms:modified xsi:type="dcterms:W3CDTF">2013-10-17T12:31:25Z</dcterms:modified>
  <cp:revision>5</cp:revision>
  <dc:subject/>
  <dc:title>Работа с таблицами в Word</dc:title>
</cp:coreProperties>
</file>