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6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A0D-C142-4DB0-BF25-C1621A08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870-4E84-4C75-820C-29BCEEC8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A06-ADC9-49DA-844D-860AA5E7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E3E-9037-4162-9A8D-ACC78817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914D-3663-4F66-B3FF-97CF0AC0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AB2C-645E-4F95-8D25-CA1B827B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39AE-4478-411C-86A2-2EBC09DD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C612-E69F-47E8-9739-18D77E32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7FEB-E92C-47EE-8D1E-6A88DCB4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ABCF-021E-4EA3-B9CA-8E943D6D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38A2-A488-4FB1-A31D-6C95434D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418-6579-4A62-B32B-AB6BFEF3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F72F-E6E4-4B06-84EB-38909DBB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4A96-25A0-46ED-9F08-D733B99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AA62-0399-437C-A34A-9B22D905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F863-8586-4516-84DE-41AF8304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F3CC-E923-40C1-8A32-1CFBB986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7C7-60F5-4F92-B16B-8CD3CCA8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D36-3ED8-4677-AFDD-C74F2C2D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5B4-58C2-497E-89C4-6BAF414C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879-BFD2-4DEB-81FB-D8B4FBDE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F0B-E62E-4118-9DBB-E7435B9C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835-BDA3-4BF0-A21F-6F588143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B71-61E6-4DC1-97D7-30BDB715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5A92-2D00-4BD3-B9F5-3A918B126D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52F0-50E5-4F3C-A1CD-A523E46B72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Счетная вышивк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7 класс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010 год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-65520" y="337680"/>
            <a:ext cx="61200" cy="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840" bIns="158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квозные счетные вышив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80000" y="549360"/>
            <a:ext cx="44640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зделия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1873080" cy="1582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48000" y="2852640"/>
            <a:ext cx="1655640" cy="1584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292720" y="3213000"/>
            <a:ext cx="1511280" cy="165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7093080" y="3213000"/>
            <a:ext cx="1328760" cy="165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692360" y="4437000"/>
            <a:ext cx="2043000" cy="230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ccff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 rot="10800000">
            <a:off x="4320" y="408240"/>
            <a:ext cx="69120" cy="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760" bIns="14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остой крест, двойной крест, роспись, набор, гобеленовый шов, счетная гладь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916360" y="765000"/>
            <a:ext cx="511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лухие швы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71640" y="3860640"/>
            <a:ext cx="1019160" cy="1009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68360" y="3933720"/>
            <a:ext cx="214344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1476360" cy="943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700360" y="5157720"/>
            <a:ext cx="2038320" cy="100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4643280" y="3284640"/>
            <a:ext cx="2152800" cy="1009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877080" y="4365720"/>
            <a:ext cx="2127240" cy="1869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076720" y="4869000"/>
            <a:ext cx="1016280" cy="126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cc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 rot="10800000">
            <a:off x="-73440" y="553680"/>
            <a:ext cx="69120" cy="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" bIns="144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четная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ободна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ные виды глад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квозные                  глух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ережки                         простой крес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трочки-перевить        двойной крес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Гипюры                          роспис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Штопка-стлань              набо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 др.                                Гобеленовый шов и д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067280" y="260280"/>
            <a:ext cx="125712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хем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59280" y="1125360"/>
            <a:ext cx="302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ши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1773360"/>
            <a:ext cx="93636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843280" y="1773360"/>
            <a:ext cx="93672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2852640"/>
            <a:ext cx="720720" cy="72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2781360"/>
            <a:ext cx="2232000" cy="79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 rot="10800000">
            <a:off x="-72720" y="337320"/>
            <a:ext cx="68400" cy="1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етельный, тамбурный, козлик, стебельчаты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63640" y="836640"/>
            <a:ext cx="6264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вать швы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995640" y="3213000"/>
            <a:ext cx="952560" cy="943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435640" y="3141720"/>
            <a:ext cx="971640" cy="1419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419640" y="4581360"/>
            <a:ext cx="923760" cy="1390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804000" y="3716280"/>
            <a:ext cx="1795320" cy="2421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1042920" y="5013360"/>
            <a:ext cx="1467000" cy="9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 rot="10800000">
            <a:off x="-146160" y="553680"/>
            <a:ext cx="142200" cy="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" bIns="144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Какие инструменты и приспособления применяют для сквозной вышивк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Какие виды вышивки относятся к сквозной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Какой вид вышивки будем вышиват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 чего надо начать мережк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Какие правила безопасной работы соблюдают при вышивани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979640" y="404640"/>
            <a:ext cx="6264360" cy="13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крепление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cc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 rot="10800000">
            <a:off x="-30600" y="553680"/>
            <a:ext cx="61200" cy="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" bIns="144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делать выдерг горизонтальных нитей в ткани шириной 0,5 см, длиной 7 см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лучится рабочее пол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альше обработка поля стежками определенной технико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843280" y="1052640"/>
            <a:ext cx="4133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структаж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1917720" cy="180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916360" y="3789360"/>
            <a:ext cx="2209680" cy="1282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219640" y="4149720"/>
            <a:ext cx="237492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916360" y="5084640"/>
            <a:ext cx="1828800" cy="1498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900000" y="5473800"/>
            <a:ext cx="1714680" cy="1384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8101080" y="2708280"/>
            <a:ext cx="933480" cy="2038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7667640" y="4869000"/>
            <a:ext cx="1349280" cy="168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83af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320" y="553680"/>
            <a:ext cx="170640" cy="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840" bIns="158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знакомить уч-ся с историей вышивки, инструментами, материалам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учиться основным приемам счетной  вышивк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вивать сноровку, координацию движен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спитывать аккуратность, организованность трудов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700360" y="0"/>
            <a:ext cx="3362400" cy="21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и урока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50000">
              <a:srgbClr val="99cc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вышивание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таринный и самый распространенный вид декоративно- прикладного искус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9-12века возникновение вышивк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4-17 века распространение вышивки среди женщин знатных и богатых сем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8-20 века искусство вышивания охватывает все слои населения и становится одним из основных занятий девушек-крестьяно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c7fe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 rot="10800000">
            <a:off x="-176760" y="337680"/>
            <a:ext cx="61200" cy="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840" bIns="158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глы для вышивания №1, 2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перст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ожницы маленькие (длиной 10-12 см.) с загнутыми концами для подрезания ни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яльца- для удержания ткани в натянутом состоя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кань белая х/б полотняного переплетения, из которой легко выдергиваются ни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атушечные нитки №40,50,60,80 в тон ткани, т.е. белы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11280" y="476280"/>
            <a:ext cx="37339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2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нструменты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10800000">
            <a:off x="-73440" y="553680"/>
            <a:ext cx="69120" cy="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" bIns="144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четные (вышиваются по счету нитей ткани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вободные (вышиваются по контуру рисунка свободными швами без счет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четные вышивки являются наиболее древним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Холст должен быть с четким, ровным переплетением ни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63640" y="692280"/>
            <a:ext cx="56293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ды   вышивок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 rot="10800000">
            <a:off x="-73440" y="264600"/>
            <a:ext cx="69120" cy="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" bIns="144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сквозные или строчевые (строчки) выполняемые из ткани, разреженной путем выдергивания нитей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глухие швы вышиваются по целой ткани по счету ни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42920" y="404640"/>
            <a:ext cx="73152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четные   вышивки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dbdb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 rot="10800000">
            <a:off x="-73440" y="264600"/>
            <a:ext cx="69120" cy="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" bIns="144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ост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348000" y="333360"/>
            <a:ext cx="367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режк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2492280"/>
            <a:ext cx="2160720" cy="166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08720" y="1901880"/>
            <a:ext cx="3240000" cy="148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1740240" cy="190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26920" y="4916520"/>
            <a:ext cx="2016360" cy="1687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348000" y="4508640"/>
            <a:ext cx="1725480" cy="216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5219640" y="3645000"/>
            <a:ext cx="3673440" cy="1358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5724360" y="5229360"/>
            <a:ext cx="2857680" cy="142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dbaf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 rot="10800000">
            <a:off x="-103680" y="408240"/>
            <a:ext cx="99360" cy="6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7640" bIns="176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лож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348000" y="333360"/>
            <a:ext cx="381636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режки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2362320" cy="131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12000" y="2421000"/>
            <a:ext cx="2381040" cy="1114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084720" y="5445000"/>
            <a:ext cx="2857680" cy="1276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900000" y="2852640"/>
            <a:ext cx="1739880" cy="1790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692360" y="5300640"/>
            <a:ext cx="268596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059280" y="3860640"/>
            <a:ext cx="3644640" cy="96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65520" y="553680"/>
            <a:ext cx="61200" cy="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840" bIns="158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тяги, строчка - перевить, горьковский гипюр, рассыпной гипюр, стлань, паутин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419640" y="260280"/>
            <a:ext cx="439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рочки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211640" y="3357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2952720" cy="2657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211640" y="5084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810560" y="10526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084720" y="5084640"/>
            <a:ext cx="2448000" cy="1773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5940360" y="3284640"/>
            <a:ext cx="2987640" cy="203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56:43Z</dcterms:created>
  <dc:creator>User</dc:creator>
  <dc:description/>
  <dc:language>en-US</dc:language>
  <cp:lastModifiedBy>User</cp:lastModifiedBy>
  <dcterms:modified xsi:type="dcterms:W3CDTF">2013-10-17T15:12:35Z</dcterms:modified>
  <cp:revision>7</cp:revision>
  <dc:subject/>
  <dc:title>Счетная вышивка</dc:title>
</cp:coreProperties>
</file>