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DCC5-6EB6-4DD8-A9FD-8E69C89A7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8D4E-8BF2-4116-9EBA-E858420D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0333-D3B3-413A-ACA8-93438258B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922D-2141-418C-9E18-57C94BF41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7B5E-E5F1-4C65-A2BB-14C9F656D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1222-2D57-48FC-9442-3ED32967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3C16-4E50-4387-87E5-A35B68F9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F004-1D55-4544-A650-DAE25405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ECE1-0A1A-484E-B262-6B7DAC13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2BB6-84C3-4D64-9325-8178AC12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36ED-FFDE-4A64-99C9-62CF72FB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96D8-F9DA-4A62-AA92-E8E6AD6A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C007-FE1A-46D1-A1D5-345AB707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886F-80FE-4A78-BEB1-533B6582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0CE6-D371-448A-AAD0-33469F29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556B-E0C2-427B-9685-02BF3C5E2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FFDC-3C04-4E38-912A-0A446409A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FC96-5920-4C22-9B18-67D25AC2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6705-EDB8-4BE2-8E2F-A9F9422A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A48D-FEE6-4DE4-8CBA-0B75B0A6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C825-4D10-472B-8CFF-8792C44B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2429-0B68-4EF0-86D0-31A86106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6203-B27C-41B6-8A61-326406AD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BF11-86D3-4777-8F89-4AF5EE42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0DD2-054D-4E98-BFFD-5AEADB66C9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82FE-7CE3-4D17-A7D0-91E0AE43CF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280" y="765000"/>
            <a:ext cx="8147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одержание работы по развитию слухового восприятия реч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468360" y="907920"/>
            <a:ext cx="8280000" cy="5328000"/>
            <a:chOff x="468360" y="907920"/>
            <a:chExt cx="8280000" cy="5328000"/>
          </a:xfrm>
        </p:grpSpPr>
        <p:cxnSp>
          <p:nvCxnSpPr>
            <p:cNvPr id="234" name="_s44057"/>
            <p:cNvCxnSpPr>
              <a:stCxn id="235" idx="0"/>
              <a:endCxn id="236" idx="2"/>
            </p:cNvCxnSpPr>
            <p:nvPr/>
          </p:nvCxnSpPr>
          <p:spPr>
            <a:xfrm flipV="1" rot="16200000">
              <a:off x="5524200" y="2122200"/>
              <a:ext cx="1066320" cy="2898720"/>
            </a:xfrm>
            <a:prstGeom prst="bentConnector3">
              <a:avLst>
                <a:gd name="adj1" fmla="val 2090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7" name="_s44056"/>
            <p:cNvCxnSpPr>
              <a:stCxn id="238" idx="0"/>
              <a:endCxn id="236" idx="2"/>
            </p:cNvCxnSpPr>
            <p:nvPr/>
          </p:nvCxnSpPr>
          <p:spPr>
            <a:xfrm flipV="1">
              <a:off x="4608000" y="3038760"/>
              <a:ext cx="3240" cy="1066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9" name="_s44055"/>
            <p:cNvCxnSpPr>
              <a:stCxn id="240" idx="0"/>
              <a:endCxn id="236" idx="2"/>
            </p:cNvCxnSpPr>
            <p:nvPr/>
          </p:nvCxnSpPr>
          <p:spPr>
            <a:xfrm flipH="1" flipV="1" rot="5400000">
              <a:off x="2626200" y="2122560"/>
              <a:ext cx="1066320" cy="2898720"/>
            </a:xfrm>
            <a:prstGeom prst="bentConnector3">
              <a:avLst>
                <a:gd name="adj1" fmla="val 2090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36" name="_s44051"/>
            <p:cNvSpPr/>
            <p:nvPr/>
          </p:nvSpPr>
          <p:spPr>
            <a:xfrm>
              <a:off x="3366360" y="907920"/>
              <a:ext cx="2484000" cy="2131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Значение речи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_s44052"/>
            <p:cNvSpPr/>
            <p:nvPr/>
          </p:nvSpPr>
          <p:spPr>
            <a:xfrm>
              <a:off x="468360" y="4104720"/>
              <a:ext cx="2484000" cy="2131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Речь является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Адекватным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Раздражителем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Слухового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анализатора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_s44053"/>
            <p:cNvSpPr/>
            <p:nvPr/>
          </p:nvSpPr>
          <p:spPr>
            <a:xfrm>
              <a:off x="3366360" y="4104720"/>
              <a:ext cx="2484000" cy="2131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Речь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Способствует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Общему развитию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Детей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Развитию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Мыслительной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деятельности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_s44054"/>
            <p:cNvSpPr/>
            <p:nvPr/>
          </p:nvSpPr>
          <p:spPr>
            <a:xfrm>
              <a:off x="6264360" y="4104720"/>
              <a:ext cx="2484000" cy="2131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Речь способствует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Успешной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Адаптации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Детей с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Нарушением слуха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В среде слышащих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Исследованиями доказано что работу надо начинать с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личения на слух слов, это достаточно короткая речевая единица легко воспринимаемая на слух по сравнению с предложени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тем переходят к предложения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 потом только к тексту, это сложные речевые единицы как по информации заложенной в них, так и для восприятия на слу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сле такой предварительной работы можно приступать к различению элементов речи в виде изолированных зву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41264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Таким образом содержанием работы по РСВ является неречевые звуки, речь и элементы реч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427640" y="3141720"/>
            <a:ext cx="4465440" cy="3456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68360" y="1052640"/>
            <a:ext cx="82072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 внимани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спользуемая литерату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агрова И.Г. Обучение слабослышащих учащихся восприятию речи на слух: Пособие для учителя/ И.Г.Багрова. – М.: Просвещение, 199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арова Л.П. Методика развития слухового восприятия детей с нарушениями слуха/ Л.П.Назарова. – М.: Просвещение, 200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ловчиц Л.А. Дошкольная сурдопедагогика: Воспитание и обучение дошкольников с нарушениями слуха: Учебное пособие для студентов высших учебных заведений/ Л.А.Головчиц. – М.: Гуманитарный издат. центр ВЛАДОС, 200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арова Л.П. Лабораторные работы по методике развития слухового восприятия/ Л.П.Назарова. – Л.: 198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икитина М.И. Сурдопедагогика/ М.И.Никитина. — М., 1989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907560"/>
            <a:ext cx="70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луховое восприятие – результат сложной аналитико – синтетической деятельности слухового анализатора и слуховой системы в цел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43588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Работа по развитию слухового восприятия  проводиться по четырем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направлениям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содержания обучения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работка условной двигательной реакции на звук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накомство со звуками окружающего мир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учение восприятию на слух неречевых и речевых сигнал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учение восприятию на слух речевого материа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072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одержанием  занятий по РСВ являютс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Неречевые зву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Речь в виде слов, фраз, текстов и элементов реч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еречевые зву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вуки окружающей среды: звонок, стук в дверь, шум дождя…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се звуки которые не имеют отношения к звукам ре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431640" y="476280"/>
            <a:ext cx="8208720" cy="5571720"/>
            <a:chOff x="431640" y="476280"/>
            <a:chExt cx="8208720" cy="5571720"/>
          </a:xfrm>
        </p:grpSpPr>
        <p:cxnSp>
          <p:nvCxnSpPr>
            <p:cNvPr id="219" name="_s37954"/>
            <p:cNvCxnSpPr>
              <a:stCxn id="220" idx="0"/>
              <a:endCxn id="221" idx="2"/>
            </p:cNvCxnSpPr>
            <p:nvPr/>
          </p:nvCxnSpPr>
          <p:spPr>
            <a:xfrm flipV="1" rot="16200000">
              <a:off x="5574600" y="1665360"/>
              <a:ext cx="1114920" cy="3192840"/>
            </a:xfrm>
            <a:prstGeom prst="bentConnector3">
              <a:avLst>
                <a:gd name="adj1" fmla="val 1279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2" name="_s37952"/>
            <p:cNvCxnSpPr>
              <a:stCxn id="223" idx="0"/>
              <a:endCxn id="221" idx="2"/>
            </p:cNvCxnSpPr>
            <p:nvPr/>
          </p:nvCxnSpPr>
          <p:spPr>
            <a:xfrm flipV="1" rot="16200000">
              <a:off x="4510440" y="2729520"/>
              <a:ext cx="1114920" cy="1064520"/>
            </a:xfrm>
            <a:prstGeom prst="bentConnector3">
              <a:avLst>
                <a:gd name="adj1" fmla="val 1279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4" name="_s37951"/>
            <p:cNvCxnSpPr>
              <a:stCxn id="225" idx="0"/>
              <a:endCxn id="221" idx="2"/>
            </p:cNvCxnSpPr>
            <p:nvPr/>
          </p:nvCxnSpPr>
          <p:spPr>
            <a:xfrm flipH="1" flipV="1" rot="5400000">
              <a:off x="3447720" y="2730600"/>
              <a:ext cx="1114920" cy="1062360"/>
            </a:xfrm>
            <a:prstGeom prst="bentConnector3">
              <a:avLst>
                <a:gd name="adj1" fmla="val 1279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6" name="_s37950"/>
            <p:cNvCxnSpPr>
              <a:stCxn id="227" idx="0"/>
              <a:endCxn id="221" idx="2"/>
            </p:cNvCxnSpPr>
            <p:nvPr/>
          </p:nvCxnSpPr>
          <p:spPr>
            <a:xfrm flipH="1" flipV="1" rot="5400000">
              <a:off x="2382480" y="1665360"/>
              <a:ext cx="1114920" cy="3193200"/>
            </a:xfrm>
            <a:prstGeom prst="bentConnector3">
              <a:avLst>
                <a:gd name="adj1" fmla="val 1279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21" name="_s37946"/>
            <p:cNvSpPr/>
            <p:nvPr/>
          </p:nvSpPr>
          <p:spPr>
            <a:xfrm>
              <a:off x="3624120" y="476280"/>
              <a:ext cx="1824120" cy="2228760"/>
            </a:xfrm>
            <a:custGeom>
              <a:avLst/>
              <a:gdLst>
                <a:gd name="textAreaLeft" fmla="*/ 88920 w 1824120"/>
                <a:gd name="textAreaRight" fmla="*/ 1735200 w 1824120"/>
                <a:gd name="textAreaTop" fmla="*/ 88920 h 2228760"/>
                <a:gd name="textAreaBottom" fmla="*/ 2139840 h 2228760"/>
              </a:gdLst>
              <a:ahLst/>
              <a:rect l="textAreaLeft" t="textAreaTop" r="textAreaRight" b="textAreaBottom"/>
              <a:pathLst>
                <a:path w="21600" h="26391">
                  <a:moveTo>
                    <a:pt x="3600" y="0"/>
                  </a:moveTo>
                  <a:arcTo wR="3600" hR="3600" stAng="16200000" swAng="-5400000"/>
                  <a:lnTo>
                    <a:pt x="0" y="22791"/>
                  </a:lnTo>
                  <a:arcTo wR="3600" hR="3600" stAng="10800000" swAng="-5400000"/>
                  <a:lnTo>
                    <a:pt x="18000" y="263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Основные цел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Развит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Слуховог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Восприят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Неречевым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звукам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37947"/>
            <p:cNvSpPr/>
            <p:nvPr/>
          </p:nvSpPr>
          <p:spPr>
            <a:xfrm>
              <a:off x="431640" y="3819240"/>
              <a:ext cx="1824120" cy="2228760"/>
            </a:xfrm>
            <a:custGeom>
              <a:avLst/>
              <a:gdLst>
                <a:gd name="textAreaLeft" fmla="*/ 88920 w 1824120"/>
                <a:gd name="textAreaRight" fmla="*/ 1735200 w 1824120"/>
                <a:gd name="textAreaTop" fmla="*/ 88920 h 2228760"/>
                <a:gd name="textAreaBottom" fmla="*/ 2139840 h 2228760"/>
              </a:gdLst>
              <a:ahLst/>
              <a:rect l="textAreaLeft" t="textAreaTop" r="textAreaRight" b="textAreaBottom"/>
              <a:pathLst>
                <a:path w="21600" h="26391">
                  <a:moveTo>
                    <a:pt x="3600" y="0"/>
                  </a:moveTo>
                  <a:arcTo wR="3600" hR="3600" stAng="16200000" swAng="-5400000"/>
                  <a:lnTo>
                    <a:pt x="0" y="22791"/>
                  </a:lnTo>
                  <a:arcTo wR="3600" hR="3600" stAng="10800000" swAng="-5400000"/>
                  <a:lnTo>
                    <a:pt x="18000" y="263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Выработк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У дете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Слуховог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Вним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К звука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Окружающе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сред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_s37948"/>
            <p:cNvSpPr/>
            <p:nvPr/>
          </p:nvSpPr>
          <p:spPr>
            <a:xfrm>
              <a:off x="2559600" y="3819240"/>
              <a:ext cx="1824120" cy="2228760"/>
            </a:xfrm>
            <a:custGeom>
              <a:avLst/>
              <a:gdLst>
                <a:gd name="textAreaLeft" fmla="*/ 88920 w 1824120"/>
                <a:gd name="textAreaRight" fmla="*/ 1735200 w 1824120"/>
                <a:gd name="textAreaTop" fmla="*/ 88920 h 2228760"/>
                <a:gd name="textAreaBottom" fmla="*/ 2139840 h 2228760"/>
              </a:gdLst>
              <a:ahLst/>
              <a:rect l="textAreaLeft" t="textAreaTop" r="textAreaRight" b="textAreaBottom"/>
              <a:pathLst>
                <a:path w="21600" h="26391">
                  <a:moveTo>
                    <a:pt x="3600" y="0"/>
                  </a:moveTo>
                  <a:arcTo wR="3600" hR="3600" stAng="16200000" swAng="-5400000"/>
                  <a:lnTo>
                    <a:pt x="0" y="22791"/>
                  </a:lnTo>
                  <a:arcTo wR="3600" hR="3600" stAng="10800000" swAng="-5400000"/>
                  <a:lnTo>
                    <a:pt x="18000" y="263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Дифференциаци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Звуков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Окружающе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Сред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Дл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Ориентировк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В окружающе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Шумово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обстановк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_s37949"/>
            <p:cNvSpPr/>
            <p:nvPr/>
          </p:nvSpPr>
          <p:spPr>
            <a:xfrm>
              <a:off x="4687920" y="3819240"/>
              <a:ext cx="1824120" cy="2228760"/>
            </a:xfrm>
            <a:custGeom>
              <a:avLst/>
              <a:gdLst>
                <a:gd name="textAreaLeft" fmla="*/ 88920 w 1824120"/>
                <a:gd name="textAreaRight" fmla="*/ 1735200 w 1824120"/>
                <a:gd name="textAreaTop" fmla="*/ 88920 h 2228760"/>
                <a:gd name="textAreaBottom" fmla="*/ 2139840 h 2228760"/>
              </a:gdLst>
              <a:ahLst/>
              <a:rect l="textAreaLeft" t="textAreaTop" r="textAreaRight" b="textAreaBottom"/>
              <a:pathLst>
                <a:path w="21600" h="26391">
                  <a:moveTo>
                    <a:pt x="3600" y="0"/>
                  </a:moveTo>
                  <a:arcTo wR="3600" hR="3600" stAng="16200000" swAng="-5400000"/>
                  <a:lnTo>
                    <a:pt x="0" y="22791"/>
                  </a:lnTo>
                  <a:arcTo wR="3600" hR="3600" stAng="10800000" swAng="-5400000"/>
                  <a:lnTo>
                    <a:pt x="18000" y="263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Уточнен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И обогащен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Представлени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О неречевы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звука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_s37953"/>
            <p:cNvSpPr/>
            <p:nvPr/>
          </p:nvSpPr>
          <p:spPr>
            <a:xfrm>
              <a:off x="6816240" y="3819240"/>
              <a:ext cx="1824120" cy="2228760"/>
            </a:xfrm>
            <a:custGeom>
              <a:avLst/>
              <a:gdLst>
                <a:gd name="textAreaLeft" fmla="*/ 88920 w 1824120"/>
                <a:gd name="textAreaRight" fmla="*/ 1735200 w 1824120"/>
                <a:gd name="textAreaTop" fmla="*/ 88920 h 2228760"/>
                <a:gd name="textAreaBottom" fmla="*/ 2139840 h 2228760"/>
              </a:gdLst>
              <a:ahLst/>
              <a:rect l="textAreaLeft" t="textAreaTop" r="textAreaRight" b="textAreaBottom"/>
              <a:pathLst>
                <a:path w="21600" h="26391">
                  <a:moveTo>
                    <a:pt x="3600" y="0"/>
                  </a:moveTo>
                  <a:arcTo wR="3600" hR="3600" stAng="16200000" swAng="-5400000"/>
                  <a:lnTo>
                    <a:pt x="0" y="22791"/>
                  </a:lnTo>
                  <a:arcTo wR="3600" hR="3600" stAng="10800000" swAng="-5400000"/>
                  <a:lnTo>
                    <a:pt x="18000" y="263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Подготовка слух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Учащихс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К боле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Тонким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И сложным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Дифференцировкам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Восприяти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Реч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На слух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Неречевые звуки имеют ряд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реимуществ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ни обладают интенсивностью и мощность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нообразны по своей частотной характеристи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ни не требуют большого запаса слов для их обозначения и знакомства с содержанием поня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Знакомство с миром неречевых звуков обогащает глухих и слабослышащих детей, т.к. способствует расширению представлений о тех звучаниях, которые встретятся в быту, в литературе, помогут ориентироваться в шумных помещениях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Речь и ее элемен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ля развития слухового восприятия наиболее важным средством являет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чь в виде сл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ра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кста и таких элементов, как гласные, согласные зву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06:10:41Z</dcterms:created>
  <dc:creator>Admin</dc:creator>
  <dc:description/>
  <dc:language>en-US</dc:language>
  <cp:lastModifiedBy>Admin</cp:lastModifiedBy>
  <dcterms:modified xsi:type="dcterms:W3CDTF">2010-11-20T06:39:39Z</dcterms:modified>
  <cp:revision>5</cp:revision>
  <dc:subject/>
  <dc:title>Содержание работы по развитию слухового восприятия речи</dc:title>
</cp:coreProperties>
</file>