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D0A-13B1-436D-821B-3513DB8608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14D-E6D1-4768-B221-8D2669D4B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BE5-70C5-46DD-B464-052A63F40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37D-7B03-4E8E-A52D-19C29B452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856-669D-46A0-A44C-2B7561631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BEF-B3F6-40CF-B104-2253E0E2A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64C4-4CD3-45C4-ADB9-DC702761E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314-BA96-4FF4-8ED4-6D02C772C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712-5BFC-4EEC-BC2F-068A23FDD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E7F-D2EC-476A-AAA9-3B318A8BA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37E-4FED-4BA8-8FFD-9BEBDBE24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6362-270F-4AF2-B064-4C671A2A7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620-F288-4B4D-83F7-6323ADB8C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BDD-A969-4114-B436-EA23C892E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34-DA18-4EA3-A8F7-3E75FCFF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323-0CB7-49E3-A0CD-57A7F251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A7B2-41D4-45A7-ACB3-B12B57F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9F27E-2E13-4515-80CB-83EFC920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BE5D2-E9CD-4083-B5C2-DCBAFF28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FAA3A-BF6F-49D2-A0EC-773484D3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111EF-9810-45D3-AA66-E5AEE4C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1E8A-A29A-4387-8832-CA82E85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E82C-4234-49D2-9469-8DB2DC0B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0994-B8AF-4DC8-93A3-DBC536CF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77A2-B024-484B-9DD6-CC4BE858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A836-6605-4A6C-97FC-DEEAF892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29A-5F97-47AA-87CD-F6CA2036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91BEB-0AC5-448C-ACF1-2AA5C1F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6F6B8-6464-4A70-9915-2235EAE1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CB375-66A3-4DEB-AFF7-AEA4BD22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1882-D31D-4E11-B9B6-FB6E139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77F33-2BAB-49E2-9ED3-0E724AF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9C883-4FE4-43CB-86FB-F9C8862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E5A79-B402-4953-9433-171A3BD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4F1F-11D5-48E2-BC2D-D154A49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443DD-116A-4D77-9021-377D662B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78C5A-12F5-4A3A-8E61-3D92522D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0AC-2B57-42A4-ABE2-92D61AB1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4265-719D-468D-8606-4FBA48F5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70C-CB69-4D0E-85F2-F8A94C43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A28-247E-4113-B9E0-C31BAC5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E54-A670-4D71-8628-DA51015F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221-D64D-4631-A456-6B7A4F85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CD49-AD6D-4D1D-964B-4924778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71C-F0B3-44BE-8998-0B9E57C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D8F-521D-48A3-B31F-2CA963A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8E6-15E1-49E1-8583-8713BAE5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1F64-5B41-4019-BDAE-0B19776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6D70-E447-48BB-AF9C-4B65E3C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B15-BD37-4539-9E52-34F4E79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BB2-FE4F-4EFD-9685-0EF654D0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FB8-6F1E-409D-81A0-2A62BDA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7195-E5AE-4EBA-A7C1-C374DAE1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5312-5D13-428B-84CC-C73C6F7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AE40-2521-46AA-A7C4-4E427CC7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9C1C-62E2-4946-8EC1-F55A0C3F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2161-AFE4-4314-9320-F6305B4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8F1-C565-4001-987F-2E305E5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CB19-B535-4A68-99EC-5D284848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88AB-66DC-47E0-858C-20E357F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26E8-C6B8-450D-8D81-E512726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5F87-9B9C-41A5-8501-DF53621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136C-75F2-4B44-8AFB-D3CA783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D6D6-69CA-44BD-BBA7-0DFF7A3A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7D21-E97D-4C98-8DEF-4698098C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A65D-CD4D-48EC-8DF1-32CC92AF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69BC-54CC-47F0-BCE1-3A0B1E3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BE61-F9C7-44DA-999B-5A60ADEC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FF5-2B1F-492E-8708-CF14727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20CF-4909-4D5F-ADA3-B20DA12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0148-302E-445B-9EA1-A46E604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E297-6938-4756-AA96-C473505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CB3E-BAF8-457E-A66A-4BEF06A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A116-D5E2-42A3-B76A-9B86AF9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7F39-76F1-41B9-A6FC-E17FF31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A729-CA00-45A3-9B09-16E70F91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2EB0-CBCB-4F41-B02B-71629AA6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DF2F-80BA-4A6C-AF48-564669EA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5A69-E504-4DDF-85C9-DE74B4A8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335-84C7-4660-B0E6-04B6007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505E-16E4-4303-AED5-EBF1B22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F09F-FA52-41A8-B496-14A4107B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A199-DF2D-4CD2-9120-3D3F124A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2A59-4D64-4F50-AF2A-7724D1B7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68EB-C26F-4C2C-97FD-BB0D00F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F820-7975-4A84-89D1-4DA9B35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C15B-A683-401F-B3E1-3055C53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B8DD-29FC-4547-AF32-B33315C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8F97-B8D5-45E0-AABF-2A5DF73A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5E68-785A-4E35-A8EC-7A1963A0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C57-BD76-479A-88F6-64ABCB6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F705-250A-409B-A341-2A432E21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6121-695C-4B3C-904F-D5150AC4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96D6-080A-49BF-88AA-9652FC0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5CF6-5190-4F97-8648-2FDED6E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5630-E9F4-4616-AF0C-48E3FAB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BEE78-E817-47EB-A990-4D9F025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3834-4764-46B2-ABED-96DCF8BA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2973-49EF-4FE7-B7C3-FB5D852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98D6-7F78-4B0E-AC25-9627F83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F340-0E14-4066-8353-6AF6576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A5D-B737-4E4B-B008-ABE4AF7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5F11B-E634-4163-AD5B-3DE32B9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4A9A-8C82-4EC1-9B9A-1FC2F52F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AF3A-AEF1-4C1D-91BF-9BE434C1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5EF7-D6AE-4048-B2F9-2C2FEF4A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4114-FFC4-4BD8-A3D7-FF99BDE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0FB1-7893-4611-BDAD-D4C998E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F854-863B-4634-9F49-F0776CF0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B32C-1C77-4146-9185-5DC0271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A9C2-4F9C-4DDC-A6EF-C46A0F8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79E5-8A3A-4740-AB3E-1D70E29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2FE-4572-4289-9126-4DCDAF8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458D-4B13-458C-BF76-E8A5A35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B172-A2EE-4A88-BEAD-FE2BCA5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A9AC-C04B-4FDC-8C55-982616E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63D8-A024-414D-9272-516F80F3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06BD7-AAD0-462C-99AC-256B1CA7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CE39-7156-4876-A95A-42D732FF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8734-E24B-4949-BD07-E7C4C6F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4B874-D87B-47CC-A1B1-FC45942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E0BE-1D03-4538-8BBB-04D2923B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6412-2824-4FDD-AB93-90FDEF3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E15-65F6-4366-88AE-C9B56B8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4C56-2CE9-4132-B6E1-8D5E26E5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D026-C098-42CB-8398-993CA90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CDC14-EE9F-4227-ADF3-375F536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2D1A-C31F-4C7A-BD97-4702089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F1FF-C572-4784-A38B-DF5A0F0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66335-C370-43D5-B0C1-3CFABB5D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810EF-C919-429B-BF92-E7D5A187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1ED5-6EC6-40A7-B3C9-920C63F7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8AFAA-B627-4416-B257-EF2A051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D6B0A-2279-4D4D-959D-470F5108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0143-F9F1-46E0-AF44-DE702FCCD42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8926-6CE2-4F17-9D5D-9DFBBFF47C1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516-0AC6-49D6-A9E4-FB0FCBEA42C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E11-A9C5-4B13-B604-EFABBFCC33E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91D-95B6-4750-B08D-3B9BC5ACA0F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9DD-8FB8-48DF-9BC7-5D58C691826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62E-1998-49CE-9B2C-03174F7CF1A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74C0-86B6-4982-9E37-16722731E22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47E-15F9-4F85-B15E-5EFE2F83240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5A4E-5F22-414A-A711-FD2A50E610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682560" y="615960"/>
            <a:ext cx="8352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0" name="Picture 11" descr="KorkinaO2"/>
          <p:cNvPicPr/>
          <p:nvPr/>
        </p:nvPicPr>
        <p:blipFill>
          <a:blip r:embed="rId1"/>
          <a:stretch/>
        </p:blipFill>
        <p:spPr>
          <a:xfrm>
            <a:off x="468360" y="2997360"/>
            <a:ext cx="820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ловия постоя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вые организмы имеют специальные приспособления: присоски, крючочки, большая плодовит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5" descr=""/>
          <p:cNvPicPr/>
          <p:nvPr/>
        </p:nvPicPr>
        <p:blipFill>
          <a:blip r:embed="rId1"/>
          <a:stretch/>
        </p:blipFill>
        <p:spPr>
          <a:xfrm>
            <a:off x="225360" y="189000"/>
            <a:ext cx="8467920" cy="1238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03_03_06_31"/>
          <p:cNvPicPr/>
          <p:nvPr/>
        </p:nvPicPr>
        <p:blipFill>
          <a:blip r:embed="rId2"/>
          <a:stretch/>
        </p:blipFill>
        <p:spPr>
          <a:xfrm>
            <a:off x="179280" y="148428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9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8" name="Picture 12" descr="03_03_05_06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357336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03_05_03_22"/>
          <p:cNvPicPr/>
          <p:nvPr/>
        </p:nvPicPr>
        <p:blipFill>
          <a:blip r:embed="rId3"/>
          <a:stretch/>
        </p:blipFill>
        <p:spPr>
          <a:xfrm>
            <a:off x="3851280" y="364500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15" descr=""/>
          <p:cNvPicPr/>
          <p:nvPr/>
        </p:nvPicPr>
        <p:blipFill>
          <a:blip r:embed="rId2"/>
          <a:stretch/>
        </p:blipFill>
        <p:spPr>
          <a:xfrm>
            <a:off x="225360" y="189000"/>
            <a:ext cx="8467920" cy="12380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2" name="Picture 18" descr="03_04_04_02"/>
          <p:cNvPicPr/>
          <p:nvPr/>
        </p:nvPicPr>
        <p:blipFill>
          <a:blip r:embed="rId3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9" descr="03_05_04_26"/>
          <p:cNvPicPr/>
          <p:nvPr/>
        </p:nvPicPr>
        <p:blipFill>
          <a:blip r:embed="rId4"/>
          <a:stretch/>
        </p:blipFill>
        <p:spPr>
          <a:xfrm>
            <a:off x="4803840" y="3938760"/>
            <a:ext cx="372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7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8480520" cy="725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03_04_03_03"/>
          <p:cNvPicPr/>
          <p:nvPr/>
        </p:nvPicPr>
        <p:blipFill>
          <a:blip r:embed="rId2"/>
          <a:stretch/>
        </p:blipFill>
        <p:spPr>
          <a:xfrm>
            <a:off x="1649520" y="1600200"/>
            <a:ext cx="1654200" cy="2185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03_04_03_07"/>
          <p:cNvPicPr/>
          <p:nvPr/>
        </p:nvPicPr>
        <p:blipFill>
          <a:blip r:embed="rId3"/>
          <a:stretch/>
        </p:blipFill>
        <p:spPr>
          <a:xfrm>
            <a:off x="2857680" y="3938760"/>
            <a:ext cx="4929120" cy="2187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03_04_03_06"/>
          <p:cNvPicPr/>
          <p:nvPr/>
        </p:nvPicPr>
        <p:blipFill>
          <a:blip r:embed="rId4"/>
          <a:stretch/>
        </p:blipFill>
        <p:spPr>
          <a:xfrm>
            <a:off x="611280" y="1125360"/>
            <a:ext cx="40384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4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Trebuchet MS"/>
              </a:rPr>
              <a:t>C</a:t>
            </a:r>
            <a:r>
              <a:rPr b="1" i="1" lang="ru-RU" sz="2600" spc="-1" strike="noStrike">
                <a:solidFill>
                  <a:srgbClr val="000099"/>
                </a:solidFill>
                <a:latin typeface="Trebuchet MS"/>
              </a:rPr>
              <a:t>реда обитания – условия, окружающие организ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Trebuchet MS"/>
              </a:rPr>
              <a:t>Различают наземно– воздушную, водную, почвенную, организменную среды обит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Trebuchet MS"/>
              </a:rPr>
              <a:t>Каждый организм приспособлен к жизни в определенной сре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611280" y="551664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.18– 24, ответить на вопросы на стр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90c5"/>
                </a:solidFill>
                <a:latin typeface="Trebuchet MS"/>
              </a:rPr>
              <a:t>Сегодня урок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ёгкий – трудны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тересный – скучны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езный – ненужны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90c5"/>
                </a:solidFill>
                <a:latin typeface="Trebuchet MS"/>
              </a:rPr>
              <a:t>Я ученик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арательный – ленивы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нимательный – невнимательны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рок усвоил – не усвои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знать, что такое среда обитания организм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знакомиться с отличительными особенностями разных сред обитания организм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йти отличия между условиями жизни в разных средах и определить  черты приспособленности организмов к жизни в ни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03_01_0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03_03_02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03_03_04_08"/>
          <p:cNvPicPr/>
          <p:nvPr/>
        </p:nvPicPr>
        <p:blipFill>
          <a:blip r:embed="rId1"/>
          <a:stretch/>
        </p:blipFill>
        <p:spPr>
          <a:xfrm>
            <a:off x="671400" y="274680"/>
            <a:ext cx="780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03_03_08_04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03_03_09_06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5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03_03_01"/>
          <p:cNvPicPr/>
          <p:nvPr/>
        </p:nvPicPr>
        <p:blipFill>
          <a:blip r:embed="rId2"/>
          <a:stretch/>
        </p:blipFill>
        <p:spPr>
          <a:xfrm>
            <a:off x="1928880" y="1609560"/>
            <a:ext cx="4295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:\Documents and Settings\Ivan\Рабочий стол\k-eco-10b.jpg"/>
          <p:cNvPicPr/>
          <p:nvPr/>
        </p:nvPicPr>
        <p:blipFill>
          <a:blip r:embed="rId1"/>
          <a:stretch/>
        </p:blipFill>
        <p:spPr>
          <a:xfrm>
            <a:off x="285840" y="285840"/>
            <a:ext cx="75722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Ivan</cp:lastModifiedBy>
  <dcterms:modified xsi:type="dcterms:W3CDTF">2013-10-17T16:52:04Z</dcterms:modified>
  <cp:revision>42</cp:revision>
  <dc:subject/>
  <dc:title>Среды обитания организмов. Приспособленность организмов к среде обитания.</dc:title>
</cp:coreProperties>
</file>