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99B-9025-495E-9723-6947F9BA089D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D2B5-41DE-4A0F-BE25-D7067FE67135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ABB-DC71-46D2-8E52-D34BE8C4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8D8-B90C-4196-91A2-6DC1633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F6B-BCF1-4D36-88BF-F5B5AF43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D85-38D5-41CB-974C-442F9CC2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607F-A396-479F-B265-D455865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345E-92BD-4E0E-B7D8-6EA74EB5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C17-4284-4EBE-8556-C212DFA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4E6F-1893-45E8-B7E3-6502F6C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AF05-F616-4DFB-BE34-965F9B12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DB7-201F-44A1-A034-E7C1BFC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963-EBDF-4D49-A29E-EEA9A3E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9D1-C521-489D-B9F7-C5DFFF61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03D5-9CE2-4ACA-99A3-BA841772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F866-AF2D-485A-BA93-74368187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4914-7A4E-48E7-A15D-30B76AD0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A99-A681-4CFD-BE22-EC4A2CA5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869-93E3-4254-9F3F-94C65A85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96A-8B64-4B73-A212-CC31AAA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DF8-439A-4679-91D2-8ADA254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541-0B7C-4E7A-983C-DA7B33B8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013-FAF6-437F-8978-AAF46517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F6D-6145-487D-859B-D541A7B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1C1-57DF-4DAB-A3F0-D538180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763-9634-455C-972E-A327627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8B10-1916-4F04-8AE1-57BC0C825A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201C-527D-4598-8B7C-5DEC7A16D4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64404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a"/>
                </a:solidFill>
                <a:latin typeface="Times New Roman"/>
              </a:rPr>
              <a:t>Алгоритм </a:t>
            </a:r>
            <a:br>
              <a:rPr sz="6000"/>
            </a:br>
            <a:r>
              <a:rPr b="1" i="1" lang="ru-RU" sz="6000" spc="-1" strike="noStrike">
                <a:solidFill>
                  <a:srgbClr val="0000fa"/>
                </a:solidFill>
                <a:latin typeface="Times New Roman"/>
              </a:rPr>
              <a:t>и его свой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286240" y="51436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учитель информатики Рубекина Ю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2142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ое образовательное учреждение лицей № 378 Кир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4.  Массов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990720"/>
            <a:ext cx="8115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зможность применения алгоритма к большому количеству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e5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оритмы сложения, вычитания, умножения и деления могут быть применены для любых чисел в различных позиционных системах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560" y="357120"/>
            <a:ext cx="7086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5. Понятность</a:t>
            </a:r>
            <a:br>
              <a:rPr sz="3000"/>
            </a:b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357200"/>
            <a:ext cx="7981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нитель обладает определенным набором команд - </a:t>
            </a:r>
            <a:r>
              <a:rPr b="1" lang="ru-RU" sz="2200" spc="-1" strike="noStrike">
                <a:solidFill>
                  <a:srgbClr val="0000fa"/>
                </a:solidFill>
                <a:latin typeface="Times New Roman"/>
              </a:rPr>
              <a:t>системой коман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ые 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жет выполн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лгоритм должен быть понятен исполнителю, т.е. должен содержать только те команды, которые входят в систему команд исполни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ключении компьютера выполняются алгоритмы тестирования и загрузки операционной системы. Эти алгоритмы выполняет компьютер, поэтому они должны быть записаны на понятном компьютеру машинном язы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500040" y="357120"/>
            <a:ext cx="8286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e5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Житкова О. 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дрявцева Е. К.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ычислительной техники. Тематический контроль, М.: «Интеллект-Центр»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гринович  Н. Д. Информатика. Базовый курс.Учебник для  9 класса. М.: «Бином»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Макарова Н. В. Информатика 7-9  класс, Питер: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Бокучава Т. П., Тур С. Н. Первые шаги в мире информатики, СПб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28840" y="30492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57160" y="1143000"/>
            <a:ext cx="78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б алгоритме, свойствах алгорит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e5"/>
                </a:solidFill>
                <a:latin typeface="Times New Roman"/>
              </a:rPr>
              <a:t>Но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, дискретность, результативность, массовость, детерминированность, поня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a"/>
                </a:solidFill>
                <a:latin typeface="Times New Roman"/>
              </a:rPr>
              <a:t>Алгорит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онечная последовательность действий, описывающая процесс преобразования объекта из начального состояния в конечное, записанная с помощью точных и понятных исполнителю кома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a"/>
                </a:solidFill>
                <a:latin typeface="Times New Roman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писание последовательности действий (план), строгое исполнение которых приводит к решению поставленной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a"/>
                </a:solidFill>
                <a:latin typeface="Times New Roman"/>
              </a:rPr>
              <a:t>Алгоритмизац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оцесс разработки алгоритма (плана действий) для решения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fa"/>
                </a:solidFill>
                <a:latin typeface="Times New Roman"/>
              </a:rPr>
              <a:t>История возникновения </a:t>
            </a:r>
            <a:br>
              <a:rPr sz="3500"/>
            </a:br>
            <a:r>
              <a:rPr b="1" i="1" lang="en-US" sz="3500" spc="-1" strike="noStrike">
                <a:solidFill>
                  <a:srgbClr val="0000fa"/>
                </a:solidFill>
                <a:latin typeface="Times New Roman"/>
              </a:rPr>
              <a:t>термина “алгоритм</a:t>
            </a:r>
            <a:r>
              <a:rPr b="1" i="1" lang="en-US" sz="3000" spc="-1" strike="noStrike">
                <a:solidFill>
                  <a:srgbClr val="0000fa"/>
                </a:solidFill>
                <a:latin typeface="Times New Roman"/>
              </a:rPr>
              <a:t>”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ово  “</a:t>
            </a:r>
            <a:r>
              <a:rPr b="0" lang="en-US" sz="2800" spc="-1" strike="noStrike">
                <a:solidFill>
                  <a:srgbClr val="0000fa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происходит  от “algorithmi”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атинской  формы написания  и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дающегося математика I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а аль-Хорез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й сформулировал правила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ифметических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a"/>
                </a:solidFill>
                <a:latin typeface="Times New Roman"/>
              </a:rPr>
              <a:t>Исполнители алгоритмов</a:t>
            </a:r>
            <a:r>
              <a:rPr b="1" i="1" lang="ru-RU" sz="3000" spc="-1" strike="noStrike">
                <a:solidFill>
                  <a:srgbClr val="0000fa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изменить состояние объекта, следует произвести над ним определенные действия (операции). Выполняет эти операци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нител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r>
              <a:rPr b="0" i="1" lang="ru-RU" sz="2400" spc="-1" strike="noStrike">
                <a:solidFill>
                  <a:srgbClr val="0000fa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лгоритм терморегуля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змерить температуру в поме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измеренная температура ниже заданной, включить обогрев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ЕРМОМЕТР         ЧЕЛОВЕК        ОБОГРЕ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АТЧИК ТЕМПЕРАТУРЫ      МИКРОПРОЦЕССОР       ОБОГРЕ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Выво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нителем алгоритма может являться как человек, так и микропроцесс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54864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772308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505944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74280" y="404280"/>
            <a:ext cx="80010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a"/>
                </a:solidFill>
                <a:latin typeface="Times New Roman"/>
              </a:rPr>
              <a:t>С в о й с т в а    а л г о р и т м 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738600" y="3903840"/>
            <a:ext cx="2133720" cy="99036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857760" y="1770120"/>
            <a:ext cx="2643120" cy="76212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дискре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28760" y="2760840"/>
            <a:ext cx="3995640" cy="76176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детерминирова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85880" y="5275440"/>
            <a:ext cx="3333600" cy="72540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результатив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57920" y="5504040"/>
            <a:ext cx="2224080" cy="68580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массо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6329520" y="2989440"/>
            <a:ext cx="2286000" cy="76176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оня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2671560" y="474192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2443320" y="352260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881600" y="25322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5795640" y="375120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4881600" y="34466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4881600" y="35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5872320" y="48182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1. Дискретн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100"/>
            </a:b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(разделенность)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992240"/>
            <a:ext cx="7238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алгоритм должен состоять из конкретных действий, следующих в опреде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приготовления блюда быстрого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ысыпать в емкость содержимое пак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лить в емкость 200 мл горячей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ереме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терминированн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(определенность,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точность)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7160" y="1371240"/>
            <a:ext cx="798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ая команда алгоритма определяет однозначное действие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управлении самолетом используются сложные алгоритмы, исполнителями которых являются пилот или бортовой компьютер. Каждая команда алгоритма определяет однозначное действие исполн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3. Результативн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  сложения  целых чисел в десятичной системе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Записать числа в столб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ложить числа младшего разря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Записать результат под горизонтальной 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---------              ---------           ----------          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1896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еобразование объекта из начального состояния в конечное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14:05:01Z</dcterms:created>
  <dc:creator>qwerty</dc:creator>
  <dc:description/>
  <dc:language>en-US</dc:language>
  <cp:lastModifiedBy>User1</cp:lastModifiedBy>
  <dcterms:modified xsi:type="dcterms:W3CDTF">2013-02-14T10:35:38Z</dcterms:modified>
  <cp:revision>33</cp:revision>
  <dc:subject/>
  <dc:title>А л г о р и т м -</dc:title>
</cp:coreProperties>
</file>