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3417-E6E8-4084-86AC-C8896B5D79AE}" type="slidenum"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9D39-22A7-4E8D-87FD-CAAF50EDB237}" type="slidenum"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2F6B-2EA5-4B93-88B4-621F4F4D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8F2-5757-4CAB-BB76-A0006FEE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7B9-4160-4E88-99DC-F13D15E3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66A-B77C-46E5-85E2-AA453410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9EDC-C017-4FC7-A22A-059000C0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E1BB-C033-4B80-8261-62D20490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4E24-77AA-4E5D-B952-AAB701B5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8581-6BE0-4D9F-9625-0AE1764F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DBEA-AE6E-49F7-8A64-3A22EA74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58CF-BB3D-4CE3-A519-577ACC82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075B-2F04-4E79-BEBE-9D5E0ECA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798-86DA-4ABA-9258-F1645D4A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60AC-5AA4-4757-93B2-4835E3FB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C27B-E5C7-4BF9-97CB-27652A0A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FE76-77F3-46B4-97C0-629A3F01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35CD-15C6-4DA6-9D21-BFF1347E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EC24-06CF-478B-A316-494AECB8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418-7C25-4B4A-9927-F8BABE63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2B1-E022-44BA-9FF0-88C6723E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250-DF33-4360-814D-DD78E460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16EE-E162-42E6-8C98-90B37C7F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954-E859-4111-89BD-A05C60AE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691-D261-4983-8241-AB363266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108-2633-4D37-ADEA-0A524AEE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6316-53DB-4F74-8642-504DC7C572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2B8F-45EB-4861-9C00-679F494AB25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1773360"/>
            <a:ext cx="64404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a"/>
                </a:solidFill>
                <a:latin typeface="Times New Roman"/>
              </a:rPr>
              <a:t>Алгоритм </a:t>
            </a:r>
            <a:br>
              <a:rPr sz="6000"/>
            </a:br>
            <a:r>
              <a:rPr b="1" i="1" lang="ru-RU" sz="6000" spc="-1" strike="noStrike">
                <a:solidFill>
                  <a:srgbClr val="0000fa"/>
                </a:solidFill>
                <a:latin typeface="Times New Roman"/>
              </a:rPr>
              <a:t>и его свойст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5286240" y="514368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: учитель информатики Рубекина Ю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357200" y="21420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юджетное образовательное учреждение лицей № 378 Кировск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4.  Массовость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71680" y="990720"/>
            <a:ext cx="8115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озможность применения алгоритма к большому количеству исходны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e5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горитмы сложения, вычитания, умножения и деления могут быть применены для любых чисел в различных позиционных системах 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5560" y="357120"/>
            <a:ext cx="7086600" cy="17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5. Понятность</a:t>
            </a:r>
            <a:br>
              <a:rPr sz="3000"/>
            </a:br>
            <a:br>
              <a:rPr sz="2100"/>
            </a:b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28800" y="1357200"/>
            <a:ext cx="7981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сполнитель обладает определенным набором команд - </a:t>
            </a:r>
            <a:r>
              <a:rPr b="1" lang="ru-RU" sz="2200" spc="-1" strike="noStrike">
                <a:solidFill>
                  <a:srgbClr val="0000fa"/>
                </a:solidFill>
                <a:latin typeface="Times New Roman"/>
              </a:rPr>
              <a:t>системой команд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которые он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жет выполни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лгоритм должен быть понятен исполнителю, т.е. должен содержать только те команды, которые входят в систему команд исполните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fa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включении компьютера выполняются алгоритмы тестирования и загрузки операционной системы. Эти алгоритмы выполняет компьютер, поэтому они должны быть записаны на понятном компьютеру машинном язы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4"/>
          <p:cNvSpPr/>
          <p:nvPr/>
        </p:nvSpPr>
        <p:spPr>
          <a:xfrm>
            <a:off x="500040" y="357120"/>
            <a:ext cx="82868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e5"/>
                </a:solidFill>
                <a:latin typeface="Times New Roman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Житкова О. 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дрявцева Е. К. Основы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вычислительной техники. Тематический контроль, М.: «Интеллект-Центр»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Угринович  Н. Д. Информатика. Базовый курс.Учебник для  9 класса. М.: «Бином»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Макарова Н. В. Информатика 7-9  класс, Питер: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Бокучава Т. П., Тур С. Н. Первые шаги в мире информатики, СПб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428840" y="30492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0000e5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857160" y="1143000"/>
            <a:ext cx="7886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представление об алгоритме, свойствах алгорит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e5"/>
                </a:solidFill>
                <a:latin typeface="Times New Roman"/>
              </a:rPr>
              <a:t>Новые по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горитм, дискретность, результативность, массовость, детерминированность, поня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9528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a"/>
                </a:solidFill>
                <a:latin typeface="Times New Roman"/>
              </a:rPr>
              <a:t>Алгорит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конечная последовательность действий, описывающая процесс преобразования объекта из начального состояния в конечное, записанная с помощью точных и понятных исполнителю коман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a"/>
                </a:solidFill>
                <a:latin typeface="Times New Roman"/>
              </a:rPr>
              <a:t>Алгорит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описание последовательности действий (план), строгое исполнение которых приводит к решению поставленной задачи за конечное число ша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a"/>
                </a:solidFill>
                <a:latin typeface="Times New Roman"/>
              </a:rPr>
              <a:t>Алгоритмизаци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оцесс разработки алгоритма (плана действий) для решения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fa"/>
                </a:solidFill>
                <a:latin typeface="Times New Roman"/>
              </a:rPr>
              <a:t>История возникновения </a:t>
            </a:r>
            <a:br>
              <a:rPr sz="3500"/>
            </a:br>
            <a:r>
              <a:rPr b="1" i="1" lang="en-US" sz="3500" spc="-1" strike="noStrike">
                <a:solidFill>
                  <a:srgbClr val="0000fa"/>
                </a:solidFill>
                <a:latin typeface="Times New Roman"/>
              </a:rPr>
              <a:t>термина “алгоритм</a:t>
            </a:r>
            <a:r>
              <a:rPr b="1" i="1" lang="en-US" sz="3000" spc="-1" strike="noStrike">
                <a:solidFill>
                  <a:srgbClr val="0000fa"/>
                </a:solidFill>
                <a:latin typeface="Times New Roman"/>
              </a:rPr>
              <a:t>”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лово  “</a:t>
            </a:r>
            <a:r>
              <a:rPr b="0" lang="en-US" sz="2800" spc="-1" strike="noStrike">
                <a:solidFill>
                  <a:srgbClr val="0000fa"/>
                </a:solidFill>
                <a:latin typeface="Times New Roman"/>
              </a:rPr>
              <a:t>алгорит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происходит  от “algorithmi”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атинской  формы написания  и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дающегося математика I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а аль-Хорез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торый сформулировал правила вы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рифметических опер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fa"/>
                </a:solidFill>
                <a:latin typeface="Times New Roman"/>
              </a:rPr>
              <a:t>Исполнители алгоритмов</a:t>
            </a:r>
            <a:r>
              <a:rPr b="1" i="1" lang="ru-RU" sz="3000" spc="-1" strike="noStrike">
                <a:solidFill>
                  <a:srgbClr val="0000fa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изменить состояние объекта, следует произвести над ним определенные действия (операции). Выполняет эти операци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сполнител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fa"/>
                </a:solidFill>
                <a:latin typeface="Times New Roman"/>
              </a:rPr>
              <a:t>Пример</a:t>
            </a:r>
            <a:r>
              <a:rPr b="0" i="1" lang="ru-RU" sz="2400" spc="-1" strike="noStrike">
                <a:solidFill>
                  <a:srgbClr val="0000fa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Алгоритм терморегуля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Измерить температуру в помещ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Если измеренная температура ниже заданной, включить обогрев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ТЕРМОМЕТР         ЧЕЛОВЕК        ОБОГРЕВ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АТЧИК ТЕМПЕРАТУРЫ      МИКРОПРОЦЕССОР       ОБОГРЕВ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fa"/>
                </a:solidFill>
                <a:latin typeface="Times New Roman"/>
              </a:rPr>
              <a:t>Вывод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сполнителем алгоритма может являться как человек, так и микропроцессо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3886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>
            <a:off x="54864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3"/>
          <p:cNvSpPr/>
          <p:nvPr/>
        </p:nvSpPr>
        <p:spPr>
          <a:xfrm>
            <a:off x="772308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5"/>
          <p:cNvSpPr/>
          <p:nvPr/>
        </p:nvSpPr>
        <p:spPr>
          <a:xfrm>
            <a:off x="505944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74280" y="404280"/>
            <a:ext cx="80010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fa"/>
                </a:solidFill>
                <a:latin typeface="Times New Roman"/>
              </a:rPr>
              <a:t>С в о й с т в а    а л г о р и т м 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3738600" y="3903840"/>
            <a:ext cx="2133720" cy="990360"/>
          </a:xfrm>
          <a:prstGeom prst="flowChartAlternateProcess">
            <a:avLst/>
          </a:prstGeom>
          <a:gradFill rotWithShape="0">
            <a:gsLst>
              <a:gs pos="0">
                <a:srgbClr val="ff99cc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857760" y="1770120"/>
            <a:ext cx="2643120" cy="762120"/>
          </a:xfrm>
          <a:prstGeom prst="flowChartAlternateProcess">
            <a:avLst/>
          </a:prstGeom>
          <a:gradFill rotWithShape="0">
            <a:gsLst>
              <a:gs pos="0">
                <a:srgbClr val="ff99cc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дискрет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428760" y="2760840"/>
            <a:ext cx="3995640" cy="761760"/>
          </a:xfrm>
          <a:prstGeom prst="flowChartAlternateProcess">
            <a:avLst/>
          </a:prstGeom>
          <a:gradFill rotWithShape="0">
            <a:gsLst>
              <a:gs pos="0">
                <a:srgbClr val="ff99cc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детерминирован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785880" y="5275440"/>
            <a:ext cx="3333600" cy="725400"/>
          </a:xfrm>
          <a:prstGeom prst="flowChartAlternateProcess">
            <a:avLst/>
          </a:prstGeom>
          <a:gradFill rotWithShape="0">
            <a:gsLst>
              <a:gs pos="0">
                <a:srgbClr val="ff99cc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результатив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5857920" y="5504040"/>
            <a:ext cx="2224080" cy="685800"/>
          </a:xfrm>
          <a:prstGeom prst="flowChartAlternateProcess">
            <a:avLst/>
          </a:prstGeom>
          <a:gradFill rotWithShape="0">
            <a:gsLst>
              <a:gs pos="0">
                <a:srgbClr val="ff99cc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массов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6329520" y="2989440"/>
            <a:ext cx="2286000" cy="761760"/>
          </a:xfrm>
          <a:prstGeom prst="flowChartAlternateProcess">
            <a:avLst/>
          </a:prstGeom>
          <a:gradFill rotWithShape="0">
            <a:gsLst>
              <a:gs pos="0">
                <a:srgbClr val="ff99cc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онят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 flipH="1">
            <a:off x="2671560" y="474192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>
            <a:off x="2443320" y="352260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4881600" y="253224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 flipH="1">
            <a:off x="5795640" y="375120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7"/>
          <p:cNvSpPr/>
          <p:nvPr/>
        </p:nvSpPr>
        <p:spPr>
          <a:xfrm>
            <a:off x="4881600" y="34466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4881600" y="3598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5872320" y="481824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1. Дискретность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100"/>
            </a:b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(разделенность)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992240"/>
            <a:ext cx="7238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й алгоритм должен состоять из конкретных действий, следующих в определенном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fa"/>
                </a:solidFill>
                <a:latin typeface="Times New Roman"/>
              </a:rPr>
              <a:t>Пример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горитм приготовления блюда быстрого пит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Высыпать в емкость содержимое паке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Налить в емкость 200 мл горячей 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Перемеш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Детерминированность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900"/>
            </a:b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(определенность,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точность)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57160" y="1371240"/>
            <a:ext cx="7981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ая команда алгоритма определяет однозначное действие исполн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fa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управлении самолетом используются сложные алгоритмы, исполнителями которых являются пилот или бортовой компьютер. Каждая команда алгоритма определяет однозначное действие исполн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3. Результативность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fa"/>
                </a:solidFill>
                <a:latin typeface="Times New Roman"/>
              </a:rPr>
              <a:t>Пример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горитм   сложения  целых чисел в десятичной системе счис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Записать числа в столб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Сложить числа младшего разря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Записать результат под горизонтальной чер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---------              ---------           ----------           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1896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еобразование объекта из начального состояния в конечное за конечное число ша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14:05:01Z</dcterms:created>
  <dc:creator>qwerty</dc:creator>
  <dc:description/>
  <dc:language>en-US</dc:language>
  <cp:lastModifiedBy>User1</cp:lastModifiedBy>
  <dcterms:modified xsi:type="dcterms:W3CDTF">2013-02-14T10:35:38Z</dcterms:modified>
  <cp:revision>33</cp:revision>
  <dc:subject/>
  <dc:title>А л г о р и т м -</dc:title>
</cp:coreProperties>
</file>