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D33-8905-477A-A79F-C617FEC0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7CC-E4B8-413F-80C5-6F675E92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1EE-4FBA-4674-977A-B40A5A43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9F3-3AA1-4959-9ED2-A826E838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E47-C90F-4E41-AE88-CEC13965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8D40-D255-46F0-AA58-CCCF666C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B9C-B6A4-47BF-8D0D-3FDB6768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044-ED1D-4756-BEF0-D869C338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33D-867E-445A-A3B5-8F1387B3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24B-C372-45C8-B0A1-CCF82AD3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0AD-44E7-45AE-A925-54268586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81DB-3776-4509-9B5A-F356762C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149E-A35D-4087-AFCE-1EAB3B9EF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781440" y="-4227840"/>
            <a:ext cx="43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8000" y="549360"/>
            <a:ext cx="514512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ульский   самовар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16872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 устроен самовар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и расположена жаровня в виде трубы – «кувш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изу под «кувшином» для усиления тяги делается поддув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рху закрывается крыш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лово самовара опирается на поддон или 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рышке располагается камфорка для установки заварного чай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лива воды служит 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86704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95640" y="3716280"/>
            <a:ext cx="21607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опливо для самова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пили самовар древесным углем, сухими чурками и щепками, сосновыми шиш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конце 19 века появляется керосиновый самов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956 году в Туле выпустили первый электрический самов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95800" y="1628640"/>
            <a:ext cx="313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Золотой в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 век – «золотой век» самоварного дела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ая фабрика старалась придумать свой, непохожий на другие самов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юда такое разнообразие самоварных форм, размеров и емкостей: от стакана до 250 литров (суксу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нце 19 – 20 века самовары имели разнообразные названия указывающие на форму изделия: «банка», «бочка», «рюмка», «ваза», «репка», «яйцо»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788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оллекция самовар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2571840" cy="2982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443640" y="1341360"/>
            <a:ext cx="2419200" cy="4762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27160" y="4508640"/>
            <a:ext cx="1911240" cy="208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340000" y="4508640"/>
            <a:ext cx="1303200" cy="2349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916360" y="1341360"/>
            <a:ext cx="3616200" cy="3125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3851280" y="4562640"/>
            <a:ext cx="24573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оллекция самовар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219400" cy="4762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3305160" cy="4762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300720" y="1557360"/>
            <a:ext cx="2409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амовар – генерал на чайном сто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140360" y="155736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82520" y="1700280"/>
            <a:ext cx="34099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амовары 20 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50920" y="148428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635280" y="148428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524720" y="1628640"/>
            <a:ext cx="1257480" cy="1562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364000" y="1484280"/>
            <a:ext cx="1971720" cy="2381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468360" y="3716280"/>
            <a:ext cx="2162160" cy="2381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3348000" y="3716280"/>
            <a:ext cx="20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6300720" y="3789360"/>
            <a:ext cx="2381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амовары 20 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разнородны! Как богат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вы, они лишь экспона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дь современники мо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учены гонять ча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самоваров. Скромный чай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х собеседник и печаль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гостю высоко цен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носят кофе раствор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19280" y="4941720"/>
            <a:ext cx="1057320" cy="1714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3192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де есть чай – там и под  елью ра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5370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Где был изготовлен первый самов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В каком году и кем был изготовлен первый самов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Чем ещё славится город Ту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Какой продукт способствовал появлению самовара на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В каком веке появился на Руси ча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Что является показательной чертой русского традиционного бы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Олицетворением чего был в доме самов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До чая, какой на Руси был самый распространенный напит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А какой состав сбит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Какой металл был основным для производства самовар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Что означает слово «самовар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Что в нем вари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Как устроен самов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.Чем топили самова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Какой век считается «золотым веком» самоварного дела в Росс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де появился самовар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вар чисто русское изобретение – это не вызывает сом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х делали на Урале, в Москве, Петербурге, Туле, Владимирской, Ярославской и Вятской губер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вестно, что первый самовар был изготовлен в г. Туле в 1778 году в Заречье Назаром Лисици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оро у Лисицина нашлось много последов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и стали оружейники, так как в Туле находились высококвалифицированные мастера по метал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этому г. Тула стал известен на весь мир как центр самоварного производства, а также пряничного производства и оруж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608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В г. Т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В 1778 году, мастером Лисици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Пряничным и оружейным производ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В 17 в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Чаепитие за самов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Уюта, достатка, благополу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Сбит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Мед, зверобой, шалфей, корень валерианы, имбирь и др. пря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Лат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Сам ва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.Воду, еду или пищ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.Кувшин, крышка, поддувало, поддон с ножками, 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.Углем древесным, керосином, электроэнерг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.19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 появился самовар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явление этого «медного чуда» связано с широким распространением в России заморского напитка – ч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первые на Руси чай появился в 17 веке, его подарил русскому царю один из монгольских х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не сразу чай прижился на русской зем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воначально его употребляли с большой осторожностью, чаще как лекар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 целебных свойствах чая народ сложил поговор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Чай пьешь – до ста лет проживёшь»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Выпей чайку – позабудешь тоску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усские трад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ной из самых ярких и показательных черт русского традиционного быта считается чаепитие за самов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мовар был своеобразным олицетворением достатка, семейного уюта, благополу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го включали в девичье приданое, передавали по наследству, дар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щательно начищенный, он красовался на самом видном и почетном месте в комн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2887560" cy="2316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32720" y="3789360"/>
            <a:ext cx="22510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бит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 чая в России употребляли разные напи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мое большое распространение на Руси получил сбит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битень – горячий медовый напиток со зверобоем, шалфеем, лавровым листом, корнем валерианы, имбирем и другими пря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битень наливали из сосудов с длинным носиком, выдвинутым далеко 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2205000"/>
            <a:ext cx="41054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битенщ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суды для сбитня напоминали чайник, что видно на известной картине И.С. Щедровского «Сбитенщ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и использовались как термо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Ай да сбитень – сбитенё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ходи - ка паренё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битень тётушка варила, сама кушала, хвал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сем ребятам говор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ы, ребята, пейт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битня не жалейт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битень варен на мед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на рощеном солод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кусен, аромате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всякого приятен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угак Т.Б. 1978 с. 1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959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Металл для самовар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овары делали из красной и зелёной меди, мельхиора, томп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огда самовары золотили, серебр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основной металл для самоваров - лату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508720" y="3068640"/>
            <a:ext cx="2755800" cy="364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27162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начение слова «самовар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во «самовар» перешло от нас почти во все языки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схождение этого слова теперь не всем понятно, поскольку сочетание «сам варит» в соединении со словом «вода» кажется неправи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всего лишь 100 лет назад слово «варить» употреблялось не только в отношении еды (варить суп, рыбу), но и применительно к воде, наравне со словом «кипяти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е того, в самоварах не только кипятили воду, но и варили пищ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95640" y="4221000"/>
            <a:ext cx="4762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амовар поё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чень ценились «музыкальные способности» самов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ипая, он начинает «петь» - издавать своеобраз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первой стадии самовар «поёт», на второй «шумит», на третьей «бурл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сня самовара создает атмосферу уюта, располагает к неторопливой спокойной бесе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да в самоваре никогда не перекип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4608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08:36:38Z</dcterms:created>
  <dc:creator>User</dc:creator>
  <dc:description/>
  <dc:language>en-US</dc:language>
  <cp:lastModifiedBy>User</cp:lastModifiedBy>
  <dcterms:modified xsi:type="dcterms:W3CDTF">2013-10-17T16:03:04Z</dcterms:modified>
  <cp:revision>7</cp:revision>
  <dc:subject/>
  <dc:title>Слайд 1</dc:title>
</cp:coreProperties>
</file>