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6D4-C625-41A6-9ECC-F3E781D1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70E-60ED-4C5F-B0C2-A8733E7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783-882C-4704-854D-7F9F064E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76D-38D4-4C10-B3FE-38726BC9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0AAE-4A60-4223-8DB0-04ECEA0F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D4F-C071-45A6-9199-DD4A872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C7D-FB96-4A9A-B3C9-1724A486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8DC-A265-493B-99B2-2F37C95E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D3D4-4F8B-448C-92B3-1C273BE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F215-3B64-4BF2-BD32-DA61ADD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D3CB-4F2A-4491-9604-3E04061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84C-914E-43A4-8DF0-FFF45E9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7CF0-34AF-4DC6-81AB-1108BAF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31C-A883-4962-A6BA-4736D40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2D99-7EB1-4657-BBB3-A77B6E4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267-2577-48F2-9F34-621FCB65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2604-DEA1-4285-AF0F-518C645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E12-5F6F-4E8F-AE63-4F270EF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AFC-8C64-485E-8D95-61846EB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82C-FB98-4EE3-86D8-2AEA6D6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B0D-A9C0-44B3-B5B2-F2D0EA15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956-D66A-4348-AB3F-A070294A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032-E3FF-44FD-89B6-702C7512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FC9-6EF1-4A66-93ED-F99D405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19D-0B8D-4567-8C6D-71BA0FC72F1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1591-2067-46BD-B7B9-F5BAF1A268E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п. Возрождение»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34920" y="1628640"/>
            <a:ext cx="524844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Внеклассное мероприятие для начальных классов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 элементами психологического тренинга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«Учимся дружить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22176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355640" y="1844280"/>
            <a:ext cx="4426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Сколько раз можно простить друга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23302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63640" y="549360"/>
            <a:ext cx="774072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1. Друга нет – ищи,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а нашел – берег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2. Не имей сто рублей,…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а имей сто друз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3. Крепкую дружбу и …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топором на разрубиш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4. Один за всех…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и все за одно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5.  Старый друг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лучше новых двух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2509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4581000"/>
            <a:ext cx="7772400" cy="12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гра «Я – ты, он – она, вместе целая страна…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4672080" cy="3501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79640" y="333000"/>
            <a:ext cx="637056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пражнение «Комплимент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4087800" cy="4870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441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пражнение «На одной ноге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4549680" cy="489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404640"/>
            <a:ext cx="71611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пражнение «Протяни друг другу руку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251928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615492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Памятка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676160"/>
            <a:ext cx="809964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1. Излучайте положительные                 эмоции. Будьте добры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жизнерадостны, спокойн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2. Улыбайтесь чаще и старайтесь делать это искренн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3. Называйте друзей по имен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4. Умейте слушать друг друг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5. Говорите чаще комплимент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6. Цените дружб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66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7. Учитесь прощат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5927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1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8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95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15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347640" y="404640"/>
            <a:ext cx="331308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Рефлексия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672080" cy="3360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67208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ff"/>
                </a:solidFill>
                <a:uFillTx/>
                <a:latin typeface="Times New Roman"/>
              </a:rPr>
              <a:t>Цел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Формирование  духовно – нравственных качеств личност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плочение детского коллектива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Расширение представлений о дружбе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Развитие творческой активности и познавательных способностей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835280" y="836280"/>
            <a:ext cx="691344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"/>
              </a:rPr>
              <a:t>Учимся дружить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671720" cy="336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63280" y="765000"/>
            <a:ext cx="626436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Что такое дружба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671720" cy="3360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901760" y="836640"/>
            <a:ext cx="424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ружба – это близкие отношения, основанные на взаимном доверии, привязанности, общности интересов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18920" y="3933720"/>
            <a:ext cx="7304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Какими качествами должен обладать настоящий друг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3743280" cy="26924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18920" y="3933720"/>
            <a:ext cx="7304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За что люди ценят дружбу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3743280" cy="2692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016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Почему люди ссорятс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44800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355640" y="1341360"/>
            <a:ext cx="44262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Почему люди мирятс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23302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1:26:24Z</dcterms:created>
  <dc:creator>Admin</dc:creator>
  <dc:description/>
  <dc:language>en-US</dc:language>
  <cp:lastModifiedBy>Admin</cp:lastModifiedBy>
  <dcterms:modified xsi:type="dcterms:W3CDTF">2011-11-15T12:36:24Z</dcterms:modified>
  <cp:revision>2</cp:revision>
  <dc:subject/>
  <dc:title>Муниципальное общеобразовательное учреждение «Средняя общеобразовательная школа п. Возрождение»</dc:title>
</cp:coreProperties>
</file>