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CF4-6C62-43FD-8002-CC6D402F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421-B44B-43EF-ADFD-23A42B54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BC6-ED77-46D1-B26F-AFDF342A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DDE-2028-4C3C-99B2-AE1D08A4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625-481B-470E-BD3B-C6596A43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2C6-22F9-4B13-8BD8-AF2CC7A1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FEA-5512-4205-B164-2391F529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1EC-5485-4305-9218-C649DA97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4D8-8517-44AE-9E85-B8C6F87D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35C-1E6D-49D9-BB37-6A5D9629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13C-A496-4B8A-B50A-AF858267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C5B-DF91-47E4-836D-F5FF3526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F156-DCFC-47CD-B980-299BFD37F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8"/>
          <p:cNvSpPr/>
          <p:nvPr/>
        </p:nvSpPr>
        <p:spPr>
          <a:xfrm>
            <a:off x="2590920" y="16765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математики в 8 классе по те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Многоуголь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5280" y="486900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атематики МБОУ-СОШ №7 г. Клинц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валенко С.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3"/>
          <p:cNvSpPr/>
          <p:nvPr/>
        </p:nvSpPr>
        <p:spPr>
          <a:xfrm>
            <a:off x="304920" y="30492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угольником называется фигура, составленная из отрезков так, что смежные отрезки не лежат на одной прямой, а несмежные отрезки не имеют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4495680" y="304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ного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Шестиугольник 38"/>
          <p:cNvSpPr/>
          <p:nvPr/>
        </p:nvSpPr>
        <p:spPr>
          <a:xfrm rot="1575600">
            <a:off x="7391520" y="762120"/>
            <a:ext cx="1447560" cy="2438280"/>
          </a:xfrm>
          <a:prstGeom prst="hexagon">
            <a:avLst>
              <a:gd name="adj" fmla="val 12213"/>
              <a:gd name="vf" fmla="val 1154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0"/>
          <p:cNvSpPr/>
          <p:nvPr/>
        </p:nvSpPr>
        <p:spPr>
          <a:xfrm rot="2018400">
            <a:off x="4266720" y="762120"/>
            <a:ext cx="1752840" cy="12189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304920" y="32004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из фигур являются многоугольни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304920" y="44197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вершины многоуголь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ро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он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81680" y="3581280"/>
            <a:ext cx="2362320" cy="1981440"/>
            <a:chOff x="6781680" y="3581280"/>
            <a:chExt cx="2362320" cy="1981440"/>
          </a:xfrm>
        </p:grpSpPr>
        <p:sp>
          <p:nvSpPr>
            <p:cNvPr id="50" name=""/>
            <p:cNvSpPr/>
            <p:nvPr/>
          </p:nvSpPr>
          <p:spPr>
            <a:xfrm flipV="1">
              <a:off x="6781680" y="3809880"/>
              <a:ext cx="11430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24680" y="3809880"/>
              <a:ext cx="60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534520" y="3581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534520" y="3581280"/>
              <a:ext cx="6094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8305920" y="3657600"/>
              <a:ext cx="8380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6781680" y="5333760"/>
              <a:ext cx="1524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666880"/>
            <a:ext cx="3886200" cy="1828800"/>
            <a:chOff x="3809880" y="2666880"/>
            <a:chExt cx="3886200" cy="1828800"/>
          </a:xfrm>
        </p:grpSpPr>
        <p:sp>
          <p:nvSpPr>
            <p:cNvPr id="57" name=""/>
            <p:cNvSpPr/>
            <p:nvPr/>
          </p:nvSpPr>
          <p:spPr>
            <a:xfrm flipH="1" flipV="1">
              <a:off x="4267080" y="3200400"/>
              <a:ext cx="9907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809880" y="2666880"/>
              <a:ext cx="3886200" cy="1824120"/>
              <a:chOff x="3809880" y="2666880"/>
              <a:chExt cx="3886200" cy="1824120"/>
            </a:xfrm>
          </p:grpSpPr>
          <p:sp>
            <p:nvSpPr>
              <p:cNvPr id="59" name="Правильный пятиугольник 37"/>
              <p:cNvSpPr/>
              <p:nvPr/>
            </p:nvSpPr>
            <p:spPr>
              <a:xfrm>
                <a:off x="4419360" y="2890800"/>
                <a:ext cx="2971800" cy="1295280"/>
              </a:xfrm>
              <a:prstGeom prst="pentagon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3809880" y="2743200"/>
                <a:ext cx="25905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257440" y="2666880"/>
                <a:ext cx="243864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43040" y="418608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6614640" y="3119400"/>
                <a:ext cx="99036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 flipH="1" flipV="1">
            <a:off x="7667280" y="3504960"/>
            <a:ext cx="1676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28600" y="5899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многоугольник называют выпукл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ыпукл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800240" y="4495680"/>
            <a:ext cx="1752480" cy="1219320"/>
            <a:chOff x="4800240" y="4495680"/>
            <a:chExt cx="1752480" cy="1219320"/>
          </a:xfrm>
        </p:grpSpPr>
        <p:grpSp>
          <p:nvGrpSpPr>
            <p:cNvPr id="67" name=""/>
            <p:cNvGrpSpPr/>
            <p:nvPr/>
          </p:nvGrpSpPr>
          <p:grpSpPr>
            <a:xfrm>
              <a:off x="4800240" y="4495680"/>
              <a:ext cx="1752480" cy="1219320"/>
              <a:chOff x="4800240" y="4495680"/>
              <a:chExt cx="1752480" cy="1219320"/>
            </a:xfrm>
          </p:grpSpPr>
          <p:sp>
            <p:nvSpPr>
              <p:cNvPr id="68" name=""/>
              <p:cNvSpPr/>
              <p:nvPr/>
            </p:nvSpPr>
            <p:spPr>
              <a:xfrm flipV="1">
                <a:off x="4800600" y="4495680"/>
                <a:ext cx="13712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171840" y="44956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5714640" y="4648320"/>
                <a:ext cx="83808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324480" y="4648320"/>
                <a:ext cx="228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4800240" y="4647960"/>
                <a:ext cx="152388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H="1" flipV="1">
              <a:off x="5715000" y="495252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809880" y="76320"/>
            <a:ext cx="2895840" cy="2592360"/>
            <a:chOff x="3809880" y="76320"/>
            <a:chExt cx="2895840" cy="2592360"/>
          </a:xfrm>
        </p:grpSpPr>
        <p:grpSp>
          <p:nvGrpSpPr>
            <p:cNvPr id="75" name=""/>
            <p:cNvGrpSpPr/>
            <p:nvPr/>
          </p:nvGrpSpPr>
          <p:grpSpPr>
            <a:xfrm>
              <a:off x="3809880" y="76320"/>
              <a:ext cx="2895840" cy="2592360"/>
              <a:chOff x="3809880" y="76320"/>
              <a:chExt cx="2895840" cy="2592360"/>
            </a:xfrm>
          </p:grpSpPr>
          <p:sp>
            <p:nvSpPr>
              <p:cNvPr id="76" name=""/>
              <p:cNvSpPr/>
              <p:nvPr/>
            </p:nvSpPr>
            <p:spPr>
              <a:xfrm>
                <a:off x="3809880" y="106668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95680" y="763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172200" y="11430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334120" y="230040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71960" y="13716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3753000" y="3832200"/>
            <a:ext cx="3797280" cy="2260800"/>
            <a:chOff x="3753000" y="3832200"/>
            <a:chExt cx="3797280" cy="2260800"/>
          </a:xfrm>
        </p:grpSpPr>
        <p:sp>
          <p:nvSpPr>
            <p:cNvPr id="82" name="Freeform 3"/>
            <p:cNvSpPr/>
            <p:nvPr/>
          </p:nvSpPr>
          <p:spPr>
            <a:xfrm>
              <a:off x="6437160" y="5229360"/>
              <a:ext cx="1113120" cy="5000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4280040" y="5310360"/>
              <a:ext cx="1149120" cy="7826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3753000" y="3832200"/>
              <a:ext cx="838080" cy="9367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710160" y="3159000"/>
            <a:ext cx="4894200" cy="2413080"/>
            <a:chOff x="3710160" y="3159000"/>
            <a:chExt cx="4894200" cy="2413080"/>
          </a:xfrm>
        </p:grpSpPr>
        <p:sp>
          <p:nvSpPr>
            <p:cNvPr id="86" name="Freeform 7"/>
            <p:cNvSpPr/>
            <p:nvPr/>
          </p:nvSpPr>
          <p:spPr>
            <a:xfrm>
              <a:off x="3710160" y="3730680"/>
              <a:ext cx="919080" cy="43164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6838920" y="4653000"/>
              <a:ext cx="1044720" cy="9190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7667640" y="3159000"/>
              <a:ext cx="936720" cy="102564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0"/>
          <p:cNvGrpSpPr/>
          <p:nvPr/>
        </p:nvGrpSpPr>
        <p:grpSpPr>
          <a:xfrm>
            <a:off x="3746520" y="1317600"/>
            <a:ext cx="4857840" cy="2525760"/>
            <a:chOff x="3746520" y="1317600"/>
            <a:chExt cx="4857840" cy="2525760"/>
          </a:xfrm>
        </p:grpSpPr>
        <p:sp>
          <p:nvSpPr>
            <p:cNvPr id="90" name="Freeform 11"/>
            <p:cNvSpPr/>
            <p:nvPr/>
          </p:nvSpPr>
          <p:spPr>
            <a:xfrm>
              <a:off x="6419880" y="1317600"/>
              <a:ext cx="1219320" cy="85104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7535880" y="2498760"/>
              <a:ext cx="1068480" cy="78732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3746520" y="3387600"/>
              <a:ext cx="941400" cy="45576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3759120" y="1343160"/>
            <a:ext cx="3435480" cy="2493720"/>
            <a:chOff x="3759120" y="1343160"/>
            <a:chExt cx="3435480" cy="2493720"/>
          </a:xfrm>
        </p:grpSpPr>
        <p:sp>
          <p:nvSpPr>
            <p:cNvPr id="94" name="Freeform 15"/>
            <p:cNvSpPr/>
            <p:nvPr/>
          </p:nvSpPr>
          <p:spPr>
            <a:xfrm>
              <a:off x="6237360" y="1343160"/>
              <a:ext cx="957240" cy="62532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4235400" y="2041560"/>
              <a:ext cx="825480" cy="69840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759120" y="3070080"/>
              <a:ext cx="679680" cy="76680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Freeform 18"/>
          <p:cNvSpPr/>
          <p:nvPr/>
        </p:nvSpPr>
        <p:spPr>
          <a:xfrm>
            <a:off x="3759120" y="1330200"/>
            <a:ext cx="4826160" cy="4738680"/>
          </a:xfrm>
          <a:prstGeom prst="pie">
            <a:avLst/>
          </a:prstGeom>
          <a:noFill/>
          <a:ln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3759120" y="1316160"/>
            <a:ext cx="4807080" cy="4248000"/>
            <a:chOff x="3759120" y="1316160"/>
            <a:chExt cx="4807080" cy="4248000"/>
          </a:xfrm>
        </p:grpSpPr>
        <p:sp>
          <p:nvSpPr>
            <p:cNvPr id="99" name="Line 20"/>
            <p:cNvSpPr/>
            <p:nvPr/>
          </p:nvSpPr>
          <p:spPr>
            <a:xfrm flipV="1">
              <a:off x="3759120" y="1316160"/>
              <a:ext cx="3457800" cy="25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3759120" y="3184560"/>
              <a:ext cx="4807080" cy="654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>
              <a:off x="3759120" y="3836880"/>
              <a:ext cx="3745080" cy="17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23"/>
          <p:cNvSpPr/>
          <p:nvPr/>
        </p:nvSpPr>
        <p:spPr>
          <a:xfrm>
            <a:off x="228600" y="838080"/>
            <a:ext cx="6248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вершины 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строим диагон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получили диагонал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304920" y="5257800"/>
            <a:ext cx="2743200" cy="609120"/>
            <a:chOff x="304920" y="5257800"/>
            <a:chExt cx="2743200" cy="609120"/>
          </a:xfrm>
        </p:grpSpPr>
        <p:sp>
          <p:nvSpPr>
            <p:cNvPr id="104" name="Text Box 25"/>
            <p:cNvSpPr/>
            <p:nvPr/>
          </p:nvSpPr>
          <p:spPr>
            <a:xfrm>
              <a:off x="304920" y="52578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Arial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n-2) </a:t>
              </a:r>
              <a:r>
                <a:rPr b="1" lang="ru-RU" sz="3200" spc="-1" strike="noStrike">
                  <a:solidFill>
                    <a:srgbClr val="660066"/>
                  </a:solidFill>
                  <a:latin typeface="Arial"/>
                </a:rPr>
                <a:t> 180</a:t>
              </a:r>
              <a:r>
                <a:rPr b="1" lang="ru-RU" sz="3200" spc="-1" strike="noStrike" baseline="30000">
                  <a:solidFill>
                    <a:srgbClr val="6600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2"/>
                <p:cNvSpPr txBox="1"/>
                <p:nvPr/>
              </p:nvSpPr>
              <p:spPr>
                <a:xfrm>
                  <a:off x="1262160" y="5437080"/>
                  <a:ext cx="490320" cy="42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Text Box 27"/>
          <p:cNvSpPr/>
          <p:nvPr/>
        </p:nvSpPr>
        <p:spPr>
          <a:xfrm>
            <a:off x="3213000" y="3259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7632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йдем сумму внутренних углов выпуклог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-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4051080" y="167652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7099200" y="838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8580240" y="3124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7403760" y="556272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4280760" y="6095880"/>
            <a:ext cx="56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0" y="22096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получили треугольн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0" y="1752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он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4"/>
          <p:cNvSpPr/>
          <p:nvPr/>
        </p:nvSpPr>
        <p:spPr>
          <a:xfrm>
            <a:off x="0" y="35053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а углов одного треугольника равн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0 градусов, 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4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задачи № 364в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,г, 367, 369, 370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0" y="2666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. 39-41, № 363, 364а,б, 365а,б, 366, 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7"/>
          <p:cNvSpPr/>
          <p:nvPr/>
        </p:nvSpPr>
        <p:spPr>
          <a:xfrm>
            <a:off x="0" y="2514600"/>
            <a:ext cx="91440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         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ти сумму углов выпукло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. 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мму углов выпук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уголь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-уго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Сколько сторон имеет выпуклый многоугольник, если каждый его угол равен                    144°                                                                         162°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. 39-41, № 363, 364а,б, 365а,б, 366, 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17T11:08:0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