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366-14F5-4D16-B3AB-44C000F8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A9F-9CA4-4B24-8183-86616C81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1C2-F3CE-4731-AAF2-69FCF8C2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A26-B2DB-4FE4-98FA-01E887C4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470F-9B84-4B59-8FA6-1583AA8E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D4D1-3179-4657-8811-0EB47AF1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F75-7BF4-49A6-8370-A23E93CE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0B7-49AD-46E1-A3E5-93C98D8B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F36E-C454-4D16-B590-2847DC0A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872C-E0E3-47B5-AD22-65129927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8EF7-C42B-417F-BFD2-2C88F3D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21E-F018-4D87-A6A2-4D42B8F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1187-29F0-4036-B394-DAC7BB0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75AF-4658-4D9D-B702-C5AFEC0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F830-CED5-4367-AB59-49A6514A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0420-7C32-4553-9D94-7B956BC3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32F-F4BE-44E5-A4CA-DD7CF690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35E-5FD0-412C-A8E8-188D3771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EA7-A53E-4D4E-A813-5EC670F4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C9C-F211-459B-A78E-5DC7699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C6B-CF9F-4E57-944A-81EE2548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B21-8FE8-4592-A2DC-CDE04B8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73D-99F9-41CD-B113-6341306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D71-5F7A-4A2E-BD54-8454E773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40A6-4B90-4BC6-9469-3EE8810D8E3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908-8C9D-4C4E-A224-179484E3A4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назывались первые русские воины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2130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403812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" y="3998880"/>
            <a:ext cx="4038480" cy="2131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409720" y="1218960"/>
            <a:ext cx="3429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РУЖИННИК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1600200"/>
            <a:ext cx="259092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971800" y="2057400"/>
            <a:ext cx="29718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400800" y="2057400"/>
            <a:ext cx="2209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ожно ли оставлять детей в закрытом помещении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648320" y="171936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ет. Может произойти непредвиденное и непоправимо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Зачем женщины капают на порванные колготки лак для ногтей?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216360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648320" y="2163600"/>
            <a:ext cx="40384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тобы не пошла стрелка на порванных колготк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и вдевании нитки в иголку, что должно быть неподвижно: иголка или нитка?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941480"/>
            <a:ext cx="4038480" cy="418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48320" y="2090880"/>
            <a:ext cx="403848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гол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такое мелирование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648320" y="171936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краска отдельных прядок волос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называют небольшую сумочку, в которой хранятся предметы, необходимые для того, чтобы сделать макияж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2684520"/>
            <a:ext cx="4038480" cy="3446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648320" y="2684160"/>
            <a:ext cx="403848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сметичк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дут ли дрожжи в песочное тесто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648320" y="171936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48320" y="298296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ужно ли смывать краску с волос после их окрашива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648320" y="2312640"/>
            <a:ext cx="403848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Для этого процесса могут использоваться воск, крем, механические устройства, лазерные приборы. Что это за процесс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3575160"/>
            <a:ext cx="4038480" cy="2555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8320" y="1719360"/>
            <a:ext cx="4038480" cy="2130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648320" y="4394160"/>
            <a:ext cx="40384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пиляц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Назовите имена русских полководцев и военачальников, с которыми связаны победы русского оружия (до 1917 года)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2130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648320" y="171936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лександр Невский, Дмитрий Донской, А. В. Суворов, М. И. Кутузов, Федор Ушаков и др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" y="3998880"/>
            <a:ext cx="4038480" cy="213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Какому русскому полководцу принадлежат эти известные высказывания: "Пуля - дура, штык - молодец", "Сам погибай, а товарища выручай", "Воюют не числом, а умением", "Тяжело в ученье - легко в бою"?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038480" cy="330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648320" y="2908080"/>
            <a:ext cx="4038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. В. Сувор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 ком в армии говорят, что они ошибаются один раз в жизни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3200400" cy="441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8320" y="171936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апер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48320" y="3354480"/>
            <a:ext cx="40384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ие средства пожаротушения считаются первичными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648320" y="171936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опата, ведро, лом, топор, песок, вод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 называются огнетушител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648320" y="171936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ХП-10 — огнетушитель химический пенный; ОУ-5— огнетушитель углекислотный, служит для тушения любых видов пожа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Где и в каком состоянии должны находиться противопожарные средства в школе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2017440"/>
            <a:ext cx="403848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специальном месте на пожарном щите, в исправном состояни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8320" y="3651120"/>
            <a:ext cx="40384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. Каков порядок действий при загорании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48320" y="171936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звонить по телефону "01" и, действуя по обстановке, приступить к тушению пожа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Что нужно сделать в загазованном помещении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ная о том, что угарный газ тяжелее воздуха, надо подняться как можно выше, затаить дыхание, закрыть рот полотенцем или платочком и пробираться к вых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2130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648320" y="3998880"/>
            <a:ext cx="40384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9T19:29:1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