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020-B234-4192-BBF8-73977F97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FDB-7494-4496-8969-6AA3AE46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85E-E69E-414E-B50A-429FF81C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D08-80F9-427D-880E-DBFA72CA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81AB-997D-46AD-9F63-B0B8CA87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D2CB-3A6F-4EED-B2CB-62D38A41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B335-2069-417B-85EB-E09DED06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55BF-B9BD-44A4-8EA0-B56DF057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1963-80BF-4F0E-BD61-A351EDC5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E608-4E02-4C51-BE17-3E9C0855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A547-030C-4341-B704-EE8B82C8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C65-6A37-4130-85A9-8AD64E5D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89E5-79C6-4322-A4E4-D185CAD9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57C7-4555-4019-80C0-5502463C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8720-AA2A-46C1-961B-67C2184A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E69B-6A89-4420-AA00-E8A8A464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8050-948C-4B4D-9E0C-E1834F0A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938-EC4C-434A-B86F-D15A1424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4F6-AE6F-4E8F-9934-CAC51A12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BAD-798D-45DC-9330-F878B16E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367-9911-47E6-B20E-79D28460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CB1-006B-4732-B9B3-AD3F5583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AD4-A7DF-4C19-8CE9-9077044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7FA-D53C-4094-B1D2-6C3312B2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BA98-6F72-4F55-8756-30A436EFA58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2FFC-554F-4742-ACE5-C3B1ACAFCC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итамины в жизни челове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Громова Анастаси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Гимназия №53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1«В» класс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ультаты опро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58920" y="2362320"/>
          <a:ext cx="6913440" cy="41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362320"/>
                    <a:ext cx="691344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ультаты опро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16280" y="2362320"/>
          <a:ext cx="55339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6280" y="2362320"/>
                    <a:ext cx="55339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итамины в продуктах пит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870280" cy="3521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2421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508720" y="4686480"/>
            <a:ext cx="172728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итамины в аптечных препарата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3097080" cy="2811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обые вещества,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езаменимые для организм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3302280" cy="3665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8083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тамины – более 20 вид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978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едостаток витамина 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знаки недостатка витамина 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оловная бо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ухая кож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усклые волос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куриная слепота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де находится витамин 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локо, оранжевые и зеленые овощи, печен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59640" y="2276640"/>
            <a:ext cx="2187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едостаток витамин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знаки недостатка витамина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омкие ног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блемы с зуб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витие рахи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де находится витамин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масле и молоке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ельди и печени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яичном желтке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олнечных лучах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24861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ук – настоящая сокровищница витаминов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3097440" cy="2849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3272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ие витамины принимать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58920" y="2852640"/>
            <a:ext cx="28814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1:22:02Z</dcterms:created>
  <dc:creator>Customer</dc:creator>
  <dc:description/>
  <dc:language>en-US</dc:language>
  <cp:lastModifiedBy>Customer</cp:lastModifiedBy>
  <dcterms:modified xsi:type="dcterms:W3CDTF">2012-03-13T02:35:59Z</dcterms:modified>
  <cp:revision>18</cp:revision>
  <dc:subject/>
  <dc:title>Витамины в жизни человека</dc:title>
</cp:coreProperties>
</file>