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079-DAEA-49CF-A390-01AA005E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28D-2628-4625-8345-56F350EE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94C-388E-4D0E-BB9D-68DD326D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E6A-5856-4978-98B0-B923721E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1C7-C348-48D4-A4B4-5E3665FA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CD0-91E0-4091-A56D-9F1683D7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843-0033-4E49-B327-0A4E0F86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7E3-2953-4307-AE16-F22ADA2A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F86-B124-46F8-ABC5-342E731B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609-C280-41A0-870F-0A39D99A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DE8-BFC9-47D7-A8D9-E694A74A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68A-2E1C-40ED-B810-D7467E8B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CD5A-83ED-41E4-8D9A-469410D17C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571680" y="0"/>
            <a:ext cx="5275440" cy="3500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-500040" y="3500280"/>
            <a:ext cx="5041800" cy="335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4"/>
          <a:stretch/>
        </p:blipFill>
        <p:spPr>
          <a:xfrm>
            <a:off x="4549680" y="3500280"/>
            <a:ext cx="4594320" cy="3357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Влияние окружающей среды на качество жизни челове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иологическое загрязнение жилых помещен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42163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2928600" cy="219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5143680" y="4071960"/>
            <a:ext cx="3071520" cy="2303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428760" y="4929120"/>
            <a:ext cx="42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50% квартир присутствуют клещи бытовой пы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зическое загрязнение жилых помещен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2920" y="135720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6215040" y="1571760"/>
            <a:ext cx="2644920" cy="1571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5214960" y="3857760"/>
            <a:ext cx="3562200" cy="2671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4"/>
          <a:stretch/>
        </p:blipFill>
        <p:spPr>
          <a:xfrm>
            <a:off x="3643200" y="1643040"/>
            <a:ext cx="2357640" cy="1660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5"/>
          <a:stretch/>
        </p:blipFill>
        <p:spPr>
          <a:xfrm>
            <a:off x="857160" y="3929040"/>
            <a:ext cx="30718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5072040" cy="380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500800" y="164304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5500800" y="4214880"/>
            <a:ext cx="329724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00120" y="357120"/>
            <a:ext cx="61437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5833" t="6586" r="6665" b="11877"/>
          <a:stretch/>
        </p:blipFill>
        <p:spPr>
          <a:xfrm>
            <a:off x="857160" y="0"/>
            <a:ext cx="750096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кружающая среда –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реда обитания и деятельности человека, весь окружающий человека мир, включая и природную, и антропогенную среду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57160" y="357120"/>
            <a:ext cx="71629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чество жизни человека 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о совокупность важнейших жизненных ценностей человека. Как живется человеку, как удовлетворяются его потребности, во имя чего он живет, каков смысл его жизни, удовлетворен ли он своей жизнью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"/>
          <p:cNvSpPr/>
          <p:nvPr/>
        </p:nvSpPr>
        <p:spPr>
          <a:xfrm>
            <a:off x="2786040" y="571680"/>
            <a:ext cx="3429000" cy="1500120"/>
          </a:xfrm>
          <a:prstGeom prst="ellips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571920" y="785880"/>
            <a:ext cx="185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ИЧ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низ 5"/>
          <p:cNvSpPr/>
          <p:nvPr/>
        </p:nvSpPr>
        <p:spPr>
          <a:xfrm rot="1953000">
            <a:off x="2276280" y="1714320"/>
            <a:ext cx="785520" cy="178560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низ 6"/>
          <p:cNvSpPr/>
          <p:nvPr/>
        </p:nvSpPr>
        <p:spPr>
          <a:xfrm>
            <a:off x="4143240" y="2143080"/>
            <a:ext cx="857520" cy="192888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низ 7"/>
          <p:cNvSpPr/>
          <p:nvPr/>
        </p:nvSpPr>
        <p:spPr>
          <a:xfrm rot="19734600">
            <a:off x="6060600" y="1665000"/>
            <a:ext cx="857520" cy="185724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8"/>
          <p:cNvSpPr/>
          <p:nvPr/>
        </p:nvSpPr>
        <p:spPr>
          <a:xfrm>
            <a:off x="928800" y="342900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1143000" y="38577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10"/>
          <p:cNvSpPr/>
          <p:nvPr/>
        </p:nvSpPr>
        <p:spPr>
          <a:xfrm>
            <a:off x="3500280" y="4143240"/>
            <a:ext cx="2143440" cy="13575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352920" y="3495240"/>
            <a:ext cx="2224800" cy="1224720"/>
          </a:xfrm>
          <a:prstGeom prst="rect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3500280" y="450072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6643800" y="3500280"/>
            <a:ext cx="17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УТРЕННИЙ ДОХОД НА ДУШУ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акторы, влияющие на качество жизни челове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Жилищные услов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ход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анятость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колог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оровье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ффективность управл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щественная жизнь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езопасность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довлетворенность условиями жизн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аланс между рабочим временем и досуг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имическое загрязнение жилых помещен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357880" y="1643040"/>
            <a:ext cx="3524040" cy="166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181480" y="3929040"/>
            <a:ext cx="3962520" cy="2090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285840" y="1714680"/>
            <a:ext cx="4857840" cy="428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4"/>
          <a:stretch/>
        </p:blipFill>
        <p:spPr>
          <a:xfrm>
            <a:off x="5357880" y="1643040"/>
            <a:ext cx="3524040" cy="1666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5"/>
          <a:stretch/>
        </p:blipFill>
        <p:spPr>
          <a:xfrm>
            <a:off x="5181480" y="3929040"/>
            <a:ext cx="3962520" cy="209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6"/>
          <a:stretch/>
        </p:blipFill>
        <p:spPr>
          <a:xfrm>
            <a:off x="285840" y="1714680"/>
            <a:ext cx="4857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иологическое загрязнение жилых помещен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3143160" cy="196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357120" y="3714840"/>
            <a:ext cx="4048200" cy="283356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5000760" y="4429080"/>
            <a:ext cx="392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4% квартир поражено плесневелыми гри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06:49:12Z</dcterms:created>
  <dc:creator>ГОУ СОШ №436</dc:creator>
  <dc:description/>
  <dc:language>en-US</dc:language>
  <cp:lastModifiedBy>ГОУ СОШ №436</cp:lastModifiedBy>
  <dcterms:modified xsi:type="dcterms:W3CDTF">2013-10-15T10:36:10Z</dcterms:modified>
  <cp:revision>12</cp:revision>
  <dc:subject/>
  <dc:title>Влияние окружающей среды на качество жизни человека</dc:title>
</cp:coreProperties>
</file>