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B7D-1234-4A6A-99EF-DE99283A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3B6-CD09-4D84-8FE9-124EC5E0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00F-4348-4B57-A7A2-0F26EBE2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680-D156-4368-8114-E6C1C281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95407-76D8-4100-A4A5-CED598C4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F73BD-E26E-4775-AA36-C16EBB5C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1248-3548-451B-A071-316A78F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E11AF-37CB-4186-9625-19B4005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3697-90D9-4DC7-BAB5-FE6ECFD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B4E63-2C2A-43DC-BE91-6945D8E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A066B-C2AE-409C-846C-8A7F4D7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878-DA5F-43EA-842E-8FF0E89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0A751-2505-40BC-A36A-2FAE24C6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DD72-CF89-4D8D-88C1-0019709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AFEA-E4E6-4168-9ADE-D8A7B98A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50433-7E02-4303-9445-89C1FED5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B680F-6BBB-4538-A188-A31189C8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E44-9EB5-4F15-A512-D0D3BACE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C82-6B3D-45DF-A893-2E68144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621-D403-4296-AAB0-383EE5B1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8F5-71AB-4EA5-998C-43DA71F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CCE-5FDC-4B0D-9D1D-805CA9C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711-73C6-41E2-B752-D6AFC91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DDD-A191-4258-B5C7-81205C7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FAC-387F-4E7A-B11B-7321DA6BB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9ACB-1E4F-45B5-A65E-C2C9D092ED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 урока «Водоёмы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ор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чень неровные участки земной поверхности, которые сильно возвышаются над окружающей мест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00111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00912"/>
          <p:cNvPicPr/>
          <p:nvPr/>
        </p:nvPicPr>
        <p:blipFill>
          <a:blip r:embed="rId1"/>
          <a:stretch/>
        </p:blipFill>
        <p:spPr>
          <a:xfrm>
            <a:off x="324000" y="549360"/>
            <a:ext cx="3960720" cy="475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allpaper_128"/>
          <p:cNvPicPr/>
          <p:nvPr/>
        </p:nvPicPr>
        <p:blipFill>
          <a:blip r:embed="rId2"/>
          <a:stretch/>
        </p:blipFill>
        <p:spPr>
          <a:xfrm>
            <a:off x="4859280" y="1197000"/>
            <a:ext cx="4038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лото                 Руч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4932360" y="1600200"/>
            <a:ext cx="388764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нал                      Мор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394080" cy="362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0089"/>
          <p:cNvPicPr/>
          <p:nvPr/>
        </p:nvPicPr>
        <p:blipFill>
          <a:blip r:embed="rId2"/>
          <a:stretch/>
        </p:blipFill>
        <p:spPr>
          <a:xfrm>
            <a:off x="4648320" y="1484280"/>
            <a:ext cx="4244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59"/>
          <p:cNvPicPr/>
          <p:nvPr/>
        </p:nvPicPr>
        <p:blipFill>
          <a:blip r:embed="rId1"/>
          <a:stretch/>
        </p:blipFill>
        <p:spPr>
          <a:xfrm>
            <a:off x="-304920" y="-214200"/>
            <a:ext cx="9753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03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4464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зё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4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Водоём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Искусствен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, которые создал челове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Естествен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, которые созданы природой, без участия челове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2987280" y="119700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932360" y="1197000"/>
            <a:ext cx="792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7:41:37Z</dcterms:created>
  <dc:creator>Admin</dc:creator>
  <dc:description/>
  <dc:language>en-US</dc:language>
  <cp:lastModifiedBy>ADMIN</cp:lastModifiedBy>
  <dcterms:modified xsi:type="dcterms:W3CDTF">2013-10-10T17:28:22Z</dcterms:modified>
  <cp:revision>3</cp:revision>
  <dc:subject/>
  <dc:title>Горы </dc:title>
</cp:coreProperties>
</file>