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wmf" ContentType="image/x-wmf"/>
  <Override PartName="/ppt/media/image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7380288" cy="105473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192B-56D1-4365-8291-DEDD4B4E8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7920" y="422280"/>
            <a:ext cx="6643800" cy="1758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7920" y="2461680"/>
            <a:ext cx="664380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7920" y="6097680"/>
            <a:ext cx="664380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2CE4-BC95-4E6F-AA4E-650F5BFF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7920" y="422280"/>
            <a:ext cx="6643800" cy="1758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7920" y="2461680"/>
            <a:ext cx="324216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72440" y="2461680"/>
            <a:ext cx="324216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7920" y="6097680"/>
            <a:ext cx="324216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72440" y="6097680"/>
            <a:ext cx="324216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20F2-9A4B-4E3F-80DC-F31BBA159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7920" y="422280"/>
            <a:ext cx="6643800" cy="1758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7920" y="2461680"/>
            <a:ext cx="213912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14320" y="2461680"/>
            <a:ext cx="213912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60720" y="2461680"/>
            <a:ext cx="213912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7920" y="6097680"/>
            <a:ext cx="213912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14320" y="6097680"/>
            <a:ext cx="213912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60720" y="6097680"/>
            <a:ext cx="213912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795A-8EC2-40DC-B033-B8D8FBE33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9630-DA0E-49C4-AA73-63F4259DB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7920" y="422280"/>
            <a:ext cx="6643800" cy="1758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67920" y="2461680"/>
            <a:ext cx="6643800" cy="696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8165-3E35-4216-86B8-FD845DBC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7920" y="422280"/>
            <a:ext cx="6643800" cy="1758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67920" y="2461680"/>
            <a:ext cx="6643800" cy="696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8E10-65D7-4538-934A-AD27B758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7920" y="422280"/>
            <a:ext cx="6643800" cy="1758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67920" y="2461680"/>
            <a:ext cx="3242160" cy="696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772440" y="2461680"/>
            <a:ext cx="3242160" cy="696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51DF-E62E-4A53-8B8D-3250C4A4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7920" y="422280"/>
            <a:ext cx="6643800" cy="1758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8D0E9-5981-43CD-9530-26010BDB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67920" y="422280"/>
            <a:ext cx="6643800" cy="81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538B2-8D6E-43C9-9C75-42B65D69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7920" y="422280"/>
            <a:ext cx="6643800" cy="1758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67920" y="2461680"/>
            <a:ext cx="324216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772440" y="2461680"/>
            <a:ext cx="3242160" cy="696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67920" y="6097680"/>
            <a:ext cx="324216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D6D4-DE76-4668-B86E-8FD3B8AA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7920" y="422280"/>
            <a:ext cx="6643800" cy="1758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7920" y="2461680"/>
            <a:ext cx="6643800" cy="696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43D3-B062-43AA-984A-453D7564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7920" y="422280"/>
            <a:ext cx="6643800" cy="1758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67920" y="2461680"/>
            <a:ext cx="3242160" cy="696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772440" y="2461680"/>
            <a:ext cx="324216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772440" y="6097680"/>
            <a:ext cx="324216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FEEB5-ADD0-4226-A5B5-B21C69C9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67920" y="422280"/>
            <a:ext cx="6643800" cy="1758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67920" y="2461680"/>
            <a:ext cx="324216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772440" y="2461680"/>
            <a:ext cx="324216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67920" y="6097680"/>
            <a:ext cx="664380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1CAB-D1C3-4DC7-9AFE-ACC68C0B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7920" y="422280"/>
            <a:ext cx="6643800" cy="1758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67920" y="2461680"/>
            <a:ext cx="664380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7920" y="6097680"/>
            <a:ext cx="664380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E95A-639A-455F-AC91-E77EB793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67920" y="422280"/>
            <a:ext cx="6643800" cy="1758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67920" y="2461680"/>
            <a:ext cx="324216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772440" y="2461680"/>
            <a:ext cx="324216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67920" y="6097680"/>
            <a:ext cx="324216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772440" y="6097680"/>
            <a:ext cx="324216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8AB9-F145-4095-AFE5-9DD72117A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67920" y="422280"/>
            <a:ext cx="6643800" cy="1758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67920" y="2461680"/>
            <a:ext cx="213912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614320" y="2461680"/>
            <a:ext cx="213912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860720" y="2461680"/>
            <a:ext cx="213912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67920" y="6097680"/>
            <a:ext cx="213912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2614320" y="6097680"/>
            <a:ext cx="213912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4860720" y="6097680"/>
            <a:ext cx="213912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65EE-73DF-4655-BA0C-9925450FA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4C443-EFE5-421A-9708-45E74CAB2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67920" y="422280"/>
            <a:ext cx="6643800" cy="1758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67920" y="2461680"/>
            <a:ext cx="6643800" cy="696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3FAD3-66B5-4F03-9F39-FE8A6944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67920" y="422280"/>
            <a:ext cx="6643800" cy="1758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67920" y="2461680"/>
            <a:ext cx="6643800" cy="696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2CE0D-B93B-4284-929A-BDDC7BA2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7920" y="422280"/>
            <a:ext cx="6643800" cy="1758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67920" y="2461680"/>
            <a:ext cx="3242160" cy="696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72440" y="2461680"/>
            <a:ext cx="3242160" cy="696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1A9BE-40CA-4FE2-83FD-112CFB60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67920" y="422280"/>
            <a:ext cx="6643800" cy="1758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57E3C-70D6-4B90-B769-81B98FA2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7920" y="422280"/>
            <a:ext cx="6643800" cy="1758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7920" y="2461680"/>
            <a:ext cx="6643800" cy="696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4E53-6BE5-47CA-B95D-8059ECAC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367920" y="422280"/>
            <a:ext cx="6643800" cy="81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23435-3C7E-4668-9659-8C00C215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67920" y="422280"/>
            <a:ext cx="6643800" cy="1758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67920" y="2461680"/>
            <a:ext cx="324216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772440" y="2461680"/>
            <a:ext cx="3242160" cy="696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67920" y="6097680"/>
            <a:ext cx="324216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449B7-3F03-4097-9E94-53C340C4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67920" y="422280"/>
            <a:ext cx="6643800" cy="1758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7920" y="2461680"/>
            <a:ext cx="3242160" cy="696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772440" y="2461680"/>
            <a:ext cx="324216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772440" y="6097680"/>
            <a:ext cx="324216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3EF99-B1EE-429A-B882-6389E7E8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67920" y="422280"/>
            <a:ext cx="6643800" cy="1758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67920" y="2461680"/>
            <a:ext cx="324216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772440" y="2461680"/>
            <a:ext cx="324216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67920" y="6097680"/>
            <a:ext cx="664380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6E95E-096A-45F9-8524-4951B9F2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67920" y="422280"/>
            <a:ext cx="6643800" cy="1758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67920" y="2461680"/>
            <a:ext cx="664380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67920" y="6097680"/>
            <a:ext cx="664380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159E8-2A62-44FD-B227-1D241B63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67920" y="422280"/>
            <a:ext cx="6643800" cy="1758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67920" y="2461680"/>
            <a:ext cx="324216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772440" y="2461680"/>
            <a:ext cx="324216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67920" y="6097680"/>
            <a:ext cx="324216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772440" y="6097680"/>
            <a:ext cx="324216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B5ACB-8AB2-4A4F-B096-F5238F885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67920" y="422280"/>
            <a:ext cx="6643800" cy="1758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67920" y="2461680"/>
            <a:ext cx="213912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614320" y="2461680"/>
            <a:ext cx="213912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860720" y="2461680"/>
            <a:ext cx="213912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367920" y="6097680"/>
            <a:ext cx="213912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2614320" y="6097680"/>
            <a:ext cx="213912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4860720" y="6097680"/>
            <a:ext cx="213912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F484A-2BFC-4E8D-8FC9-602DF821A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F61BB-90FC-4015-A521-CFC4331E7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67920" y="422280"/>
            <a:ext cx="6643800" cy="1758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367920" y="2461680"/>
            <a:ext cx="6643800" cy="696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BFA58-A854-4161-8BF6-3CA40020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67920" y="422280"/>
            <a:ext cx="6643800" cy="1758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67920" y="2461680"/>
            <a:ext cx="6643800" cy="696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DE940-23CB-4DF4-8DA9-7FCB83C9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7920" y="422280"/>
            <a:ext cx="6643800" cy="1758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7920" y="2461680"/>
            <a:ext cx="3242160" cy="696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72440" y="2461680"/>
            <a:ext cx="3242160" cy="696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16C5-94CE-4161-AE8E-D255586C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67920" y="422280"/>
            <a:ext cx="6643800" cy="1758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67920" y="2461680"/>
            <a:ext cx="3242160" cy="696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772440" y="2461680"/>
            <a:ext cx="3242160" cy="696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6D261-937D-4790-8792-96019560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67920" y="422280"/>
            <a:ext cx="6643800" cy="1758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72C59-C0F6-4AA3-9316-E036E627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367920" y="422280"/>
            <a:ext cx="6643800" cy="81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AD059-4C89-4F9C-8EAE-E27DB59E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67920" y="422280"/>
            <a:ext cx="6643800" cy="1758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67920" y="2461680"/>
            <a:ext cx="324216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772440" y="2461680"/>
            <a:ext cx="3242160" cy="696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67920" y="6097680"/>
            <a:ext cx="324216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1A5D9-9297-485E-B7FB-BD52F2A8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67920" y="422280"/>
            <a:ext cx="6643800" cy="1758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67920" y="2461680"/>
            <a:ext cx="3242160" cy="696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772440" y="2461680"/>
            <a:ext cx="324216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772440" y="6097680"/>
            <a:ext cx="324216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7FBCE-9D63-4495-8868-ACDF3C20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67920" y="422280"/>
            <a:ext cx="6643800" cy="1758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67920" y="2461680"/>
            <a:ext cx="324216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772440" y="2461680"/>
            <a:ext cx="324216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67920" y="6097680"/>
            <a:ext cx="664380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FABC3-FA16-436A-8456-34D5404A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67920" y="422280"/>
            <a:ext cx="6643800" cy="1758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67920" y="2461680"/>
            <a:ext cx="664380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67920" y="6097680"/>
            <a:ext cx="664380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B5A69-8787-420F-9783-47AA4BBC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67920" y="422280"/>
            <a:ext cx="6643800" cy="1758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67920" y="2461680"/>
            <a:ext cx="324216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772440" y="2461680"/>
            <a:ext cx="324216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67920" y="6097680"/>
            <a:ext cx="324216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3772440" y="6097680"/>
            <a:ext cx="324216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81910-FDB3-4374-B82F-E732639F8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67920" y="422280"/>
            <a:ext cx="6643800" cy="1758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67920" y="2461680"/>
            <a:ext cx="213912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614320" y="2461680"/>
            <a:ext cx="213912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860720" y="2461680"/>
            <a:ext cx="213912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367920" y="6097680"/>
            <a:ext cx="213912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2614320" y="6097680"/>
            <a:ext cx="213912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4860720" y="6097680"/>
            <a:ext cx="213912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FCB8D-9BD8-46AB-8A21-308BA9397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15E66-04B6-4293-A00C-2FC349F82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7920" y="422280"/>
            <a:ext cx="6643800" cy="1758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BD33-3736-4D34-8842-B2350D0A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67920" y="422280"/>
            <a:ext cx="6643800" cy="1758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367920" y="2461680"/>
            <a:ext cx="6643800" cy="696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8FF2A-30A5-4893-9AD1-86947AA3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67920" y="422280"/>
            <a:ext cx="6643800" cy="1758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67920" y="2461680"/>
            <a:ext cx="6643800" cy="696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04185-8FA7-4B48-AC8D-D2317BE7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67920" y="422280"/>
            <a:ext cx="6643800" cy="1758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67920" y="2461680"/>
            <a:ext cx="3242160" cy="696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772440" y="2461680"/>
            <a:ext cx="3242160" cy="696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9EEA5-EAA7-49B2-A6E8-41F01440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67920" y="422280"/>
            <a:ext cx="6643800" cy="1758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DB851-4D04-49B0-A1BD-E0B8C3A7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367920" y="422280"/>
            <a:ext cx="6643800" cy="81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95806-B19E-4285-A708-C8203693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67920" y="422280"/>
            <a:ext cx="6643800" cy="1758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67920" y="2461680"/>
            <a:ext cx="324216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772440" y="2461680"/>
            <a:ext cx="3242160" cy="696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67920" y="6097680"/>
            <a:ext cx="324216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620D0-5748-4341-AE84-A3D50120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67920" y="422280"/>
            <a:ext cx="6643800" cy="1758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67920" y="2461680"/>
            <a:ext cx="3242160" cy="696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772440" y="2461680"/>
            <a:ext cx="324216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3772440" y="6097680"/>
            <a:ext cx="324216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A3BDD-3872-4F1E-AB09-59D2821C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67920" y="422280"/>
            <a:ext cx="6643800" cy="1758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67920" y="2461680"/>
            <a:ext cx="324216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772440" y="2461680"/>
            <a:ext cx="324216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67920" y="6097680"/>
            <a:ext cx="664380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EEBF3-EFB4-4744-98D9-A299FE26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67920" y="422280"/>
            <a:ext cx="6643800" cy="1758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67920" y="2461680"/>
            <a:ext cx="664380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67920" y="6097680"/>
            <a:ext cx="664380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50359-76EB-4518-A2C4-52143B8E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67920" y="422280"/>
            <a:ext cx="6643800" cy="1758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67920" y="2461680"/>
            <a:ext cx="324216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772440" y="2461680"/>
            <a:ext cx="324216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67920" y="6097680"/>
            <a:ext cx="324216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3772440" y="6097680"/>
            <a:ext cx="324216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AFD29-69CA-499C-9531-06DFF27A7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7920" y="422280"/>
            <a:ext cx="6643800" cy="81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E46E-78DE-41D9-A47A-866008BD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67920" y="422280"/>
            <a:ext cx="6643800" cy="1758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67920" y="2461680"/>
            <a:ext cx="213912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2614320" y="2461680"/>
            <a:ext cx="213912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860720" y="2461680"/>
            <a:ext cx="213912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367920" y="6097680"/>
            <a:ext cx="213912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2614320" y="6097680"/>
            <a:ext cx="213912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4860720" y="6097680"/>
            <a:ext cx="213912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F57DF-F682-4AFC-9B62-96818CCB9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7920" y="422280"/>
            <a:ext cx="6643800" cy="1758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7920" y="2461680"/>
            <a:ext cx="324216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72440" y="2461680"/>
            <a:ext cx="3242160" cy="696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7920" y="6097680"/>
            <a:ext cx="324216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17B8-3C18-4B27-A36C-5D490DD4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7920" y="422280"/>
            <a:ext cx="6643800" cy="1758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7920" y="2461680"/>
            <a:ext cx="3242160" cy="696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72440" y="2461680"/>
            <a:ext cx="324216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72440" y="6097680"/>
            <a:ext cx="324216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DCF5-75C0-4C1E-8A83-DEBF6B58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7920" y="422280"/>
            <a:ext cx="6643800" cy="1758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7920" y="2461680"/>
            <a:ext cx="324216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72440" y="2461680"/>
            <a:ext cx="324216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7920" y="6097680"/>
            <a:ext cx="6643800" cy="33202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C5CF-75CB-4657-86DC-96290387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7920" y="422280"/>
            <a:ext cx="6643800" cy="1758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7920" y="2461680"/>
            <a:ext cx="6643800" cy="696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3193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92440" indent="-255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303640" indent="-255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303640" indent="-255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303640" indent="-255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67920" y="9605880"/>
            <a:ext cx="1722600" cy="7336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20720" y="9605880"/>
            <a:ext cx="2338200" cy="7336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289120" y="9605880"/>
            <a:ext cx="1722600" cy="7336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9717-FA3E-4C4B-8495-F09802378AB7}" type="slidenum"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5853240" y="737640"/>
            <a:ext cx="1787400" cy="1682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53680" y="234720"/>
            <a:ext cx="5545080" cy="24606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53680" y="2813040"/>
            <a:ext cx="6211800" cy="56260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 fontScale="95000"/>
          </a:bodyPr>
          <a:p>
            <a:pPr marL="363240" indent="-36324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90200" indent="-30312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215360" indent="-24264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702800" indent="-24264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188440" indent="-24264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2188440" indent="-24264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2188440" indent="-24264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106280" y="9610560"/>
            <a:ext cx="1538280" cy="7034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869920" y="9610560"/>
            <a:ext cx="2336760" cy="7034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5423040" y="9610560"/>
            <a:ext cx="1536480" cy="7034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5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5A39-1CF9-4481-9954-02F829B7A6FE}" type="slidenum">
              <a:rPr b="0" lang="ru-RU" sz="15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5922000" y="803880"/>
            <a:ext cx="1792080" cy="169236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5946840" y="869760"/>
            <a:ext cx="1576440" cy="126828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6480" y="8521560"/>
            <a:ext cx="1439280" cy="1917360"/>
            <a:chOff x="6480" y="8521560"/>
            <a:chExt cx="1439280" cy="1917360"/>
          </a:xfrm>
        </p:grpSpPr>
        <p:sp>
          <p:nvSpPr>
            <p:cNvPr id="50" name="Freeform 11"/>
            <p:cNvSpPr/>
            <p:nvPr/>
          </p:nvSpPr>
          <p:spPr>
            <a:xfrm>
              <a:off x="30600" y="8557920"/>
              <a:ext cx="1394640" cy="158508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308960" y="8746200"/>
              <a:ext cx="90720" cy="3142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25560" y="9214920"/>
              <a:ext cx="1014480" cy="10011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165240" y="9298080"/>
              <a:ext cx="672120" cy="9133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621000" y="8623800"/>
              <a:ext cx="172800" cy="29556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821160" y="10165320"/>
              <a:ext cx="98280" cy="27360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645480" y="8807040"/>
              <a:ext cx="245520" cy="93528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855720" y="8765640"/>
              <a:ext cx="465840" cy="4248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444240" y="9017280"/>
              <a:ext cx="199800" cy="16380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6480" y="8521560"/>
              <a:ext cx="1439280" cy="1903680"/>
              <a:chOff x="6480" y="8521560"/>
              <a:chExt cx="1439280" cy="190368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639000" y="8696880"/>
                <a:ext cx="701280" cy="1728360"/>
                <a:chOff x="639000" y="8696880"/>
                <a:chExt cx="701280" cy="172836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639000" y="8758080"/>
                  <a:ext cx="200880" cy="211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815760" y="10100520"/>
                  <a:ext cx="145800" cy="324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285200" y="8696880"/>
                  <a:ext cx="55080" cy="2854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97200" y="9112320"/>
                <a:ext cx="761760" cy="610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333000" y="9488160"/>
                <a:ext cx="312480" cy="36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723240" y="8985600"/>
                <a:ext cx="136800" cy="580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6480" y="8521560"/>
                <a:ext cx="1439280" cy="1655280"/>
                <a:chOff x="6480" y="8521560"/>
                <a:chExt cx="1439280" cy="165528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856800" y="9883800"/>
                  <a:ext cx="94680" cy="212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6480" y="9102240"/>
                  <a:ext cx="1077120" cy="1074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37160" y="9205200"/>
                  <a:ext cx="100800" cy="407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574920" y="8521560"/>
                  <a:ext cx="412200" cy="1449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740160" y="8911800"/>
                  <a:ext cx="124200" cy="61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419760" y="8862840"/>
                  <a:ext cx="249480" cy="329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842760" y="8638920"/>
                  <a:ext cx="603000" cy="516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919440" y="8804160"/>
                  <a:ext cx="312480" cy="210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7005600" y="3254400"/>
            <a:ext cx="310680" cy="6627240"/>
            <a:chOff x="7005600" y="3254400"/>
            <a:chExt cx="310680" cy="6627240"/>
          </a:xfrm>
        </p:grpSpPr>
        <p:sp>
          <p:nvSpPr>
            <p:cNvPr id="77" name="Freeform 38"/>
            <p:cNvSpPr/>
            <p:nvPr/>
          </p:nvSpPr>
          <p:spPr>
            <a:xfrm flipH="1">
              <a:off x="7005600" y="6396840"/>
              <a:ext cx="262080" cy="348480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7054200" y="3254400"/>
              <a:ext cx="262080" cy="398772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5523480" y="128880"/>
            <a:ext cx="2489760" cy="3045600"/>
            <a:chOff x="5523480" y="128880"/>
            <a:chExt cx="2489760" cy="3045600"/>
          </a:xfrm>
        </p:grpSpPr>
        <p:grpSp>
          <p:nvGrpSpPr>
            <p:cNvPr id="80" name="Group 41"/>
            <p:cNvGrpSpPr/>
            <p:nvPr/>
          </p:nvGrpSpPr>
          <p:grpSpPr>
            <a:xfrm>
              <a:off x="5523480" y="128880"/>
              <a:ext cx="2489760" cy="3045600"/>
              <a:chOff x="5523480" y="128880"/>
              <a:chExt cx="2489760" cy="304560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6921000" y="2818800"/>
                <a:ext cx="151560" cy="367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5523480" y="128880"/>
                <a:ext cx="2489760" cy="2722320"/>
                <a:chOff x="5523480" y="128880"/>
                <a:chExt cx="2489760" cy="27223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6275520" y="245880"/>
                  <a:ext cx="373320" cy="159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6312240" y="1063800"/>
                  <a:ext cx="656640" cy="559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5933520" y="962640"/>
                  <a:ext cx="1229760" cy="1150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5843160" y="732600"/>
                  <a:ext cx="1850040" cy="1722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6689160" y="2259720"/>
                  <a:ext cx="412200" cy="15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6626880" y="2049120"/>
                  <a:ext cx="442080" cy="185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6281280" y="597960"/>
                  <a:ext cx="441360" cy="188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6236280" y="426600"/>
                  <a:ext cx="436680" cy="175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6240240" y="205560"/>
              <a:ext cx="54000" cy="23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0" y="0"/>
            <a:ext cx="5845320" cy="3047400"/>
            <a:chOff x="0" y="0"/>
            <a:chExt cx="5845320" cy="3047400"/>
          </a:xfrm>
        </p:grpSpPr>
        <p:sp>
          <p:nvSpPr>
            <p:cNvPr id="129" name="Freeform 3"/>
            <p:cNvSpPr/>
            <p:nvPr/>
          </p:nvSpPr>
          <p:spPr>
            <a:xfrm>
              <a:off x="0" y="1423800"/>
              <a:ext cx="5747760" cy="162360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4"/>
            <p:cNvSpPr/>
            <p:nvPr/>
          </p:nvSpPr>
          <p:spPr>
            <a:xfrm>
              <a:off x="0" y="0"/>
              <a:ext cx="5845320" cy="292824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67920" y="422280"/>
            <a:ext cx="6643800" cy="1758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367920" y="2461680"/>
            <a:ext cx="6643800" cy="69152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831960" indent="-31932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279440" indent="-255600">
              <a:spcBef>
                <a:spcPts val="9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1792440" indent="-25560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4" marL="2303640" indent="-255600">
              <a:spcBef>
                <a:spcPts val="9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5" marL="2303640" indent="-25560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6" marL="2303640" indent="-25560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7"/>
          </p:nvPr>
        </p:nvSpPr>
        <p:spPr>
          <a:xfrm>
            <a:off x="367920" y="9610560"/>
            <a:ext cx="1722600" cy="7034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8"/>
          </p:nvPr>
        </p:nvSpPr>
        <p:spPr>
          <a:xfrm>
            <a:off x="2520720" y="9610560"/>
            <a:ext cx="2338200" cy="7034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9"/>
          </p:nvPr>
        </p:nvSpPr>
        <p:spPr>
          <a:xfrm>
            <a:off x="5289120" y="9610560"/>
            <a:ext cx="1722600" cy="7034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6294-D670-43B9-A537-9B2F91E922E2}" type="slidenum">
              <a:rPr b="0" lang="ru-RU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2"/>
          <p:cNvSpPr/>
          <p:nvPr/>
        </p:nvSpPr>
        <p:spPr>
          <a:xfrm>
            <a:off x="15840" y="19080"/>
            <a:ext cx="7182000" cy="1042992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8"/>
          <p:cNvGrpSpPr/>
          <p:nvPr/>
        </p:nvGrpSpPr>
        <p:grpSpPr>
          <a:xfrm>
            <a:off x="157320" y="361800"/>
            <a:ext cx="3057480" cy="2733120"/>
            <a:chOff x="157320" y="361800"/>
            <a:chExt cx="3057480" cy="2733120"/>
          </a:xfrm>
        </p:grpSpPr>
        <p:sp>
          <p:nvSpPr>
            <p:cNvPr id="174" name="Freeform 9"/>
            <p:cNvSpPr/>
            <p:nvPr/>
          </p:nvSpPr>
          <p:spPr>
            <a:xfrm>
              <a:off x="227880" y="432360"/>
              <a:ext cx="2882880" cy="248148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0"/>
            <p:cNvSpPr/>
            <p:nvPr/>
          </p:nvSpPr>
          <p:spPr>
            <a:xfrm>
              <a:off x="212400" y="637200"/>
              <a:ext cx="2875320" cy="24577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1"/>
            <p:cNvSpPr/>
            <p:nvPr/>
          </p:nvSpPr>
          <p:spPr>
            <a:xfrm>
              <a:off x="606960" y="839880"/>
              <a:ext cx="1906560" cy="22424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12"/>
            <p:cNvGrpSpPr/>
            <p:nvPr/>
          </p:nvGrpSpPr>
          <p:grpSpPr>
            <a:xfrm>
              <a:off x="157320" y="361800"/>
              <a:ext cx="3057480" cy="2638080"/>
              <a:chOff x="157320" y="361800"/>
              <a:chExt cx="3057480" cy="2638080"/>
            </a:xfrm>
          </p:grpSpPr>
          <p:sp>
            <p:nvSpPr>
              <p:cNvPr id="178" name="Freeform 13"/>
              <p:cNvSpPr/>
              <p:nvPr/>
            </p:nvSpPr>
            <p:spPr>
              <a:xfrm>
                <a:off x="2568600" y="2279880"/>
                <a:ext cx="271440" cy="521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4"/>
              <p:cNvSpPr/>
              <p:nvPr/>
            </p:nvSpPr>
            <p:spPr>
              <a:xfrm>
                <a:off x="157320" y="361800"/>
                <a:ext cx="3057480" cy="263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5"/>
              <p:cNvSpPr/>
              <p:nvPr/>
            </p:nvSpPr>
            <p:spPr>
              <a:xfrm>
                <a:off x="414720" y="385920"/>
                <a:ext cx="2160360" cy="149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6"/>
              <p:cNvSpPr/>
              <p:nvPr/>
            </p:nvSpPr>
            <p:spPr>
              <a:xfrm>
                <a:off x="523800" y="612720"/>
                <a:ext cx="290520" cy="10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7"/>
              <p:cNvSpPr/>
              <p:nvPr/>
            </p:nvSpPr>
            <p:spPr>
              <a:xfrm>
                <a:off x="1083960" y="1308600"/>
                <a:ext cx="883800" cy="888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3" name="Group 18"/>
          <p:cNvGrpSpPr/>
          <p:nvPr/>
        </p:nvGrpSpPr>
        <p:grpSpPr>
          <a:xfrm>
            <a:off x="6087600" y="6738120"/>
            <a:ext cx="1200600" cy="1591920"/>
            <a:chOff x="6087600" y="6738120"/>
            <a:chExt cx="1200600" cy="1591920"/>
          </a:xfrm>
        </p:grpSpPr>
        <p:sp>
          <p:nvSpPr>
            <p:cNvPr id="184" name="Freeform 19"/>
            <p:cNvSpPr/>
            <p:nvPr/>
          </p:nvSpPr>
          <p:spPr>
            <a:xfrm rot="7320000">
              <a:off x="5924160" y="7337160"/>
              <a:ext cx="1535760" cy="373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20"/>
            <p:cNvSpPr/>
            <p:nvPr/>
          </p:nvSpPr>
          <p:spPr>
            <a:xfrm rot="7320000">
              <a:off x="5904360" y="7303320"/>
              <a:ext cx="1531080" cy="3722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21"/>
            <p:cNvSpPr/>
            <p:nvPr/>
          </p:nvSpPr>
          <p:spPr>
            <a:xfrm rot="7320000">
              <a:off x="6163560" y="7267680"/>
              <a:ext cx="1015560" cy="339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22"/>
            <p:cNvGrpSpPr/>
            <p:nvPr/>
          </p:nvGrpSpPr>
          <p:grpSpPr>
            <a:xfrm>
              <a:off x="6087600" y="6738120"/>
              <a:ext cx="1200600" cy="1591920"/>
              <a:chOff x="6087600" y="6738120"/>
              <a:chExt cx="1200600" cy="1591920"/>
            </a:xfrm>
          </p:grpSpPr>
          <p:sp>
            <p:nvSpPr>
              <p:cNvPr id="188" name="Freeform 23"/>
              <p:cNvSpPr/>
              <p:nvPr/>
            </p:nvSpPr>
            <p:spPr>
              <a:xfrm rot="7320000">
                <a:off x="6354720" y="7824240"/>
                <a:ext cx="144360" cy="77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24"/>
              <p:cNvSpPr/>
              <p:nvPr/>
            </p:nvSpPr>
            <p:spPr>
              <a:xfrm rot="7320000">
                <a:off x="5873760" y="7334640"/>
                <a:ext cx="1628280" cy="398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25"/>
              <p:cNvSpPr/>
              <p:nvPr/>
            </p:nvSpPr>
            <p:spPr>
              <a:xfrm rot="7320000">
                <a:off x="6210360" y="7419600"/>
                <a:ext cx="115272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26"/>
              <p:cNvSpPr/>
              <p:nvPr/>
            </p:nvSpPr>
            <p:spPr>
              <a:xfrm rot="7320000">
                <a:off x="6835320" y="7084440"/>
                <a:ext cx="153360" cy="150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27"/>
              <p:cNvSpPr/>
              <p:nvPr/>
            </p:nvSpPr>
            <p:spPr>
              <a:xfrm rot="7320000">
                <a:off x="6469560" y="7380720"/>
                <a:ext cx="470880" cy="133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3" name="Freeform 28"/>
          <p:cNvSpPr/>
          <p:nvPr/>
        </p:nvSpPr>
        <p:spPr>
          <a:xfrm>
            <a:off x="727200" y="7775640"/>
            <a:ext cx="5494320" cy="112068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29"/>
          <p:cNvSpPr/>
          <p:nvPr/>
        </p:nvSpPr>
        <p:spPr>
          <a:xfrm>
            <a:off x="3290760" y="2968560"/>
            <a:ext cx="717840" cy="58752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53680" y="234720"/>
            <a:ext cx="5545080" cy="24606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53680" y="2813040"/>
            <a:ext cx="6211800" cy="56260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 fontScale="95000"/>
          </a:bodyPr>
          <a:p>
            <a:pPr marL="363240" indent="-36324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90200" indent="-30312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215360" indent="-24264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702800" indent="-24264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188440" indent="-24264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2188440" indent="-24264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2188440" indent="-24264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0"/>
          </p:nvPr>
        </p:nvSpPr>
        <p:spPr>
          <a:xfrm>
            <a:off x="553680" y="9610560"/>
            <a:ext cx="1536840" cy="7034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1"/>
          </p:nvPr>
        </p:nvSpPr>
        <p:spPr>
          <a:xfrm>
            <a:off x="2520720" y="9610560"/>
            <a:ext cx="2338200" cy="7034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2"/>
          </p:nvPr>
        </p:nvSpPr>
        <p:spPr>
          <a:xfrm>
            <a:off x="5289120" y="9610560"/>
            <a:ext cx="1536840" cy="7034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5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BC60-CE0B-47E4-A33A-425B3B207FFE}" type="slidenum">
              <a:rPr b="0" lang="ru-RU" sz="15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0" y="0"/>
            <a:ext cx="6826320" cy="9141840"/>
            <a:chOff x="0" y="0"/>
            <a:chExt cx="6826320" cy="9141840"/>
          </a:xfrm>
        </p:grpSpPr>
        <p:sp>
          <p:nvSpPr>
            <p:cNvPr id="237" name="Freeform 3"/>
            <p:cNvSpPr/>
            <p:nvPr/>
          </p:nvSpPr>
          <p:spPr>
            <a:xfrm>
              <a:off x="0" y="3516120"/>
              <a:ext cx="6604560" cy="562572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4"/>
            <p:cNvSpPr/>
            <p:nvPr/>
          </p:nvSpPr>
          <p:spPr>
            <a:xfrm>
              <a:off x="0" y="0"/>
              <a:ext cx="6826320" cy="900756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67920" y="422280"/>
            <a:ext cx="6643800" cy="1758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367920" y="2461680"/>
            <a:ext cx="6643800" cy="69152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831960" indent="-31932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279440" indent="-255600">
              <a:spcBef>
                <a:spcPts val="9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1792440" indent="-25560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4" marL="2303640" indent="-255600">
              <a:spcBef>
                <a:spcPts val="9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5" marL="2303640" indent="-25560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6" marL="2303640" indent="-25560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3"/>
          </p:nvPr>
        </p:nvSpPr>
        <p:spPr>
          <a:xfrm>
            <a:off x="367920" y="9610560"/>
            <a:ext cx="1722600" cy="7034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4"/>
          </p:nvPr>
        </p:nvSpPr>
        <p:spPr>
          <a:xfrm>
            <a:off x="2520720" y="9610560"/>
            <a:ext cx="2338200" cy="7034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5"/>
          </p:nvPr>
        </p:nvSpPr>
        <p:spPr>
          <a:xfrm>
            <a:off x="5289120" y="9610560"/>
            <a:ext cx="1722600" cy="7034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A6B2-F0A3-4271-B9EB-6621BACBE3D8}" type="slidenum">
              <a:rPr b="0" lang="ru-RU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26840" y="2323800"/>
            <a:ext cx="5546520" cy="45003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lIns="102600" rIns="102600" tIns="51120" bIns="511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0000"/>
                </a:solidFill>
                <a:latin typeface="Comic Sans MS"/>
              </a:rPr>
              <a:t>Здоровьесберегающие технологии на логопедических занятиях</a:t>
            </a:r>
            <a:endParaRPr b="0" lang="en-US" sz="4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68160" y="422280"/>
            <a:ext cx="6343920" cy="1758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cc"/>
                </a:solidFill>
                <a:latin typeface="Tahoma"/>
              </a:rPr>
              <a:t>Развитие мелкой моторики рук </a:t>
            </a:r>
            <a:endParaRPr b="0" lang="en-US" sz="45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06" name="Picture 4" descr="5"/>
          <p:cNvPicPr/>
          <p:nvPr/>
        </p:nvPicPr>
        <p:blipFill>
          <a:blip r:embed="rId1"/>
          <a:stretch/>
        </p:blipFill>
        <p:spPr>
          <a:xfrm>
            <a:off x="1598760" y="7516800"/>
            <a:ext cx="2479680" cy="22525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9"/>
          <p:cNvPicPr/>
          <p:nvPr/>
        </p:nvPicPr>
        <p:blipFill>
          <a:blip r:embed="rId2"/>
          <a:stretch/>
        </p:blipFill>
        <p:spPr>
          <a:xfrm>
            <a:off x="5084640" y="7601040"/>
            <a:ext cx="2121120" cy="20764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8"/>
          <p:cNvPicPr/>
          <p:nvPr/>
        </p:nvPicPr>
        <p:blipFill>
          <a:blip r:embed="rId3"/>
          <a:stretch/>
        </p:blipFill>
        <p:spPr>
          <a:xfrm>
            <a:off x="822240" y="2948040"/>
            <a:ext cx="1986120" cy="36558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SSL11831"/>
          <p:cNvPicPr/>
          <p:nvPr/>
        </p:nvPicPr>
        <p:blipFill>
          <a:blip r:embed="rId4"/>
          <a:stretch/>
        </p:blipFill>
        <p:spPr>
          <a:xfrm>
            <a:off x="3070080" y="2616120"/>
            <a:ext cx="406908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6" descr="174368_image_large"/>
          <p:cNvPicPr/>
          <p:nvPr/>
        </p:nvPicPr>
        <p:blipFill>
          <a:blip r:embed="rId1"/>
          <a:stretch/>
        </p:blipFill>
        <p:spPr>
          <a:xfrm>
            <a:off x="5162400" y="290520"/>
            <a:ext cx="1737000" cy="34462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295360" y="3169800"/>
            <a:ext cx="3843360" cy="1994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cc"/>
                </a:solidFill>
                <a:latin typeface="Tahoma"/>
              </a:rPr>
              <a:t>Су Джок терапия.</a:t>
            </a:r>
            <a:endParaRPr b="0" lang="en-US" sz="5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12" name="Picture 4" descr="ноги"/>
          <p:cNvPicPr/>
          <p:nvPr/>
        </p:nvPicPr>
        <p:blipFill>
          <a:blip r:embed="rId2"/>
          <a:srcRect l="2569" t="16031" r="6744" b="8543"/>
          <a:stretch/>
        </p:blipFill>
        <p:spPr>
          <a:xfrm>
            <a:off x="1287360" y="290520"/>
            <a:ext cx="3070440" cy="32796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5" descr="img1"/>
          <p:cNvPicPr/>
          <p:nvPr/>
        </p:nvPicPr>
        <p:blipFill>
          <a:blip r:embed="rId3"/>
          <a:stretch/>
        </p:blipFill>
        <p:spPr>
          <a:xfrm>
            <a:off x="3147840" y="6021360"/>
            <a:ext cx="3942000" cy="42591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7" descr="s_03"/>
          <p:cNvPicPr/>
          <p:nvPr/>
        </p:nvPicPr>
        <p:blipFill>
          <a:blip r:embed="rId4"/>
          <a:stretch/>
        </p:blipFill>
        <p:spPr>
          <a:xfrm>
            <a:off x="590400" y="6354720"/>
            <a:ext cx="2325960" cy="37861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8" descr="99"/>
          <p:cNvPicPr/>
          <p:nvPr/>
        </p:nvPicPr>
        <p:blipFill>
          <a:blip r:embed="rId5"/>
          <a:stretch/>
        </p:blipFill>
        <p:spPr>
          <a:xfrm>
            <a:off x="1133640" y="3613320"/>
            <a:ext cx="18205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67920" y="422280"/>
            <a:ext cx="6643800" cy="1758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cc"/>
                </a:solidFill>
                <a:latin typeface="Tahoma"/>
              </a:rPr>
              <a:t>Аурикулотерапия. </a:t>
            </a:r>
            <a:endParaRPr b="0" lang="en-US" sz="5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17" name="Picture 4" descr="img_15"/>
          <p:cNvPicPr/>
          <p:nvPr/>
        </p:nvPicPr>
        <p:blipFill>
          <a:blip r:embed="rId1"/>
          <a:stretch/>
        </p:blipFill>
        <p:spPr>
          <a:xfrm>
            <a:off x="4387680" y="6519960"/>
            <a:ext cx="2578320" cy="36972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i"/>
          <p:cNvPicPr/>
          <p:nvPr/>
        </p:nvPicPr>
        <p:blipFill>
          <a:blip r:embed="rId2"/>
          <a:stretch/>
        </p:blipFill>
        <p:spPr>
          <a:xfrm>
            <a:off x="1365120" y="2367000"/>
            <a:ext cx="4125960" cy="39592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6" descr="D:\из диска С\наши документы\ГАЛЯ\наша новая школа\картинки\auricul.gif"/>
          <p:cNvPicPr/>
          <p:nvPr/>
        </p:nvPicPr>
        <p:blipFill>
          <a:blip r:embed="rId3"/>
          <a:stretch/>
        </p:blipFill>
        <p:spPr>
          <a:xfrm>
            <a:off x="1055520" y="6853320"/>
            <a:ext cx="286704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67920" y="422280"/>
            <a:ext cx="6643800" cy="1758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cc"/>
                </a:solidFill>
                <a:latin typeface="Tahoma"/>
              </a:rPr>
              <a:t>Кинезеологические упражнения </a:t>
            </a:r>
            <a:endParaRPr b="0" lang="en-US" sz="45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21" name="Picture 7" descr="foto_9"/>
          <p:cNvPicPr/>
          <p:nvPr/>
        </p:nvPicPr>
        <p:blipFill>
          <a:blip r:embed="rId1"/>
          <a:stretch/>
        </p:blipFill>
        <p:spPr>
          <a:xfrm>
            <a:off x="977760" y="2367000"/>
            <a:ext cx="4067280" cy="55656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2"/>
          <p:cNvPicPr/>
          <p:nvPr/>
        </p:nvPicPr>
        <p:blipFill>
          <a:blip r:embed="rId2"/>
          <a:stretch/>
        </p:blipFill>
        <p:spPr>
          <a:xfrm>
            <a:off x="3932280" y="6519960"/>
            <a:ext cx="344808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0" descr="11"/>
          <p:cNvPicPr/>
          <p:nvPr/>
        </p:nvPicPr>
        <p:blipFill>
          <a:blip r:embed="rId1"/>
          <a:stretch/>
        </p:blipFill>
        <p:spPr>
          <a:xfrm>
            <a:off x="4775040" y="2948040"/>
            <a:ext cx="2372040" cy="20937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4000" y="290520"/>
            <a:ext cx="7032600" cy="14414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Комплексы упражнений, направленных на профилактику нарушений зрения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61480" y="3446640"/>
            <a:ext cx="6518520" cy="74721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826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66"/>
                </a:solidFill>
                <a:latin typeface="Tahoma"/>
              </a:rPr>
              <a:t>Зрительные дорожки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26" name="Group 4"/>
          <p:cNvGrpSpPr/>
          <p:nvPr/>
        </p:nvGrpSpPr>
        <p:grpSpPr>
          <a:xfrm>
            <a:off x="2449440" y="3862440"/>
            <a:ext cx="1860480" cy="1042920"/>
            <a:chOff x="2449440" y="3862440"/>
            <a:chExt cx="1860480" cy="1042920"/>
          </a:xfrm>
        </p:grpSpPr>
        <p:sp>
          <p:nvSpPr>
            <p:cNvPr id="327" name="AutoShape 5"/>
            <p:cNvSpPr/>
            <p:nvPr/>
          </p:nvSpPr>
          <p:spPr>
            <a:xfrm>
              <a:off x="2449440" y="3862440"/>
              <a:ext cx="1860480" cy="10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6"/>
            <p:cNvSpPr/>
            <p:nvPr/>
          </p:nvSpPr>
          <p:spPr>
            <a:xfrm>
              <a:off x="2449440" y="4140360"/>
              <a:ext cx="1860480" cy="533520"/>
            </a:xfrm>
            <a:prstGeom prst="pie">
              <a:avLst/>
            </a:prstGeom>
            <a:noFill/>
            <a:ln w="76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Freeform 7"/>
          <p:cNvSpPr/>
          <p:nvPr/>
        </p:nvSpPr>
        <p:spPr>
          <a:xfrm rot="3121800">
            <a:off x="837720" y="4463640"/>
            <a:ext cx="1576440" cy="108756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8"/>
          <p:cNvSpPr/>
          <p:nvPr/>
        </p:nvSpPr>
        <p:spPr>
          <a:xfrm>
            <a:off x="2914560" y="4692600"/>
            <a:ext cx="2617920" cy="1279440"/>
          </a:xfrm>
          <a:prstGeom prst="pie">
            <a:avLst/>
          </a:prstGeom>
          <a:noFill/>
          <a:ln w="7632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0"/>
          <p:cNvSpPr/>
          <p:nvPr/>
        </p:nvSpPr>
        <p:spPr>
          <a:xfrm>
            <a:off x="4154400" y="6437160"/>
            <a:ext cx="2952720" cy="3748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1"/>
          <p:cNvSpPr/>
          <p:nvPr/>
        </p:nvSpPr>
        <p:spPr>
          <a:xfrm>
            <a:off x="4697280" y="6769080"/>
            <a:ext cx="774720" cy="914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3"/>
          <p:cNvSpPr/>
          <p:nvPr/>
        </p:nvSpPr>
        <p:spPr>
          <a:xfrm>
            <a:off x="4232160" y="7932600"/>
            <a:ext cx="814680" cy="914400"/>
          </a:xfrm>
          <a:prstGeom prst="ellipse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4"/>
          <p:cNvSpPr/>
          <p:nvPr/>
        </p:nvSpPr>
        <p:spPr>
          <a:xfrm>
            <a:off x="6246720" y="7683480"/>
            <a:ext cx="736560" cy="941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5"/>
          <p:cNvSpPr/>
          <p:nvPr/>
        </p:nvSpPr>
        <p:spPr>
          <a:xfrm>
            <a:off x="5781600" y="8929800"/>
            <a:ext cx="795240" cy="912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16"/>
          <p:cNvSpPr/>
          <p:nvPr/>
        </p:nvSpPr>
        <p:spPr>
          <a:xfrm>
            <a:off x="4697280" y="9012240"/>
            <a:ext cx="7938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7"/>
          <p:cNvSpPr/>
          <p:nvPr/>
        </p:nvSpPr>
        <p:spPr>
          <a:xfrm>
            <a:off x="574560" y="5779440"/>
            <a:ext cx="6015600" cy="5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120" bIns="511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66"/>
                </a:solidFill>
                <a:latin typeface="Arial"/>
              </a:rPr>
              <a:t>Бумажные офтальмотренажёр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9" descr="6ee164bdb3"/>
          <p:cNvPicPr/>
          <p:nvPr/>
        </p:nvPicPr>
        <p:blipFill>
          <a:blip r:embed="rId2"/>
          <a:stretch/>
        </p:blipFill>
        <p:spPr>
          <a:xfrm>
            <a:off x="977760" y="7102440"/>
            <a:ext cx="2673360" cy="2968560"/>
          </a:xfrm>
          <a:prstGeom prst="rect">
            <a:avLst/>
          </a:prstGeom>
          <a:ln w="0">
            <a:noFill/>
          </a:ln>
        </p:spPr>
      </p:pic>
      <p:sp>
        <p:nvSpPr>
          <p:cNvPr id="339" name="Oval 11"/>
          <p:cNvSpPr/>
          <p:nvPr/>
        </p:nvSpPr>
        <p:spPr>
          <a:xfrm>
            <a:off x="5781600" y="6769080"/>
            <a:ext cx="774720" cy="914400"/>
          </a:xfrm>
          <a:prstGeom prst="ellipse">
            <a:avLst/>
          </a:prstGeom>
          <a:solidFill>
            <a:srgbClr val="98563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67920" y="422280"/>
            <a:ext cx="6643800" cy="1758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cc"/>
                </a:solidFill>
                <a:latin typeface="Tahoma"/>
              </a:rPr>
              <a:t>Упражнения на релаксацию </a:t>
            </a:r>
            <a:endParaRPr b="0" lang="en-US" sz="5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41" name="Picture 4" descr="22"/>
          <p:cNvPicPr/>
          <p:nvPr/>
        </p:nvPicPr>
        <p:blipFill>
          <a:blip r:embed="rId1"/>
          <a:stretch/>
        </p:blipFill>
        <p:spPr>
          <a:xfrm>
            <a:off x="1986120" y="3363840"/>
            <a:ext cx="472572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67920" y="422280"/>
            <a:ext cx="6643800" cy="1758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67920" y="2461680"/>
            <a:ext cx="6643800" cy="696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" descr="solnishko"/>
          <p:cNvPicPr/>
          <p:nvPr/>
        </p:nvPicPr>
        <p:blipFill>
          <a:blip r:embed="rId1"/>
          <a:srcRect l="0" t="0" r="3544" b="1633"/>
          <a:stretch/>
        </p:blipFill>
        <p:spPr>
          <a:xfrm>
            <a:off x="0" y="399960"/>
            <a:ext cx="7061040" cy="9564840"/>
          </a:xfrm>
          <a:prstGeom prst="rect">
            <a:avLst/>
          </a:prstGeom>
          <a:ln w="0">
            <a:noFill/>
          </a:ln>
        </p:spPr>
      </p:pic>
      <p:sp>
        <p:nvSpPr>
          <p:cNvPr id="345" name="WordArt 5"/>
          <p:cNvSpPr txBox="1"/>
          <p:nvPr/>
        </p:nvSpPr>
        <p:spPr>
          <a:xfrm>
            <a:off x="2819520" y="8820000"/>
            <a:ext cx="4298760" cy="11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за внимание!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67920" y="512280"/>
            <a:ext cx="6867720" cy="5203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 fontScale="96000"/>
          </a:bodyPr>
          <a:p>
            <a:pPr marL="36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«Забота о здоровье ребёнка –это не просто комплекс санитарно-гигиенических норм и правил и не свод требований к режиму, питанию, труду, отдыху. Это прежде всего забота о гармоничной полноте всех физических и духовных сил, и венцом этой гармонии является радость творчества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6720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В.А.Сухомлинск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2" name="Picture 4" descr="home"/>
          <p:cNvPicPr/>
          <p:nvPr/>
        </p:nvPicPr>
        <p:blipFill>
          <a:blip r:embed="rId1"/>
          <a:stretch/>
        </p:blipFill>
        <p:spPr>
          <a:xfrm>
            <a:off x="262080" y="4832280"/>
            <a:ext cx="273024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17400" y="272880"/>
            <a:ext cx="5545440" cy="1422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omic Sans MS"/>
              </a:rPr>
              <a:t>Направления работы логопеда</a:t>
            </a:r>
            <a:endParaRPr b="0" lang="en-US" sz="4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9040" y="1987560"/>
            <a:ext cx="6945120" cy="85615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82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витие сенсорных и моторных функций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82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ормирование кинестетической основы артикуляторных движений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82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витие мимической мускулатуры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82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     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витие интеллектуальных функций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82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витие эмоционально-волевой сферы и игровой деятельности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82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  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ормирование черт                 гармоничной и      незакомплексованной личност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553680" y="2813040"/>
            <a:ext cx="3048120" cy="56260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82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82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82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82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82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6" name="Organization Chart 9"/>
          <p:cNvGrpSpPr/>
          <p:nvPr/>
        </p:nvGrpSpPr>
        <p:grpSpPr>
          <a:xfrm>
            <a:off x="434880" y="622440"/>
            <a:ext cx="6576480" cy="8798400"/>
            <a:chOff x="434880" y="622440"/>
            <a:chExt cx="6576480" cy="8798400"/>
          </a:xfrm>
        </p:grpSpPr>
        <p:cxnSp>
          <p:nvCxnSpPr>
            <p:cNvPr id="287" name="_s1028"/>
            <p:cNvCxnSpPr>
              <a:stCxn id="288" idx="0"/>
              <a:endCxn id="289" idx="2"/>
            </p:cNvCxnSpPr>
            <p:nvPr/>
          </p:nvCxnSpPr>
          <p:spPr>
            <a:xfrm flipV="1" rot="16200000">
              <a:off x="3993840" y="3870000"/>
              <a:ext cx="1760400" cy="2302560"/>
            </a:xfrm>
            <a:prstGeom prst="bentConnector3">
              <a:avLst>
                <a:gd name="adj1" fmla="val 2092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0" name="_s1029"/>
            <p:cNvCxnSpPr>
              <a:stCxn id="291" idx="0"/>
              <a:endCxn id="289" idx="2"/>
            </p:cNvCxnSpPr>
            <p:nvPr/>
          </p:nvCxnSpPr>
          <p:spPr>
            <a:xfrm flipV="1">
              <a:off x="3722760" y="4141440"/>
              <a:ext cx="2520" cy="1760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2" name="_s1030"/>
            <p:cNvCxnSpPr>
              <a:stCxn id="293" idx="0"/>
              <a:endCxn id="289" idx="2"/>
            </p:cNvCxnSpPr>
            <p:nvPr/>
          </p:nvCxnSpPr>
          <p:spPr>
            <a:xfrm flipH="1" flipV="1" rot="5400000">
              <a:off x="1692000" y="3870360"/>
              <a:ext cx="1760400" cy="2302560"/>
            </a:xfrm>
            <a:prstGeom prst="bentConnector3">
              <a:avLst>
                <a:gd name="adj1" fmla="val 2092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9" name="_s1031"/>
            <p:cNvSpPr/>
            <p:nvPr/>
          </p:nvSpPr>
          <p:spPr>
            <a:xfrm>
              <a:off x="2736720" y="622440"/>
              <a:ext cx="1972800" cy="3519360"/>
            </a:xfrm>
            <a:custGeom>
              <a:avLst/>
              <a:gdLst>
                <a:gd name="textAreaLeft" fmla="*/ 96120 w 1972800"/>
                <a:gd name="textAreaRight" fmla="*/ 1876680 w 1972800"/>
                <a:gd name="textAreaTop" fmla="*/ 96120 h 3519360"/>
                <a:gd name="textAreaBottom" fmla="*/ 3423240 h 3519360"/>
              </a:gdLst>
              <a:ahLst/>
              <a:rect l="textAreaLeft" t="textAreaTop" r="textAreaRight" b="textAreaBottom"/>
              <a:pathLst>
                <a:path w="21600" h="38530">
                  <a:moveTo>
                    <a:pt x="3600" y="0"/>
                  </a:moveTo>
                  <a:arcTo wR="3600" hR="3600" stAng="16200000" swAng="-5400000"/>
                  <a:lnTo>
                    <a:pt x="0" y="34930"/>
                  </a:lnTo>
                  <a:arcTo wR="3600" hR="3600" stAng="10800000" swAng="-5400000"/>
                  <a:lnTo>
                    <a:pt x="18000" y="385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19c542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comic"/>
                </a:rPr>
                <a:t>принцип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comic"/>
                </a:rPr>
                <a:t>коррекционно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comic"/>
                </a:rPr>
                <a:t>направлен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032"/>
            <p:cNvSpPr/>
            <p:nvPr/>
          </p:nvSpPr>
          <p:spPr>
            <a:xfrm>
              <a:off x="434880" y="5901480"/>
              <a:ext cx="1972800" cy="3519360"/>
            </a:xfrm>
            <a:custGeom>
              <a:avLst/>
              <a:gdLst>
                <a:gd name="textAreaLeft" fmla="*/ 96120 w 1972800"/>
                <a:gd name="textAreaRight" fmla="*/ 1876680 w 1972800"/>
                <a:gd name="textAreaTop" fmla="*/ 96120 h 3519360"/>
                <a:gd name="textAreaBottom" fmla="*/ 3423240 h 3519360"/>
              </a:gdLst>
              <a:ahLst/>
              <a:rect l="textAreaLeft" t="textAreaTop" r="textAreaRight" b="textAreaBottom"/>
              <a:pathLst>
                <a:path w="21600" h="38530">
                  <a:moveTo>
                    <a:pt x="3600" y="0"/>
                  </a:moveTo>
                  <a:arcTo wR="3600" hR="3600" stAng="16200000" swAng="-5400000"/>
                  <a:lnTo>
                    <a:pt x="0" y="34930"/>
                  </a:lnTo>
                  <a:arcTo wR="3600" hR="3600" stAng="10800000" swAng="-5400000"/>
                  <a:lnTo>
                    <a:pt x="18000" y="385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19c542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0000"/>
                  </a:solidFill>
                  <a:latin typeface="comic"/>
                </a:rPr>
                <a:t>коррекционно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0000"/>
                  </a:solidFill>
                  <a:latin typeface="comic"/>
                </a:rPr>
                <a:t>воспита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033"/>
            <p:cNvSpPr/>
            <p:nvPr/>
          </p:nvSpPr>
          <p:spPr>
            <a:xfrm>
              <a:off x="2736720" y="5901480"/>
              <a:ext cx="1972800" cy="3519360"/>
            </a:xfrm>
            <a:custGeom>
              <a:avLst/>
              <a:gdLst>
                <a:gd name="textAreaLeft" fmla="*/ 96120 w 1972800"/>
                <a:gd name="textAreaRight" fmla="*/ 1876680 w 1972800"/>
                <a:gd name="textAreaTop" fmla="*/ 96120 h 3519360"/>
                <a:gd name="textAreaBottom" fmla="*/ 3423240 h 3519360"/>
              </a:gdLst>
              <a:ahLst/>
              <a:rect l="textAreaLeft" t="textAreaTop" r="textAreaRight" b="textAreaBottom"/>
              <a:pathLst>
                <a:path w="21600" h="38530">
                  <a:moveTo>
                    <a:pt x="3600" y="0"/>
                  </a:moveTo>
                  <a:arcTo wR="3600" hR="3600" stAng="16200000" swAng="-5400000"/>
                  <a:lnTo>
                    <a:pt x="0" y="34930"/>
                  </a:lnTo>
                  <a:arcTo wR="3600" hR="3600" stAng="10800000" swAng="-5400000"/>
                  <a:lnTo>
                    <a:pt x="18000" y="385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19c542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0000"/>
                  </a:solidFill>
                  <a:latin typeface="comic"/>
                </a:rPr>
                <a:t>коррекционно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0000"/>
                  </a:solidFill>
                  <a:latin typeface="comic"/>
                </a:rPr>
                <a:t>развит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034"/>
            <p:cNvSpPr/>
            <p:nvPr/>
          </p:nvSpPr>
          <p:spPr>
            <a:xfrm>
              <a:off x="5038560" y="5901480"/>
              <a:ext cx="1972800" cy="3519360"/>
            </a:xfrm>
            <a:custGeom>
              <a:avLst/>
              <a:gdLst>
                <a:gd name="textAreaLeft" fmla="*/ 96120 w 1972800"/>
                <a:gd name="textAreaRight" fmla="*/ 1876680 w 1972800"/>
                <a:gd name="textAreaTop" fmla="*/ 96120 h 3519360"/>
                <a:gd name="textAreaBottom" fmla="*/ 3423240 h 3519360"/>
              </a:gdLst>
              <a:ahLst/>
              <a:rect l="textAreaLeft" t="textAreaTop" r="textAreaRight" b="textAreaBottom"/>
              <a:pathLst>
                <a:path w="21600" h="38530">
                  <a:moveTo>
                    <a:pt x="3600" y="0"/>
                  </a:moveTo>
                  <a:arcTo wR="3600" hR="3600" stAng="16200000" swAng="-5400000"/>
                  <a:lnTo>
                    <a:pt x="0" y="34930"/>
                  </a:lnTo>
                  <a:arcTo wR="3600" hR="3600" stAng="10800000" swAng="-5400000"/>
                  <a:lnTo>
                    <a:pt x="18000" y="385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19c542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100" spc="-1" strike="noStrike">
                  <a:solidFill>
                    <a:srgbClr val="ff0000"/>
                  </a:solidFill>
                  <a:latin typeface="comic"/>
                </a:rPr>
                <a:t>коррекционно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0000"/>
                  </a:solidFill>
                  <a:latin typeface="comic"/>
                </a:rPr>
                <a:t>обучени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4" name="Object 8"/>
          <p:cNvGraphicFramePr/>
          <p:nvPr/>
        </p:nvGraphicFramePr>
        <p:xfrm>
          <a:off x="144360" y="162000"/>
          <a:ext cx="7091640" cy="1015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162000"/>
                    <a:ext cx="7091640" cy="1015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67920" y="422280"/>
            <a:ext cx="6643800" cy="1758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cc"/>
                </a:solidFill>
                <a:latin typeface="Tahoma"/>
              </a:rPr>
              <a:t>Нарушения речи</a:t>
            </a:r>
            <a:endParaRPr b="0" lang="en-US" sz="5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68280" y="1841040"/>
            <a:ext cx="7012080" cy="84171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 fontScale="94000"/>
          </a:bodyPr>
          <a:p>
            <a:pPr marL="359640" indent="-359640">
              <a:lnSpc>
                <a:spcPct val="90000"/>
              </a:lnSpc>
              <a:spcBef>
                <a:spcPts val="6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фонетическое недоразвитие  речи (ФНР) - нарушение процессов формирования произносительной системы родного языка у детей с различными речевыми расстройствами вследствие дефектов произношения фонем. ·            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59640" indent="-359640">
              <a:lnSpc>
                <a:spcPct val="90000"/>
              </a:lnSpc>
              <a:spcBef>
                <a:spcPts val="6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  </a:t>
            </a: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Фонетико-фонематическое недоразвитие речи (ФФНР) – нарушение процессов формирования произносительной системы родного языка  у детей с различными речевыми расстройствами вследствие дефектов восприятия и произношения фонем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59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59640" indent="-359640">
              <a:lnSpc>
                <a:spcPct val="90000"/>
              </a:lnSpc>
              <a:spcBef>
                <a:spcPts val="6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Общее недоразвитие речи (ОНР) – различные сложные речевые расстройства, при которых нарушено формирование всех компонентов речевой системы, относящихся к звуковой и смысловой стороне. 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WordArt 4"/>
          <p:cNvSpPr txBox="1"/>
          <p:nvPr/>
        </p:nvSpPr>
        <p:spPr>
          <a:xfrm>
            <a:off x="676440" y="3614760"/>
            <a:ext cx="6325920" cy="376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доровьесберегающие 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хнологии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67920" y="422280"/>
            <a:ext cx="6643800" cy="1758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500" spc="-1" strike="noStrike">
                <a:solidFill>
                  <a:srgbClr val="cc3399"/>
                </a:solidFill>
                <a:latin typeface="Tahoma"/>
              </a:rPr>
              <a:t>Дыхательная гимнастика</a:t>
            </a:r>
            <a:r>
              <a:rPr b="0" lang="ru-RU" sz="5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5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00" name="Picture 5" descr="77"/>
          <p:cNvPicPr/>
          <p:nvPr/>
        </p:nvPicPr>
        <p:blipFill>
          <a:blip r:embed="rId1"/>
          <a:stretch/>
        </p:blipFill>
        <p:spPr>
          <a:xfrm>
            <a:off x="977760" y="2117880"/>
            <a:ext cx="2789280" cy="30733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54"/>
          <p:cNvPicPr/>
          <p:nvPr/>
        </p:nvPicPr>
        <p:blipFill>
          <a:blip r:embed="rId2"/>
          <a:stretch/>
        </p:blipFill>
        <p:spPr>
          <a:xfrm>
            <a:off x="3691080" y="5108400"/>
            <a:ext cx="278892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67920" y="422280"/>
            <a:ext cx="6643800" cy="1758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cc"/>
                </a:solidFill>
                <a:latin typeface="Tahoma"/>
              </a:rPr>
              <a:t>Развитие общей моторики.</a:t>
            </a:r>
            <a:endParaRPr b="0" lang="en-US" sz="5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579320" y="2117880"/>
            <a:ext cx="5800680" cy="49845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82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Упражнения для профилактики плоскостопия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Упражнения для улучшения осан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Упражнения психологической саморегуляци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4" name="Picture 7" descr=""/>
          <p:cNvPicPr/>
          <p:nvPr/>
        </p:nvPicPr>
        <p:blipFill>
          <a:blip r:embed="rId1"/>
          <a:stretch/>
        </p:blipFill>
        <p:spPr>
          <a:xfrm>
            <a:off x="1830240" y="6686640"/>
            <a:ext cx="435132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7T14:20:59Z</dcterms:created>
  <dc:creator>А</dc:creator>
  <dc:description/>
  <dc:language>en-US</dc:language>
  <cp:lastModifiedBy>1</cp:lastModifiedBy>
  <dcterms:modified xsi:type="dcterms:W3CDTF">2013-10-17T17:20:09Z</dcterms:modified>
  <cp:revision>11</cp:revision>
  <dc:subject/>
  <dc:title>Здоровьесберегающие технологии на логопедических занятиях</dc:title>
</cp:coreProperties>
</file>