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8EE-FE84-4DF4-A847-03AF3EF9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E27-8375-4614-B418-D2EFF85C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03C-365C-4B9B-98F0-64AAACD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981-EF7B-4D31-A8D8-7A8E9C28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C4F-E6D2-4675-8475-2B32304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65F-8E02-44AF-B801-9C2E93C3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0D6-C4CF-4AEB-B9EF-20C2CF8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21E-5341-4BF4-8579-669EDAD3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0C1-65BB-4E31-A06E-60CE2104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578-F4E5-42E4-A374-56F81CC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F00-8613-4B20-9780-8B1BC57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8B8-A5ED-4DF5-B82E-0B139B4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A8A-4B1A-4AA9-8580-A70672C87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lopp.ru/uploads/posts/2008-08/1219396048_1191268711_c410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le-soldatki.narod.ru/uh.irj/zadumal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элективного курса по теме: «Решение текстовых задач на смеси и сплавы» в 9 классе.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Подтягина Юлия Михайловна, учительница математики МОУ-СОШ №2 имени А.И.Герцена,  г. Клинцы, Брянской области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ябрь -2011 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для группы №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два сплава. Один содержит  2,8 кг золота и 1,2 кг примесей, другой -  2,7 кг золота и 0,3 кг примесей. Отрезав по куску от каждого сплава и сплавив их, получили 2 кг сплава с процентным содержанием золота 85%. Сколько кг металла  отрезали от второго спла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Задача для группы №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аны два куска с различным содержанием олова. Первый, массой 300 г, содержит 20% олова. Второй, массой 200 г, содержит 40% олова. Сколько процентов олова будет содержать сплав, полученный из этих кус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Задача для группы №4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25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меется два куска сплава олова и свинца, содержащие 60% и 40% олова. По сколько г от каждого куска надо взять, что бы получить 600г сплава, содержащего 45% оло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8360" y="836640"/>
          <a:ext cx="8300880" cy="3000240"/>
        </p:xfrm>
        <a:graphic>
          <a:graphicData uri="http://schemas.openxmlformats.org/drawingml/2006/table">
            <a:tbl>
              <a:tblPr/>
              <a:tblGrid>
                <a:gridCol w="2128680"/>
                <a:gridCol w="2057400"/>
                <a:gridCol w="2057400"/>
                <a:gridCol w="2057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уппа 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оли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сная вод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 вод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в аквариум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2987640" y="5579640"/>
            <a:ext cx="37036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536400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3276720" y="1557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7236000" y="1916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132000" y="184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5219640" y="18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7308720" y="1844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0"/>
          <p:cNvSpPr/>
          <p:nvPr/>
        </p:nvSpPr>
        <p:spPr>
          <a:xfrm>
            <a:off x="334800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730872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419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3"/>
          <p:cNvSpPr/>
          <p:nvPr/>
        </p:nvSpPr>
        <p:spPr>
          <a:xfrm>
            <a:off x="5148360" y="32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+8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7308720" y="3284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3571560" y="435456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80)=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3709800" y="4797360"/>
            <a:ext cx="15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,6=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3852360" y="51577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4141800" y="5516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2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9"/>
          <p:cNvSpPr/>
          <p:nvPr/>
        </p:nvSpPr>
        <p:spPr>
          <a:xfrm>
            <a:off x="2844360" y="60213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20 л пресной воды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2843280" y="39337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13 из 501692"/>
          <p:cNvPicPr/>
          <p:nvPr/>
        </p:nvPicPr>
        <p:blipFill>
          <a:blip r:embed="rId1"/>
          <a:stretch/>
        </p:blipFill>
        <p:spPr>
          <a:xfrm>
            <a:off x="6804000" y="5081760"/>
            <a:ext cx="21114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404640"/>
          <a:ext cx="8229600" cy="387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уппа 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кг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г золот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ла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ла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резали от 1 сплав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резали от 2 сплав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пла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75"/>
          <p:cNvSpPr/>
          <p:nvPr/>
        </p:nvSpPr>
        <p:spPr>
          <a:xfrm>
            <a:off x="2916360" y="1197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6"/>
          <p:cNvSpPr/>
          <p:nvPr/>
        </p:nvSpPr>
        <p:spPr>
          <a:xfrm>
            <a:off x="4788000" y="1197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8+1,2=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7"/>
          <p:cNvSpPr/>
          <p:nvPr/>
        </p:nvSpPr>
        <p:spPr>
          <a:xfrm>
            <a:off x="6948360" y="11970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2916360" y="177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9"/>
          <p:cNvSpPr/>
          <p:nvPr/>
        </p:nvSpPr>
        <p:spPr>
          <a:xfrm>
            <a:off x="478800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+0,3=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1"/>
          <p:cNvSpPr/>
          <p:nvPr/>
        </p:nvSpPr>
        <p:spPr>
          <a:xfrm>
            <a:off x="6948360" y="1773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3"/>
          <p:cNvSpPr/>
          <p:nvPr/>
        </p:nvSpPr>
        <p:spPr>
          <a:xfrm>
            <a:off x="2916360" y="242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4"/>
          <p:cNvSpPr/>
          <p:nvPr/>
        </p:nvSpPr>
        <p:spPr>
          <a:xfrm>
            <a:off x="2916360" y="3141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5"/>
          <p:cNvSpPr/>
          <p:nvPr/>
        </p:nvSpPr>
        <p:spPr>
          <a:xfrm>
            <a:off x="2771640" y="3789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8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6"/>
          <p:cNvSpPr/>
          <p:nvPr/>
        </p:nvSpPr>
        <p:spPr>
          <a:xfrm>
            <a:off x="4932360" y="24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7"/>
          <p:cNvSpPr/>
          <p:nvPr/>
        </p:nvSpPr>
        <p:spPr>
          <a:xfrm>
            <a:off x="6948360" y="242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8"/>
          <p:cNvSpPr/>
          <p:nvPr/>
        </p:nvSpPr>
        <p:spPr>
          <a:xfrm>
            <a:off x="4932360" y="3141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9"/>
          <p:cNvSpPr/>
          <p:nvPr/>
        </p:nvSpPr>
        <p:spPr>
          <a:xfrm>
            <a:off x="6948360" y="3141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0"/>
          <p:cNvSpPr/>
          <p:nvPr/>
        </p:nvSpPr>
        <p:spPr>
          <a:xfrm>
            <a:off x="4932360" y="378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1"/>
          <p:cNvSpPr/>
          <p:nvPr/>
        </p:nvSpPr>
        <p:spPr>
          <a:xfrm>
            <a:off x="6877080" y="3789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8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=1,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4365720"/>
            <a:ext cx="194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6"/>
          <p:cNvSpPr/>
          <p:nvPr/>
        </p:nvSpPr>
        <p:spPr>
          <a:xfrm>
            <a:off x="2484720" y="4437000"/>
            <a:ext cx="23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• (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+ 0,9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,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7"/>
          <p:cNvSpPr/>
          <p:nvPr/>
        </p:nvSpPr>
        <p:spPr>
          <a:xfrm>
            <a:off x="2411280" y="486900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 – 0,7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0,9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,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8"/>
          <p:cNvSpPr/>
          <p:nvPr/>
        </p:nvSpPr>
        <p:spPr>
          <a:xfrm>
            <a:off x="2844360" y="5229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,7 -1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9"/>
          <p:cNvSpPr/>
          <p:nvPr/>
        </p:nvSpPr>
        <p:spPr>
          <a:xfrm>
            <a:off x="2988720" y="5661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0"/>
          <p:cNvSpPr/>
          <p:nvPr/>
        </p:nvSpPr>
        <p:spPr>
          <a:xfrm>
            <a:off x="3133080" y="60213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,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004000" y="6021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,5 кг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-main-pic" descr="Картинка 13 из 501692"/>
          <p:cNvPicPr/>
          <p:nvPr/>
        </p:nvPicPr>
        <p:blipFill>
          <a:blip r:embed="rId1"/>
          <a:stretch/>
        </p:blipFill>
        <p:spPr>
          <a:xfrm>
            <a:off x="6804000" y="4724280"/>
            <a:ext cx="21114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42960" y="428760"/>
          <a:ext cx="7929720" cy="2941560"/>
        </p:xfrm>
        <a:graphic>
          <a:graphicData uri="http://schemas.openxmlformats.org/drawingml/2006/table">
            <a:tbl>
              <a:tblPr/>
              <a:tblGrid>
                <a:gridCol w="1981080"/>
                <a:gridCol w="1982880"/>
                <a:gridCol w="1982880"/>
                <a:gridCol w="1982880"/>
              </a:tblGrid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уппа 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 (г всего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(олова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32"/>
          <p:cNvSpPr/>
          <p:nvPr/>
        </p:nvSpPr>
        <p:spPr>
          <a:xfrm>
            <a:off x="320364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-main-pic" descr="Картинка 13 из 501692"/>
          <p:cNvPicPr/>
          <p:nvPr/>
        </p:nvPicPr>
        <p:blipFill>
          <a:blip r:embed="rId1"/>
          <a:stretch/>
        </p:blipFill>
        <p:spPr>
          <a:xfrm>
            <a:off x="5867280" y="4437000"/>
            <a:ext cx="3048120" cy="2095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4"/>
          <p:cNvSpPr/>
          <p:nvPr/>
        </p:nvSpPr>
        <p:spPr>
          <a:xfrm>
            <a:off x="514836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020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3132000" y="198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521964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702000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3132000" y="285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5219640" y="285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709308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3593160" y="3564000"/>
            <a:ext cx="1400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3582000" y="4075200"/>
            <a:ext cx="1924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5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3780000" y="4695840"/>
            <a:ext cx="1518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=0,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3996720" y="5272200"/>
            <a:ext cx="985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=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1692000" y="5921280"/>
            <a:ext cx="1607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28 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826920" y="364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84360" y="692280"/>
          <a:ext cx="8135640" cy="3097080"/>
        </p:xfrm>
        <a:graphic>
          <a:graphicData uri="http://schemas.openxmlformats.org/drawingml/2006/table">
            <a:tbl>
              <a:tblPr/>
              <a:tblGrid>
                <a:gridCol w="1726920"/>
                <a:gridCol w="1855800"/>
                <a:gridCol w="1940040"/>
                <a:gridCol w="261288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уппа 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г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г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кусок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36"/>
          <p:cNvSpPr/>
          <p:nvPr/>
        </p:nvSpPr>
        <p:spPr>
          <a:xfrm>
            <a:off x="2771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771640" y="1268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2843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4572000" y="126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4643280" y="177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-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457200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6948360" y="1268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6732720" y="1773360"/>
            <a:ext cx="1512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•(600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6215040" y="2492280"/>
            <a:ext cx="23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,4•(600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6443640" y="3357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5•600=2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6804000" y="2924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4"/>
          <p:cNvSpPr/>
          <p:nvPr/>
        </p:nvSpPr>
        <p:spPr>
          <a:xfrm>
            <a:off x="2412000" y="4005360"/>
            <a:ext cx="2907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+ 0,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00 –Х) = 2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2556360" y="43657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•Х +240 – 0,4•Х = 2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6"/>
          <p:cNvSpPr/>
          <p:nvPr/>
        </p:nvSpPr>
        <p:spPr>
          <a:xfrm>
            <a:off x="3060360" y="4724280"/>
            <a:ext cx="11818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•Х= 3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7"/>
          <p:cNvSpPr/>
          <p:nvPr/>
        </p:nvSpPr>
        <p:spPr>
          <a:xfrm>
            <a:off x="3205440" y="5157720"/>
            <a:ext cx="910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 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8"/>
          <p:cNvSpPr/>
          <p:nvPr/>
        </p:nvSpPr>
        <p:spPr>
          <a:xfrm>
            <a:off x="1983240" y="551664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второго куска равна 150 г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9"/>
          <p:cNvSpPr/>
          <p:nvPr/>
        </p:nvSpPr>
        <p:spPr>
          <a:xfrm>
            <a:off x="1619280" y="595008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первого куска равна: 600-150=450 г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0"/>
          <p:cNvSpPr/>
          <p:nvPr/>
        </p:nvSpPr>
        <p:spPr>
          <a:xfrm>
            <a:off x="6661440" y="62373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50 г, 450 г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1"/>
          <p:cNvSpPr/>
          <p:nvPr/>
        </p:nvSpPr>
        <p:spPr>
          <a:xfrm>
            <a:off x="250920" y="39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-main-pic" descr="Картинка 13 из 501692"/>
          <p:cNvPicPr/>
          <p:nvPr/>
        </p:nvPicPr>
        <p:blipFill>
          <a:blip r:embed="rId1"/>
          <a:stretch/>
        </p:blipFill>
        <p:spPr>
          <a:xfrm>
            <a:off x="6659640" y="4221000"/>
            <a:ext cx="21844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826920" y="148140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меется два раствора серной кислоты, первый – 40%, второй – 60%. Эти растворы смешали, после чего добавили 5 кг чистой воды и получили 20% раствор кислоты. Если бы вместо воды добавили 5кг 80% раствора, то получили бы 79% раствор. Определите количество 40% и 60% растворо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-main-pic" descr="Картинка 37 из 501692"/>
          <p:cNvPicPr/>
          <p:nvPr/>
        </p:nvPicPr>
        <p:blipFill>
          <a:blip r:embed="rId1"/>
          <a:srcRect l="14714" t="38865" r="16441" b="14738"/>
          <a:stretch/>
        </p:blipFill>
        <p:spPr>
          <a:xfrm>
            <a:off x="2843280" y="4005360"/>
            <a:ext cx="39607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42960" y="357120"/>
          <a:ext cx="7786800" cy="2495520"/>
        </p:xfrm>
        <a:graphic>
          <a:graphicData uri="http://schemas.openxmlformats.org/drawingml/2006/table">
            <a:tbl>
              <a:tblPr/>
              <a:tblGrid>
                <a:gridCol w="1946160"/>
                <a:gridCol w="1946520"/>
                <a:gridCol w="1947600"/>
                <a:gridCol w="1946520"/>
              </a:tblGrid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раствор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раствор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д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вый раствор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14240" y="3929040"/>
          <a:ext cx="7786800" cy="2428920"/>
        </p:xfrm>
        <a:graphic>
          <a:graphicData uri="http://schemas.openxmlformats.org/drawingml/2006/table">
            <a:tbl>
              <a:tblPr/>
              <a:tblGrid>
                <a:gridCol w="1946520"/>
                <a:gridCol w="1946160"/>
                <a:gridCol w="1947960"/>
                <a:gridCol w="194616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раствор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раствор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твор 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твор 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69"/>
          <p:cNvSpPr/>
          <p:nvPr/>
        </p:nvSpPr>
        <p:spPr>
          <a:xfrm>
            <a:off x="3059280" y="90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3059280" y="134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305928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2"/>
          <p:cNvSpPr/>
          <p:nvPr/>
        </p:nvSpPr>
        <p:spPr>
          <a:xfrm>
            <a:off x="3059280" y="22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3"/>
          <p:cNvSpPr/>
          <p:nvPr/>
        </p:nvSpPr>
        <p:spPr>
          <a:xfrm>
            <a:off x="5003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4"/>
          <p:cNvSpPr/>
          <p:nvPr/>
        </p:nvSpPr>
        <p:spPr>
          <a:xfrm>
            <a:off x="5003640" y="134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5"/>
          <p:cNvSpPr/>
          <p:nvPr/>
        </p:nvSpPr>
        <p:spPr>
          <a:xfrm>
            <a:off x="5003640" y="17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6"/>
          <p:cNvSpPr/>
          <p:nvPr/>
        </p:nvSpPr>
        <p:spPr>
          <a:xfrm>
            <a:off x="493236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+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7"/>
          <p:cNvSpPr/>
          <p:nvPr/>
        </p:nvSpPr>
        <p:spPr>
          <a:xfrm>
            <a:off x="6877080" y="90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8"/>
          <p:cNvSpPr/>
          <p:nvPr/>
        </p:nvSpPr>
        <p:spPr>
          <a:xfrm>
            <a:off x="6948360" y="134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9"/>
          <p:cNvSpPr/>
          <p:nvPr/>
        </p:nvSpPr>
        <p:spPr>
          <a:xfrm>
            <a:off x="6948360" y="17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6732720" y="22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0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3132000" y="4437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3132000" y="49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3"/>
          <p:cNvSpPr/>
          <p:nvPr/>
        </p:nvSpPr>
        <p:spPr>
          <a:xfrm>
            <a:off x="3132000" y="5373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4"/>
          <p:cNvSpPr/>
          <p:nvPr/>
        </p:nvSpPr>
        <p:spPr>
          <a:xfrm>
            <a:off x="3132000" y="5950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5"/>
          <p:cNvSpPr/>
          <p:nvPr/>
        </p:nvSpPr>
        <p:spPr>
          <a:xfrm>
            <a:off x="5076720" y="4508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6"/>
          <p:cNvSpPr/>
          <p:nvPr/>
        </p:nvSpPr>
        <p:spPr>
          <a:xfrm>
            <a:off x="514836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148360" y="537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8"/>
          <p:cNvSpPr/>
          <p:nvPr/>
        </p:nvSpPr>
        <p:spPr>
          <a:xfrm>
            <a:off x="5148360" y="587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Y+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9"/>
          <p:cNvSpPr/>
          <p:nvPr/>
        </p:nvSpPr>
        <p:spPr>
          <a:xfrm>
            <a:off x="6877080" y="443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0"/>
          <p:cNvSpPr/>
          <p:nvPr/>
        </p:nvSpPr>
        <p:spPr>
          <a:xfrm>
            <a:off x="687708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1"/>
          <p:cNvSpPr/>
          <p:nvPr/>
        </p:nvSpPr>
        <p:spPr>
          <a:xfrm>
            <a:off x="6877080" y="537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2"/>
          <p:cNvSpPr/>
          <p:nvPr/>
        </p:nvSpPr>
        <p:spPr>
          <a:xfrm>
            <a:off x="673272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Y+5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5"/>
          <p:cNvSpPr/>
          <p:nvPr/>
        </p:nvSpPr>
        <p:spPr>
          <a:xfrm>
            <a:off x="2195640" y="3213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539640" y="5229360"/>
            <a:ext cx="82155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55640" y="33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846880" y="33336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м два уравнения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970560" y="836640"/>
            <a:ext cx="30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5) =0,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0,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427640" y="83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218920" y="765000"/>
            <a:ext cx="30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7•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5)=0,4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0,6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059920" y="1197000"/>
            <a:ext cx="4682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м и решим систему уравнений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556000" y="17002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2195640" y="1628640"/>
                <a:ext cx="4012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6</m:t>
                            </m:r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2124000" y="2637000"/>
                <a:ext cx="46436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,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 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,4 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,6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 Box 17"/>
          <p:cNvSpPr/>
          <p:nvPr/>
        </p:nvSpPr>
        <p:spPr>
          <a:xfrm rot="5400000">
            <a:off x="3689640" y="2365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093920" y="395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0"/>
              <p:cNvSpPr txBox="1"/>
              <p:nvPr/>
            </p:nvSpPr>
            <p:spPr>
              <a:xfrm>
                <a:off x="2195640" y="3716280"/>
                <a:ext cx="2598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0,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0,4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22"/>
          <p:cNvSpPr/>
          <p:nvPr/>
        </p:nvSpPr>
        <p:spPr>
          <a:xfrm rot="5400000">
            <a:off x="3689640" y="33008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811760" y="371628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5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003640" y="4149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5867280" y="393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6588000" y="3716280"/>
                <a:ext cx="2124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Text Box 28"/>
          <p:cNvSpPr/>
          <p:nvPr/>
        </p:nvSpPr>
        <p:spPr>
          <a:xfrm>
            <a:off x="8172360" y="393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2320560" y="4986360"/>
            <a:ext cx="1029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5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492360" y="501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4169520" y="5029200"/>
            <a:ext cx="1649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+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5940360" y="501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6444720" y="5013360"/>
            <a:ext cx="1416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+10-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8101080" y="5013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2341080" y="5589720"/>
            <a:ext cx="953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-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3492360" y="5589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4140360" y="5589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=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5512680" y="62373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1кг, 2 кг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4859280" y="5589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5437080" y="5589720"/>
            <a:ext cx="1263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5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=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Решение задач на смеси и сплавы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spcBef>
                <a:spcPts val="799"/>
              </a:spcBef>
              <a:buClr>
                <a:srgbClr val="cc0000"/>
              </a:buClr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cc0000"/>
              </a:buClr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ли ли мы поставленных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cc0000"/>
              </a:buClr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задача оказалась  более интер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cc0000"/>
              </a:buClr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задача была более тру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cc0000"/>
              </a:buClr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ы хотели подготовить к следующему занят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8,99, 100, 1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i-main-pic" descr="Картинка 4 из 501692"/>
          <p:cNvPicPr/>
          <p:nvPr/>
        </p:nvPicPr>
        <p:blipFill>
          <a:blip r:embed="rId1"/>
          <a:stretch/>
        </p:blipFill>
        <p:spPr>
          <a:xfrm>
            <a:off x="3635280" y="3213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ник элективных 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тематика 8-9 классы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7 г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тельство «Учител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http://im3-tub.yandex.net/i?id=117597795&amp;tov=3"/>
          <p:cNvPicPr/>
          <p:nvPr/>
        </p:nvPicPr>
        <p:blipFill>
          <a:blip r:embed="rId1"/>
          <a:stretch/>
        </p:blipFill>
        <p:spPr>
          <a:xfrm>
            <a:off x="3533760" y="4076640"/>
            <a:ext cx="2035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занят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крепить навыки решения задач на смеси и спл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дготовиться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Использовать презентации при решении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должать развивать мышление, внимание, память, культуру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«Мало иметь хороший у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главное – хорошо его применять».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. Декар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30 из 485265">
            <a:hlinkClick r:id="rId1"/>
          </p:cNvPr>
          <p:cNvPicPr/>
          <p:nvPr/>
        </p:nvPicPr>
        <p:blipFill>
          <a:blip r:embed="rId2"/>
          <a:srcRect l="0" t="0" r="0" b="6888"/>
          <a:stretch/>
        </p:blipFill>
        <p:spPr>
          <a:xfrm>
            <a:off x="755640" y="4005360"/>
            <a:ext cx="2301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й с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задачи у д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групп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решений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задачи на составление системы урав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дение итогов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шаем устно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Записать десятичной дроб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5%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4 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5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Перевести в проц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2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02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9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0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1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-main-pic" descr="Картинка 5 из 50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189000"/>
            <a:ext cx="1425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Какие величины участвуют в задачах на смеси и спла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йти массу первого вещества, массу второго вещества, массу третьего  вещест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йти чистую массу каждого вещества, процентное содержание первого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1125360"/>
          <a:ext cx="4038840" cy="452628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ить задачу у дос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иготовления маринада  необходим  2% р-р уксуса. Сколько нужно добавить воды в 100 г 9-% р-ра  уксуса, что бы получить р-р для приготовления марин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Задача для группы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размножения водорослей вода в аквариуме должна содержать 2% морской соли. Сколько литров пресной воды надо добавить к 80 литрам морской воды с 5-% содержанием соли, чтобы  получить воду, пригодную для  аквари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8:42:42Z</dcterms:created>
  <dc:creator>www.PHILka.RU</dc:creator>
  <dc:description/>
  <dc:language>en-US</dc:language>
  <cp:lastModifiedBy>PEL</cp:lastModifiedBy>
  <dcterms:modified xsi:type="dcterms:W3CDTF">2012-11-26T15:34:41Z</dcterms:modified>
  <cp:revision>15</cp:revision>
  <dc:subject/>
  <dc:title>«Решение задач на смеси и сплавы» </dc:title>
</cp:coreProperties>
</file>