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E1A0B-862B-438D-8B32-3BCB3F5C7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B5B80-4E48-4C8C-AA73-0DEF66C83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196B3-659C-449C-99D0-288FF0887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D119C-8EFD-457B-BA2C-C12F891EA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F481B-F5A3-45C0-B8EC-F6DED2F47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22F2F-D698-4436-80A6-532816928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DDB1F-5CE8-4D27-931C-F0198CA0A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FBB98-4EDA-41B9-9443-67A05CE53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E18CF-EB80-4800-BDB6-58631C1EE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16F45-98A3-434D-86BD-202E4B6CE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90E34-DB7B-46AC-BDD3-A4D930C5C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F46EF-C4BE-4CE2-A997-C0ADBD482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6245F-949E-4337-A2B3-71C426734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5ADAE-6A73-41A3-84E9-216CE9E90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A349F-8C56-405A-91B9-F58926A8D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F0EA0-F8DB-4B4C-9F26-4024EB81B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BA53A-1191-494C-AF0A-CDF793D6B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AAF6E-65AD-40F8-9705-038F129D1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9C6E7-44C2-49F1-8F6B-CACF40C11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F6E75-4B5E-41B5-BCA7-659702B70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75A5F-2E30-46B7-A729-C5B2B28BF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B6031-441B-4FB9-A96E-C2993FD26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25C6F-6BB8-4166-90A4-A7039B9EA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93383-967C-441D-AF12-8303A8794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bb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>
              <a:gd name="textAreaLeft" fmla="*/ 0 w 285480"/>
              <a:gd name="textAreaRight" fmla="*/ 285840 w 285480"/>
              <a:gd name="textAreaTop" fmla="*/ 0 h 209520"/>
              <a:gd name="textAreaBottom" fmla="*/ 209880 h 209520"/>
            </a:gdLst>
            <a:ahLst/>
            <a:rect l="textAreaLeft" t="textAreaTop" r="textAreaRight" b="textAreaBottom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cbd7ce"/>
              </a:gs>
              <a:gs pos="100000">
                <a:srgbClr val="b2bdb5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a3bba9"/>
                </a:gs>
                <a:gs pos="100000">
                  <a:srgbClr val="cbd7c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cbd7ce"/>
                  </a:gs>
                  <a:gs pos="100000">
                    <a:srgbClr val="b9c4b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b9c4bb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cbd7ce"/>
                  </a:gs>
                  <a:gs pos="100000">
                    <a:srgbClr val="bfcac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c5d0c8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cbd7ce"/>
                  </a:gs>
                  <a:gs pos="100000">
                    <a:srgbClr val="bfcac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fcac2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cb6ae"/>
                  </a:gs>
                  <a:gs pos="100000">
                    <a:srgbClr val="cbd7ce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b2bdb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b2bdb5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bfcac2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b2bdb5"/>
                  </a:gs>
                  <a:gs pos="100000">
                    <a:srgbClr val="cbd7ce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cbd7ce"/>
                  </a:gs>
                  <a:gs pos="100000">
                    <a:srgbClr val="b2bdb5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b9c4bb"/>
                  </a:gs>
                  <a:gs pos="100000">
                    <a:srgbClr val="cbd7ce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b2bdb5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bfcac2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b2bdb5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cbd7ce"/>
                  </a:gs>
                  <a:gs pos="100000">
                    <a:srgbClr val="b9c4b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cbd7ce"/>
                  </a:gs>
                  <a:gs pos="100000">
                    <a:srgbClr val="b9c4b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9c4bb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acb6ae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b9c4b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a6b0a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cbd7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cbd7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b2bdb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b2bdb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b2bdb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cbd7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d8d0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d8d0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ed9d1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bfcac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bfcac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bfcac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bfcac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cbd7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d8d0"/>
                  </a:gs>
                  <a:gs pos="100000">
                    <a:srgbClr val="cbd7ce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d8d0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d8d0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bfcac2"/>
                  </a:gs>
                  <a:gs pos="100000">
                    <a:srgbClr val="cbd7ce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cdd8d0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cbd7ce"/>
                  </a:gs>
                  <a:gs pos="100000">
                    <a:srgbClr val="bfcac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bfcac2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cbd7ce"/>
                  </a:gs>
                  <a:gs pos="100000">
                    <a:srgbClr val="bfcac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c5d0c8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a3bba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a3bba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a3bba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a3bba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3bba9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3bba9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a3bba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3bba9"/>
                    </a:gs>
                    <a:gs pos="100000">
                      <a:srgbClr val="cbd7c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bd7ce"/>
                    </a:gs>
                    <a:gs pos="100000">
                      <a:srgbClr val="a3bba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3bba9"/>
                    </a:gs>
                    <a:gs pos="100000">
                      <a:srgbClr val="cbd7c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bd7ce"/>
                    </a:gs>
                    <a:gs pos="100000">
                      <a:srgbClr val="a3bba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d8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7d8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bd7c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9999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34A30-AF73-46F4-8E74-14FE6A3B460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bb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a3bba9"/>
                </a:gs>
                <a:gs pos="100000">
                  <a:srgbClr val="cbd7c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cbd7ce"/>
                  </a:gs>
                  <a:gs pos="100000">
                    <a:srgbClr val="b9c4b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b9c4bb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cbd7ce"/>
                  </a:gs>
                  <a:gs pos="100000">
                    <a:srgbClr val="bfcac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c5d0c8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cbd7ce"/>
                  </a:gs>
                  <a:gs pos="100000">
                    <a:srgbClr val="bfcac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fcac2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cb6ae"/>
                  </a:gs>
                  <a:gs pos="100000">
                    <a:srgbClr val="cbd7ce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b2bdb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b2bdb5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bfcac2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b2bdb5"/>
                  </a:gs>
                  <a:gs pos="100000">
                    <a:srgbClr val="cbd7ce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cbd7ce"/>
                  </a:gs>
                  <a:gs pos="100000">
                    <a:srgbClr val="b2bdb5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b9c4bb"/>
                  </a:gs>
                  <a:gs pos="100000">
                    <a:srgbClr val="cbd7ce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b2bdb5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bfcac2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b2bdb5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cbd7ce"/>
                  </a:gs>
                  <a:gs pos="100000">
                    <a:srgbClr val="b9c4b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cbd7ce"/>
                  </a:gs>
                  <a:gs pos="100000">
                    <a:srgbClr val="b9c4b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9c4bb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acb6ae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b9c4b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a6b0a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cbd7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cbd7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b2bdb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b2bdb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b2bdb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cbd7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d8d0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d8d0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ed9d1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bfcac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bfcac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bfcac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bfcac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cbd7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d8d0"/>
                  </a:gs>
                  <a:gs pos="100000">
                    <a:srgbClr val="cbd7ce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d8d0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d8d0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bfcac2"/>
                  </a:gs>
                  <a:gs pos="100000">
                    <a:srgbClr val="cbd7ce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cdd8d0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cbd7ce"/>
                  </a:gs>
                  <a:gs pos="100000">
                    <a:srgbClr val="bfcac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bfcac2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cbd7ce"/>
                  </a:gs>
                  <a:gs pos="100000">
                    <a:srgbClr val="bfcac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c5d0c8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a3bba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a3bba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a3bba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a3bba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3bba9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3bba9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a3bba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3bba9"/>
                    </a:gs>
                    <a:gs pos="100000">
                      <a:srgbClr val="cbd7c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bd7ce"/>
                    </a:gs>
                    <a:gs pos="100000">
                      <a:srgbClr val="a3bba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3bba9"/>
                    </a:gs>
                    <a:gs pos="100000">
                      <a:srgbClr val="cbd7c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bd7ce"/>
                    </a:gs>
                    <a:gs pos="100000">
                      <a:srgbClr val="a3bba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d8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7d8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bd7c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9999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017BF-2002-4AF0-99E0-197EB6E614AF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Box 3"/>
          <p:cNvSpPr/>
          <p:nvPr/>
        </p:nvSpPr>
        <p:spPr>
          <a:xfrm>
            <a:off x="6372360" y="5589720"/>
            <a:ext cx="259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читель географии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олецкая С.В. МКОУ Унерская СОШ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Rectangle 2"/>
          <p:cNvSpPr/>
          <p:nvPr/>
        </p:nvSpPr>
        <p:spPr>
          <a:xfrm>
            <a:off x="685800" y="404640"/>
            <a:ext cx="77724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7d80"/>
                </a:solidFill>
                <a:latin typeface="Arial"/>
              </a:rPr>
              <a:t>Движение земной коры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4" descr="землятресение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4" descr="землятресение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4" descr="землятресение1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5" descr="землятресение1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7d80"/>
                </a:solidFill>
                <a:latin typeface="Arial"/>
              </a:rPr>
              <a:t>Виды залегания горных пород.</a:t>
            </a:r>
            <a:endParaRPr b="0" lang="en-US" sz="3600" spc="-1" strike="noStrike">
              <a:solidFill>
                <a:srgbClr val="007d80"/>
              </a:solidFill>
              <a:latin typeface="Arial"/>
            </a:endParaRPr>
          </a:p>
        </p:txBody>
      </p:sp>
      <p:pic>
        <p:nvPicPr>
          <p:cNvPr id="235" name="Picture 5" descr="движение пород по разломам в земной коре"/>
          <p:cNvPicPr/>
          <p:nvPr/>
        </p:nvPicPr>
        <p:blipFill>
          <a:blip r:embed="rId1"/>
          <a:stretch/>
        </p:blipFill>
        <p:spPr>
          <a:xfrm>
            <a:off x="971640" y="981000"/>
            <a:ext cx="7056360" cy="58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0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7d80"/>
                </a:solidFill>
                <a:latin typeface="Arial"/>
              </a:rPr>
              <a:t>Складчато – глыбовое строение.</a:t>
            </a:r>
            <a:endParaRPr b="0" lang="en-US" sz="3600" spc="-1" strike="noStrike">
              <a:solidFill>
                <a:srgbClr val="007d80"/>
              </a:solidFill>
              <a:latin typeface="Arial"/>
            </a:endParaRPr>
          </a:p>
        </p:txBody>
      </p:sp>
      <p:pic>
        <p:nvPicPr>
          <p:cNvPr id="237" name="Picture 4" descr="движение земной коры"/>
          <p:cNvPicPr/>
          <p:nvPr/>
        </p:nvPicPr>
        <p:blipFill>
          <a:blip r:embed="rId1"/>
          <a:stretch/>
        </p:blipFill>
        <p:spPr>
          <a:xfrm>
            <a:off x="468360" y="1125360"/>
            <a:ext cx="6335640" cy="5472360"/>
          </a:xfrm>
          <a:prstGeom prst="rect">
            <a:avLst/>
          </a:prstGeom>
          <a:ln w="0">
            <a:noFill/>
          </a:ln>
        </p:spPr>
      </p:pic>
      <p:sp>
        <p:nvSpPr>
          <p:cNvPr id="238" name="Text Box 5"/>
          <p:cNvSpPr/>
          <p:nvPr/>
        </p:nvSpPr>
        <p:spPr>
          <a:xfrm>
            <a:off x="6948360" y="1700280"/>
            <a:ext cx="20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d80"/>
                </a:solidFill>
                <a:latin typeface="Arial"/>
              </a:rPr>
              <a:t>Складчатое строе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Text Box 6"/>
          <p:cNvSpPr/>
          <p:nvPr/>
        </p:nvSpPr>
        <p:spPr>
          <a:xfrm>
            <a:off x="7000920" y="2008080"/>
            <a:ext cx="1747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 Box 7"/>
          <p:cNvSpPr/>
          <p:nvPr/>
        </p:nvSpPr>
        <p:spPr>
          <a:xfrm>
            <a:off x="7128000" y="3789360"/>
            <a:ext cx="201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Text Box 9"/>
          <p:cNvSpPr/>
          <p:nvPr/>
        </p:nvSpPr>
        <p:spPr>
          <a:xfrm>
            <a:off x="6877080" y="3500280"/>
            <a:ext cx="194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Text Box 10"/>
          <p:cNvSpPr/>
          <p:nvPr/>
        </p:nvSpPr>
        <p:spPr>
          <a:xfrm>
            <a:off x="6948360" y="3716280"/>
            <a:ext cx="21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d80"/>
                </a:solidFill>
                <a:latin typeface="Arial"/>
              </a:rPr>
              <a:t>глыбов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Text Box 11"/>
          <p:cNvSpPr/>
          <p:nvPr/>
        </p:nvSpPr>
        <p:spPr>
          <a:xfrm>
            <a:off x="6948360" y="5608800"/>
            <a:ext cx="2195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Text Box 13"/>
          <p:cNvSpPr/>
          <p:nvPr/>
        </p:nvSpPr>
        <p:spPr>
          <a:xfrm>
            <a:off x="6877080" y="5465880"/>
            <a:ext cx="2266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Text Box 14"/>
          <p:cNvSpPr/>
          <p:nvPr/>
        </p:nvSpPr>
        <p:spPr>
          <a:xfrm>
            <a:off x="7093080" y="5321160"/>
            <a:ext cx="180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d80"/>
                </a:solidFill>
                <a:latin typeface="Arial"/>
              </a:rPr>
              <a:t>Складчато – глыбовы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d80"/>
                </a:solidFill>
                <a:latin typeface="Arial"/>
              </a:rPr>
              <a:t>Закрепление изученного материала</a:t>
            </a:r>
            <a:endParaRPr b="0" lang="en-US" sz="28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.Нарисуйте и объясните, что такое землетрясение, очаг, эпицентр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. Где происходят землетрясения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3. Как предсказать землетрясение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4. Как называют прибор , который записывает  колебания земной коры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5.Как оценивается сила землетрясений в баллах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1476360" y="1628280"/>
            <a:ext cx="64008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7d80"/>
                </a:solidFill>
                <a:latin typeface="Arial"/>
              </a:rPr>
              <a:t>1.Землетрясени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7d80"/>
                </a:solidFill>
                <a:latin typeface="Arial"/>
              </a:rPr>
              <a:t>2.Медленные вертикальные движения земной кор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7d80"/>
                </a:solidFill>
                <a:latin typeface="Arial"/>
              </a:rPr>
              <a:t>3.Виды залегания горных пород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400" spc="-1" strike="noStrike">
              <a:solidFill>
                <a:srgbClr val="007d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57120" y="2142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7d80"/>
                </a:solidFill>
                <a:latin typeface="Arial"/>
              </a:rPr>
              <a:t>Землетрясения</a:t>
            </a: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50920" y="1484280"/>
            <a:ext cx="8642160" cy="457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dd9d1"/>
                </a:solidFill>
                <a:latin typeface="Arial"/>
              </a:rPr>
              <a:t>Землетрясение – это грозное природное явление представляет собой  подземные толчки и колебания  земной поверхности, к которым приводит резкий разрыв  и смещение горных пород  на глубин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d80"/>
                </a:solidFill>
                <a:latin typeface="Arial"/>
              </a:rPr>
              <a:t>Очаг землетрясения – это место, где происходит разрыв и смещение горных пород.</a:t>
            </a:r>
            <a:endParaRPr b="0" lang="en-US" sz="2800" spc="-1" strike="noStrike">
              <a:solidFill>
                <a:srgbClr val="007d80"/>
              </a:solidFill>
              <a:latin typeface="Arial"/>
            </a:endParaRPr>
          </a:p>
        </p:txBody>
      </p:sp>
      <p:pic>
        <p:nvPicPr>
          <p:cNvPr id="218" name="Picture 4" descr="современные движения земной коры"/>
          <p:cNvPicPr/>
          <p:nvPr/>
        </p:nvPicPr>
        <p:blipFill>
          <a:blip r:embed="rId1"/>
          <a:stretch/>
        </p:blipFill>
        <p:spPr>
          <a:xfrm>
            <a:off x="971640" y="1386000"/>
            <a:ext cx="6840360" cy="547200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4" descr="современные движения земной коры"/>
          <p:cNvPicPr/>
          <p:nvPr/>
        </p:nvPicPr>
        <p:blipFill>
          <a:blip r:embed="rId2"/>
          <a:stretch/>
        </p:blipFill>
        <p:spPr>
          <a:xfrm>
            <a:off x="1000080" y="1386000"/>
            <a:ext cx="6840720" cy="54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5" descr=""/>
          <p:cNvPicPr/>
          <p:nvPr/>
        </p:nvPicPr>
        <p:blipFill>
          <a:blip r:embed="rId1"/>
          <a:stretch/>
        </p:blipFill>
        <p:spPr>
          <a:xfrm>
            <a:off x="539640" y="907920"/>
            <a:ext cx="8136000" cy="5761080"/>
          </a:xfrm>
          <a:prstGeom prst="rect">
            <a:avLst/>
          </a:prstGeom>
          <a:ln w="0">
            <a:noFill/>
          </a:ln>
        </p:spPr>
      </p:pic>
      <p:sp>
        <p:nvSpPr>
          <p:cNvPr id="221" name="Text Box 6"/>
          <p:cNvSpPr/>
          <p:nvPr/>
        </p:nvSpPr>
        <p:spPr>
          <a:xfrm>
            <a:off x="755640" y="333360"/>
            <a:ext cx="748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Text Box 7"/>
          <p:cNvSpPr/>
          <p:nvPr/>
        </p:nvSpPr>
        <p:spPr>
          <a:xfrm>
            <a:off x="971640" y="189000"/>
            <a:ext cx="748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d80"/>
                </a:solidFill>
                <a:latin typeface="Arial"/>
              </a:rPr>
              <a:t>Землетрясение -8 баллов (разрушительные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5" descr="землятресение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4" descr="землятресение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4" descr="землятресение6"/>
          <p:cNvPicPr/>
          <p:nvPr/>
        </p:nvPicPr>
        <p:blipFill>
          <a:blip r:embed="rId1"/>
          <a:stretch/>
        </p:blipFill>
        <p:spPr>
          <a:xfrm>
            <a:off x="0" y="1052640"/>
            <a:ext cx="9144000" cy="5805360"/>
          </a:xfrm>
          <a:prstGeom prst="rect">
            <a:avLst/>
          </a:prstGeom>
          <a:ln w="0">
            <a:noFill/>
          </a:ln>
        </p:spPr>
      </p:pic>
      <p:sp>
        <p:nvSpPr>
          <p:cNvPr id="226" name="Text Box 5"/>
          <p:cNvSpPr/>
          <p:nvPr/>
        </p:nvSpPr>
        <p:spPr>
          <a:xfrm>
            <a:off x="1187280" y="352440"/>
            <a:ext cx="720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d80"/>
                </a:solidFill>
                <a:latin typeface="Arial"/>
              </a:rPr>
              <a:t>Землетрясения – 9 баллов (опустошительные</a:t>
            </a:r>
            <a:r>
              <a:rPr b="0" lang="ru-RU" sz="3600" spc="-1" strike="noStrike">
                <a:solidFill>
                  <a:srgbClr val="007d80"/>
                </a:solidFill>
                <a:latin typeface="Arial"/>
              </a:rPr>
              <a:t>)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1258920" y="476280"/>
            <a:ext cx="691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0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d80"/>
                </a:solidFill>
                <a:latin typeface="Arial"/>
              </a:rPr>
              <a:t>Землетрясения в 10 -12 балов (катастрофические).</a:t>
            </a:r>
            <a:endParaRPr b="0" lang="en-US" sz="2400" spc="-1" strike="noStrike">
              <a:solidFill>
                <a:srgbClr val="007d80"/>
              </a:solidFill>
              <a:latin typeface="Arial"/>
            </a:endParaRPr>
          </a:p>
        </p:txBody>
      </p:sp>
      <p:pic>
        <p:nvPicPr>
          <p:cNvPr id="229" name="Picture 4" descr="землятресение3"/>
          <p:cNvPicPr/>
          <p:nvPr/>
        </p:nvPicPr>
        <p:blipFill>
          <a:blip r:embed="rId1"/>
          <a:stretch/>
        </p:blipFill>
        <p:spPr>
          <a:xfrm>
            <a:off x="1042920" y="1125360"/>
            <a:ext cx="6913800" cy="532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7T12:54:40Z</dcterms:created>
  <dc:creator>**</dc:creator>
  <dc:description/>
  <dc:language>en-US</dc:language>
  <cp:lastModifiedBy>user</cp:lastModifiedBy>
  <dcterms:modified xsi:type="dcterms:W3CDTF">2013-09-17T09:40:55Z</dcterms:modified>
  <cp:revision>7</cp:revision>
  <dc:subject/>
  <dc:title>Движение земной коры</dc:title>
</cp:coreProperties>
</file>