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9FCC-32CC-401D-828E-512D04545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3230-DD8A-4969-AE5E-4F0037B9D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B1C2-C330-42D1-A707-D9AC14F4E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439E-AEAD-455B-9665-84200E91C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61E6B-3773-4693-BD5C-6CED02D9B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F9329-B4C2-414F-8378-7C258AE14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F321C-872C-4466-AB7D-360AFA11F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EFCDA-E3AB-4F17-B2F4-981E70D61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CBE6F-44A4-45FA-8070-678B2D7E9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CB9E3-ED4E-4B82-8A6A-C1055A1F5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C1305-BA6C-4F08-83E0-2086E4FA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9C1D-68F2-4AB8-8AA2-18407F399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3A5B6-34A0-4D32-BC09-2F34F642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BB413-4A13-495D-B44D-B60CCE653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5CB77-96EA-4F38-ABCC-C2F9BA629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CDAAE-3DD6-4F1B-901D-D81436AA6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335A0-3B88-482C-BF2F-C76046370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2FA3-C911-4031-A24C-31187A3AC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3A94-6D47-41BA-BA44-9856B9955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CD86-57BD-4E5E-A0FF-4CE3C9A87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3878-7103-4E84-B9C8-2F8EEED8F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81A7-A5BD-4397-8A19-5DA73C53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C661-D085-485C-973F-CBBB9ABA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9BED-1ECC-4438-97F4-F4340FEA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11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2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4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430FD-F5F5-47F4-864E-E549F3E41A7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0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6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2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1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3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4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10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15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2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CA347-FECB-45FE-84CC-55645C24C23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3" descr="Описание: image1"/>
          <p:cNvPicPr/>
          <p:nvPr/>
        </p:nvPicPr>
        <p:blipFill>
          <a:blip r:embed="rId1"/>
          <a:stretch/>
        </p:blipFill>
        <p:spPr>
          <a:xfrm>
            <a:off x="0" y="0"/>
            <a:ext cx="941400" cy="1197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ГОУ СПО «Петровск- Забайкальское медицинское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                             училище (техникум)»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br>
              <a:rPr sz="40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Особенности социальной работы за рубежом, её отличие от российской социальной работы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 Паучак А.В.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студентка специальности 040401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« социальная работа», 103 групп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очного обучения, базовой подготовки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: Лоншакова О.Н.  </a:t>
            </a:r>
            <a:br>
              <a:rPr sz="1800"/>
            </a:br>
            <a:br>
              <a:rPr sz="18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етровск-Забайкальский 2013г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Социальная работа за рубежом, её отличие </a:t>
            </a:r>
            <a:br>
              <a:rPr sz="2800"/>
            </a:b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         от Российской социальной работы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рубежный опыт социальной работы многообразен и многолик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 России идёт возрождение социальной работы как профе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9" name="Picture 5" descr="f_14414745"/>
          <p:cNvPicPr/>
          <p:nvPr/>
        </p:nvPicPr>
        <p:blipFill>
          <a:blip r:embed="rId1"/>
          <a:stretch/>
        </p:blipFill>
        <p:spPr>
          <a:xfrm>
            <a:off x="2556000" y="549360"/>
            <a:ext cx="3547800" cy="43923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617840" y="5324400"/>
            <a:ext cx="65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СПАСИБО ЗА ВНИМАНИЕ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85840" y="285480"/>
            <a:ext cx="8858160" cy="63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 u="sng">
                <a:solidFill>
                  <a:srgbClr val="990033"/>
                </a:solidFill>
                <a:uFillTx/>
                <a:latin typeface="Times New Roman"/>
              </a:rPr>
              <a:t>Цель курсово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зучить особенность социальной работы за рубежом, её отличие от Российской социальной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 u="sng">
                <a:solidFill>
                  <a:srgbClr val="990033"/>
                </a:solidFill>
                <a:uFillTx/>
                <a:latin typeface="Times New Roman"/>
              </a:rPr>
              <a:t>Объект курсово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оциальная работа за рубежом</a:t>
            </a:r>
            <a:br>
              <a:rPr sz="2400"/>
            </a:br>
            <a:br>
              <a:rPr sz="2400"/>
            </a:br>
            <a:r>
              <a:rPr b="1" lang="en-US" sz="2800" spc="-1" strike="noStrike" u="sng">
                <a:solidFill>
                  <a:srgbClr val="990033"/>
                </a:solidFill>
                <a:uFillTx/>
                <a:latin typeface="Times New Roman"/>
              </a:rPr>
              <a:t>Предмет курсовой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оциальная работа за рубежом, её отличие от Российской социальной работы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357120" y="285840"/>
            <a:ext cx="87868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33"/>
                </a:solidFill>
                <a:uFillTx/>
                <a:latin typeface="Times New Roman"/>
              </a:rPr>
              <a:t>Задачи исследов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Раскрыть социальную работу как феномен современного мира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Описать стратегические линии социальной работы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 Дать характеристику социальной работы как професси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Закономерные изменения культурных феноменов, из которых более значимы: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ереход от общинной формы социальной    жизни к более индивидуализирован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ереход от авторитарного, харизматического лидерства к высокопрофессиональному менеджменту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ереход от обычного права как регулятора общинных отношений к юридическом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Стратегические линии социальной </a:t>
            </a:r>
            <a:br>
              <a:rPr sz="3200"/>
            </a:b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                          работы 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асширение федеральных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обстоятельств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В США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еформирование программ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Кардинальная перестройка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социальной сферы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2556000" y="2276640"/>
            <a:ext cx="936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627280" y="3284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56000" y="3573360"/>
            <a:ext cx="79200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89000"/>
            <a:ext cx="77724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пособствовать экономическому</a:t>
            </a: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осту и прогресс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беспечить полную занятость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Высвободить средства для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еспособных к труд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В Германии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                   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граничить минимум личну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зависимост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облюдение групповы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интересо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132000" y="1628280"/>
            <a:ext cx="648000" cy="172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276720" y="2421000"/>
            <a:ext cx="86364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419640" y="3357720"/>
            <a:ext cx="79200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19640" y="3933720"/>
            <a:ext cx="647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4149720"/>
            <a:ext cx="79056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88640"/>
            <a:ext cx="777240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вропейское сообщест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ЕС)</a:t>
            </a: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Европейское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вет Европы (СЕ)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социальное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пространство         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рганизация по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безопасности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и сотрудничеству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в Европ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ОБС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708360" y="1557360"/>
            <a:ext cx="11509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635280" y="2349360"/>
            <a:ext cx="1152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35280" y="299736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Модели социальной работы в зарубежных</a:t>
            </a:r>
            <a:br>
              <a:rPr sz="2800"/>
            </a:b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                                  странах: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СШ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личительной чертой системы социальной защиты в США является </a:t>
            </a:r>
            <a:r>
              <a:rPr b="0" lang="en-US" sz="2400" spc="-1" strike="noStrike" u="sng">
                <a:solidFill>
                  <a:srgbClr val="990033"/>
                </a:solidFill>
                <a:uFillTx/>
                <a:latin typeface="Times New Roman"/>
              </a:rPr>
              <a:t>децентра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Герман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был основан Германский </a:t>
            </a:r>
            <a:r>
              <a:rPr b="0" lang="en-US" sz="2400" spc="-1" strike="noStrike" u="sng">
                <a:solidFill>
                  <a:srgbClr val="990033"/>
                </a:solidFill>
                <a:uFillTx/>
                <a:latin typeface="Times New Roman"/>
              </a:rPr>
              <a:t>благотворительный союз заботы о бед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Норвег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наиболее важным достижением является </a:t>
            </a:r>
            <a:r>
              <a:rPr b="0" lang="en-US" sz="2400" spc="-1" strike="noStrike" u="sng">
                <a:solidFill>
                  <a:srgbClr val="990033"/>
                </a:solidFill>
                <a:uFillTx/>
                <a:latin typeface="Times New Roman"/>
              </a:rPr>
              <a:t>Акт национального страхования</a:t>
            </a:r>
            <a:br>
              <a:rPr sz="2400"/>
            </a:br>
            <a:br>
              <a:rPr sz="2400"/>
            </a:b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Исланд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четыре основных элемента социального обеспечения </a:t>
            </a:r>
            <a:r>
              <a:rPr b="0" lang="en-US" sz="2400" spc="-1" strike="noStrike" u="sng">
                <a:solidFill>
                  <a:srgbClr val="990033"/>
                </a:solidFill>
                <a:uFillTx/>
                <a:latin typeface="Times New Roman"/>
              </a:rPr>
              <a:t>образование, социальная защита, обеспечение жильем, здравоохра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Социальная работа как профессия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сновными характеристиками социальной работы как профессии являются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 Познавательная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- Нормативная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- Монополистическа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12:27:25Z</dcterms:created>
  <dc:creator>User</dc:creator>
  <dc:description/>
  <dc:language>en-US</dc:language>
  <cp:lastModifiedBy>User</cp:lastModifiedBy>
  <dcterms:modified xsi:type="dcterms:W3CDTF">2013-04-14T18:04:21Z</dcterms:modified>
  <cp:revision>10</cp:revision>
  <dc:subject/>
  <dc:title>ГОУ СПО «Петровск-Забайкальское медицинское                              училище (техникум)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