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D09-B969-4A98-9C35-D6DF402B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CFD-E7D9-4156-916B-82591E9F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1C0-BE35-496F-9985-4B7E1EEE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B07-D7F5-4845-9B4F-17CBC334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E8F-CC43-444D-B557-A3BAA48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703-8D7B-449A-8428-AC9016C7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708-EB34-492A-9C83-38A8B62F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AD2-35ED-46B7-958C-68B7631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4CF-7491-4FAF-ABFA-9BB43A41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712-513F-4734-A0B4-75C4F68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046-5382-49E9-8516-A6B4255F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697-FDB9-4248-B16E-A81FCDE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69696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1A41-AE8D-46A3-9F7E-9FA157475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mayevhill.volgadmin.ru/09.htm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Рисунок2"/>
          <p:cNvPicPr/>
          <p:nvPr/>
        </p:nvPicPr>
        <p:blipFill>
          <a:blip r:embed="rId1"/>
          <a:stretch/>
        </p:blipFill>
        <p:spPr>
          <a:xfrm>
            <a:off x="0" y="2071800"/>
            <a:ext cx="9115560" cy="47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</p:pic>
      <p:pic>
        <p:nvPicPr>
          <p:cNvPr id="42" name="Прямоугольник 9" descr=""/>
          <p:cNvPicPr/>
          <p:nvPr/>
        </p:nvPicPr>
        <p:blipFill>
          <a:blip r:embed="rId2"/>
          <a:stretch/>
        </p:blipFill>
        <p:spPr>
          <a:xfrm>
            <a:off x="-6480" y="-122400"/>
            <a:ext cx="8942400" cy="188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Казанцев Степан Фёдорович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1916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Image2"/>
          <p:cNvPicPr/>
          <p:nvPr/>
        </p:nvPicPr>
        <p:blipFill>
          <a:blip r:embed="rId1"/>
          <a:stretch/>
        </p:blipFill>
        <p:spPr>
          <a:xfrm>
            <a:off x="152280" y="1447920"/>
            <a:ext cx="33228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00040" y="159984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изван 23 июня 1941 года. Участвовал в боях под Сталинградом, на Курской дуге. В составе третьей танковой бригады первого Украинского фронта встретил Победу в Бер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прохоровка"/>
          <p:cNvPicPr/>
          <p:nvPr/>
        </p:nvPicPr>
        <p:blipFill>
          <a:blip r:embed="rId2"/>
          <a:stretch/>
        </p:blipFill>
        <p:spPr>
          <a:xfrm>
            <a:off x="4191120" y="3809880"/>
            <a:ext cx="495288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0"/>
          <p:cNvSpPr/>
          <p:nvPr/>
        </p:nvSpPr>
        <p:spPr>
          <a:xfrm>
            <a:off x="0" y="594360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Фото 1945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533520" y="5791320"/>
            <a:ext cx="2666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Рисунок1"/>
          <p:cNvPicPr/>
          <p:nvPr/>
        </p:nvPicPr>
        <p:blipFill>
          <a:blip r:embed="rId1"/>
          <a:stretch/>
        </p:blipFill>
        <p:spPr>
          <a:xfrm>
            <a:off x="228600" y="1143000"/>
            <a:ext cx="342432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Казанцев Никита Фёдорович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1911-1943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33920" y="13716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иректор Мустаевской  школы был призван на войну 18 марта 1942 года. В июле-августе 1943 года пал смертью храбрых в боях на Курско-Орловском направлении. Похоронен в братской мог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-228600" y="6141960"/>
            <a:ext cx="4114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Фото 1939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солдат 2"/>
          <p:cNvPicPr/>
          <p:nvPr/>
        </p:nvPicPr>
        <p:blipFill>
          <a:blip r:embed="rId2"/>
          <a:stretch/>
        </p:blipFill>
        <p:spPr>
          <a:xfrm>
            <a:off x="4191120" y="3848040"/>
            <a:ext cx="495288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ученики7"/>
          <p:cNvPicPr/>
          <p:nvPr/>
        </p:nvPicPr>
        <p:blipFill>
          <a:blip r:embed="rId1"/>
          <a:stretch/>
        </p:blipFill>
        <p:spPr>
          <a:xfrm>
            <a:off x="6934320" y="1447920"/>
            <a:ext cx="186984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ворческие   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ученики4"/>
          <p:cNvPicPr/>
          <p:nvPr/>
        </p:nvPicPr>
        <p:blipFill>
          <a:blip r:embed="rId2"/>
          <a:stretch/>
        </p:blipFill>
        <p:spPr>
          <a:xfrm>
            <a:off x="457200" y="1523880"/>
            <a:ext cx="18669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90108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ихайлова          Макарова           Казанцев           Медвед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атя                   Алёна                 Денис                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ученики5"/>
          <p:cNvPicPr/>
          <p:nvPr/>
        </p:nvPicPr>
        <p:blipFill>
          <a:blip r:embed="rId3"/>
          <a:stretch/>
        </p:blipFill>
        <p:spPr>
          <a:xfrm>
            <a:off x="2666880" y="1219320"/>
            <a:ext cx="1825920" cy="244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ученики6"/>
          <p:cNvPicPr/>
          <p:nvPr/>
        </p:nvPicPr>
        <p:blipFill>
          <a:blip r:embed="rId4"/>
          <a:stretch/>
        </p:blipFill>
        <p:spPr>
          <a:xfrm>
            <a:off x="4800600" y="1219320"/>
            <a:ext cx="1816200" cy="252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7 029"/>
          <p:cNvPicPr/>
          <p:nvPr/>
        </p:nvPicPr>
        <p:blipFill>
          <a:blip r:embed="rId5"/>
          <a:stretch/>
        </p:blipFill>
        <p:spPr>
          <a:xfrm>
            <a:off x="2743200" y="3352680"/>
            <a:ext cx="1633680" cy="2130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7 030"/>
          <p:cNvPicPr/>
          <p:nvPr/>
        </p:nvPicPr>
        <p:blipFill>
          <a:blip r:embed="rId6"/>
          <a:stretch/>
        </p:blipFill>
        <p:spPr>
          <a:xfrm>
            <a:off x="533520" y="3352680"/>
            <a:ext cx="1693800" cy="216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MG_0403"/>
          <p:cNvPicPr/>
          <p:nvPr/>
        </p:nvPicPr>
        <p:blipFill>
          <a:blip r:embed="rId7"/>
          <a:stretch/>
        </p:blipFill>
        <p:spPr>
          <a:xfrm>
            <a:off x="7010280" y="3352680"/>
            <a:ext cx="1751040" cy="221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IMG_3950"/>
          <p:cNvPicPr/>
          <p:nvPr/>
        </p:nvPicPr>
        <p:blipFill>
          <a:blip r:embed="rId8"/>
          <a:stretch/>
        </p:blipFill>
        <p:spPr>
          <a:xfrm>
            <a:off x="4876920" y="3352680"/>
            <a:ext cx="1698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11"/>
          <p:cNvSpPr txBox="1"/>
          <p:nvPr/>
        </p:nvSpPr>
        <p:spPr>
          <a:xfrm>
            <a:off x="1143000" y="3657600"/>
            <a:ext cx="73677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раничка истории моего прадеда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380880" y="228600"/>
            <a:ext cx="8382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мы войну забудем, снова к нам придёт она</a:t>
            </a:r>
            <a:endParaRPr b="1" lang="en-US" sz="32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15"/>
          <p:cNvSpPr txBox="1"/>
          <p:nvPr/>
        </p:nvSpPr>
        <p:spPr>
          <a:xfrm>
            <a:off x="5410080" y="5638680"/>
            <a:ext cx="34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выполнена </a:t>
            </a:r>
            <a:endParaRPr b="1" lang="en-US" sz="16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хайловой Екатериной</a:t>
            </a:r>
            <a:endParaRPr b="1" lang="en-US" sz="16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orest_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-152280" y="1143000"/>
            <a:ext cx="914400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моданова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вдия Петровна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952880" y="4724280"/>
            <a:ext cx="3934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к говорится, жизнь – ре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Я сердце в молодость тяну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 за упорство бурла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ека дарует седин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лентин Колум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62120" y="3200400"/>
            <a:ext cx="6753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бота выполнена Макаровой Алён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Никонов Иван Никонович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1925-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солдат 1"/>
          <p:cNvPicPr/>
          <p:nvPr/>
        </p:nvPicPr>
        <p:blipFill>
          <a:blip r:embed="rId1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Image5"/>
          <p:cNvPicPr/>
          <p:nvPr/>
        </p:nvPicPr>
        <p:blipFill>
          <a:blip r:embed="rId2"/>
          <a:stretch/>
        </p:blipFill>
        <p:spPr>
          <a:xfrm>
            <a:off x="228600" y="1523880"/>
            <a:ext cx="335268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-609480" y="609588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Фото 1998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733920" y="190512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изван в августе 1942 года. Участвовал в обороне Ленинграда. Освобождал Выборг, Лугу, Нарву, Варшаву, Кёнигсберг. Великую победу встретил в 40 км. от Берли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ворческие   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ученики2"/>
          <p:cNvPicPr/>
          <p:nvPr/>
        </p:nvPicPr>
        <p:blipFill>
          <a:blip r:embed="rId1"/>
          <a:stretch/>
        </p:blipFill>
        <p:spPr>
          <a:xfrm>
            <a:off x="1547640" y="1557360"/>
            <a:ext cx="2178360" cy="30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ученики3"/>
          <p:cNvPicPr/>
          <p:nvPr/>
        </p:nvPicPr>
        <p:blipFill>
          <a:blip r:embed="rId2"/>
          <a:stretch/>
        </p:blipFill>
        <p:spPr>
          <a:xfrm>
            <a:off x="6443640" y="1557360"/>
            <a:ext cx="212724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000840"/>
            <a:ext cx="95407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устаев Максим                      Казанцева Снеж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7 027"/>
          <p:cNvPicPr/>
          <p:nvPr/>
        </p:nvPicPr>
        <p:blipFill>
          <a:blip r:embed="rId3"/>
          <a:stretch/>
        </p:blipFill>
        <p:spPr>
          <a:xfrm>
            <a:off x="4648320" y="3429000"/>
            <a:ext cx="2355840" cy="26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пр"/>
          <p:cNvPicPr/>
          <p:nvPr/>
        </p:nvPicPr>
        <p:blipFill>
          <a:blip r:embed="rId4"/>
          <a:stretch/>
        </p:blipFill>
        <p:spPr>
          <a:xfrm>
            <a:off x="457200" y="3505320"/>
            <a:ext cx="2247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окопы (женщины)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2590920" y="0"/>
            <a:ext cx="65530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Не той, что из сказок, не той, что 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пеленок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Не той, что была по учебникам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пройдена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А той, что рыдала,- запомнил я Родин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И вижу ее, накануне победы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Не каменной, бронзовой, славо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увенчанной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А очи проплакавшей, идя сквозь беды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Все снесшей, все вынесшей русско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женщино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К.Симон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pull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IMG_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5486040"/>
            <a:ext cx="792468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ремя не щадит никого и они всё чаще уходят от нас, их осталось очень ма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48320" y="274680"/>
            <a:ext cx="403848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се проходит. Остается Родина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То, что не изменит никогд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 ней живут, любя, страдая, радуяс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адая и поднимаясь ввысь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И еще немало будет пройде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оль зовут в грядущее пут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о светлей и чище чувства Род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Людям никогда не обр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Главный монумен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Никитина Юлия Михайл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5680" y="9907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одилась 21 апреля 1963 года в Башкирской А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 1985 году законч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арийский государ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ниверситет,  историко-филологический факультет по специальности 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валификация: историк. Преподаватель истории и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атегория: высш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едагогический стаж: 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PICT0075"/>
          <p:cNvPicPr/>
          <p:nvPr/>
        </p:nvPicPr>
        <p:blipFill>
          <a:blip r:embed="rId1"/>
          <a:stretch/>
        </p:blipFill>
        <p:spPr>
          <a:xfrm>
            <a:off x="304920" y="1219320"/>
            <a:ext cx="380988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Вишня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24" name="WordArt 7"/>
          <p:cNvSpPr txBox="1"/>
          <p:nvPr/>
        </p:nvSpPr>
        <p:spPr>
          <a:xfrm>
            <a:off x="990720" y="4038480"/>
            <a:ext cx="7696080" cy="23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600" spc="1" strike="noStrike">
              <a:ln w="9360">
                <a:solidFill>
                  <a:srgbClr val="99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И помнит мир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                         спасённый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3428640"/>
            <a:ext cx="8839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з опыта работы учителя истории и обществознания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У «Мустаевская средняя (полная) общеобразовательная школа имени Шабдара Осыпа» Сернурского района РМЭ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Никитиной Юлии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9-mai"/>
          <p:cNvPicPr/>
          <p:nvPr/>
        </p:nvPicPr>
        <p:blipFill>
          <a:blip r:embed="rId1"/>
          <a:stretch/>
        </p:blipFill>
        <p:spPr>
          <a:xfrm>
            <a:off x="7632720" y="152280"/>
            <a:ext cx="151128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ема методической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спитание национального самосознания путём использования краеведческого материала на уроках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оспитание патриота-гражданина России, повышение интереса обучающихся к изучению истории своей малой и большой Род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- обучение способам самостоятельной поисково-исследовательской деятельности;  развитие индивидуальных творческих способностей обучающихся на основе личностно-ориентированных технологий,                                                  - формирование навыков и умений использования ИКТ;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-  воспитание творческой самостоятельной личности, патриота с активной гражданской жизненной поз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Im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733760" y="-3960"/>
            <a:ext cx="714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Казалось, было холодно цветам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И от росы они слегка поблекли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Зарю, что шла по травам и кустам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Обшарили немецкие бинокли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Цветок, в росинках весь, к цветку приник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И пограничник протянул к ним руки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А немцы, кончив кофе пить, в тот миг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Влезали в танки, закрывали люки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56365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емецкие танки переходят границы Советского Союз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герои (самолеты)"/>
          <p:cNvPicPr/>
          <p:nvPr/>
        </p:nvPicPr>
        <p:blipFill>
          <a:blip r:embed="rId1"/>
          <a:stretch/>
        </p:blipFill>
        <p:spPr>
          <a:xfrm>
            <a:off x="4572000" y="3746520"/>
            <a:ext cx="4572000" cy="311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огненная дуга"/>
          <p:cNvPicPr/>
          <p:nvPr/>
        </p:nvPicPr>
        <p:blipFill>
          <a:blip r:embed="rId2"/>
          <a:stretch/>
        </p:blipFill>
        <p:spPr>
          <a:xfrm>
            <a:off x="0" y="3755880"/>
            <a:ext cx="4648320" cy="310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%D0%94%D0%B8%D0%BA%D1%82%D0%BE%D1%80_%D0%9B%D0%B5%D0%B2%D0%B8%D1%82%D0%B0%D0%BD_01"/>
          <p:cNvPicPr/>
          <p:nvPr/>
        </p:nvPicPr>
        <p:blipFill>
          <a:blip r:embed="rId3"/>
          <a:stretch/>
        </p:blipFill>
        <p:spPr>
          <a:xfrm>
            <a:off x="152280" y="15228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1640" y="304560"/>
            <a:ext cx="434340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иктор Центральной радиостанции Левитан зачитывает сообщение Совинформбюро о начале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6868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выше 130 тысяч человек ушло из Марийской АССР на фронт, а это почти каждый четвёртый житель республики. Больше половины из них не вернулись с войны. Из Сернурского района было призвано на войну 9151 человек, погибли 5079 человек.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Из Мустаевской стороны ушли на фронт 322 человека, значительное большинство - 259 из них не вернулись с полей сражений. Из деревни Мустаево были призваны 50 человек,  28 человек не вернулись с вой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755640" y="1628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амаев Василий Михайл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мамаев 334"/>
          <p:cNvPicPr/>
          <p:nvPr/>
        </p:nvPicPr>
        <p:blipFill>
          <a:blip r:embed="rId1"/>
          <a:stretch/>
        </p:blipFill>
        <p:spPr>
          <a:xfrm>
            <a:off x="533520" y="990720"/>
            <a:ext cx="3352680" cy="4267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4572000" y="58672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Image10"/>
          <p:cNvPicPr/>
          <p:nvPr/>
        </p:nvPicPr>
        <p:blipFill>
          <a:blip r:embed="rId2"/>
          <a:stretch/>
        </p:blipFill>
        <p:spPr>
          <a:xfrm>
            <a:off x="5181480" y="990720"/>
            <a:ext cx="3289320" cy="4267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228600" y="533412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одился 28 декабря  1891   деревне Мустаево  Сернурской волости  Уржумского    уезда     Вятской  губернии. Фото 1939 год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4419720" y="5334120"/>
            <a:ext cx="487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Участник войны с октября 1941 по декабрь 1944. Защитник  Ленинграда.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Умер в 1968 году.  Фото 1967 год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льга Николаевна Кузьминых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1922-19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ученики4"/>
          <p:cNvPicPr/>
          <p:nvPr/>
        </p:nvPicPr>
        <p:blipFill>
          <a:blip r:embed="rId1"/>
          <a:stretch/>
        </p:blipFill>
        <p:spPr>
          <a:xfrm>
            <a:off x="152280" y="1447920"/>
            <a:ext cx="351324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ученики10"/>
          <p:cNvPicPr/>
          <p:nvPr/>
        </p:nvPicPr>
        <p:blipFill>
          <a:blip r:embed="rId2"/>
          <a:stretch/>
        </p:blipFill>
        <p:spPr>
          <a:xfrm>
            <a:off x="3962520" y="3740040"/>
            <a:ext cx="5181480" cy="3117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7"/>
          <p:cNvSpPr/>
          <p:nvPr/>
        </p:nvSpPr>
        <p:spPr>
          <a:xfrm>
            <a:off x="4191120" y="1676520"/>
            <a:ext cx="4724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сю войну с ноября 1941 по июнь 1945 года прослужила в составе аэростатной части, защищавшей Москв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0" y="5638680"/>
            <a:ext cx="3657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Фото 1942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3-10-03T17:47:24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