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495-050E-4CBB-A377-6B966A3E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75D-75C3-4429-81DA-739E53F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BEB-46B2-4A69-902E-F67C1C17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0F9-3120-4988-AB37-58D08BBD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710-273A-449D-8B94-620CC9D7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B8B-F5FD-4A63-A520-62CBB68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D04-815A-45F1-A72D-6665E29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C3B-6F9C-44DD-A08C-287E258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A55-36FB-4F91-A080-6DCE079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019-468C-431A-B240-0065A7A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C94-4958-41F9-B45C-D2DCE65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E97-B7D7-45CF-B434-12F3171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3728-24E0-42C9-9E94-5D5779C2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учаем азбуку изобразительного искусств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исование с натуры коро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9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20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исовать коробку с н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приемы изображения объемных предметов простейших геометрических т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конструктивные особенности строения формы призмы; ознакомиться с простейшими  изображениями линейной перспекти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и сравнивать формы предметов окружающей 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5689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исовать коробку с н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приемы изображения объемных предметов простейших геометрических т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конструктивные особенности строения формы призмы; ознакомиться с простейшими  изображениями линейной перспекти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и сравнивать формы предметов окружающей 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651280" y="1600200"/>
            <a:ext cx="34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.А.Васил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еревенская у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.Кустодиев «Морозный д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спектив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ранцузское сло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сно вu:ж:у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ображение предме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оскости в соответств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ительным восприятием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ом, то есть изоб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а таким, как воспринимает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спектива бывает линейна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душ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нейная перспектив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Фронтальна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сположение предмета одной видимой стороной по отношению к зр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 Углова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сположение предмета под углом к зрителю, т. е. зритель видит две или три грани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здушная перспектив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слабление резкости и четкости очертаний и цвета предметов по мере их удаления: чем ближе предмет, тем он изображен четче и яр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9" descr=""/>
          <p:cNvPicPr/>
          <p:nvPr/>
        </p:nvPicPr>
        <p:blipFill>
          <a:blip r:embed="rId1"/>
          <a:stretch/>
        </p:blipFill>
        <p:spPr>
          <a:xfrm>
            <a:off x="-181080" y="907920"/>
            <a:ext cx="9866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12:56Z</dcterms:created>
  <dc:creator>Admin</dc:creator>
  <dc:description/>
  <dc:language>en-US</dc:language>
  <cp:lastModifiedBy>Admin</cp:lastModifiedBy>
  <dcterms:modified xsi:type="dcterms:W3CDTF">2013-10-18T18:39:23Z</dcterms:modified>
  <cp:revision>5</cp:revision>
  <dc:subject/>
  <dc:title>Изучаем азбуку изобразительного искусства. Рисование с натуры коробки.</dc:title>
</cp:coreProperties>
</file>