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87FB-2744-49AE-B546-61C9B2C65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41A5-AAEF-4E80-A2C2-6440DAFFC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577A9-6393-4B86-8DC8-999F55A4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117CB-195B-4307-8632-24AB713DE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A4E8C-521B-4A89-8866-6657F0A1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00D4A-822F-441D-9F0C-270014C9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DC5F9-3C82-4B87-93DB-8B8A23C3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09628-80DE-4ACE-B9C3-89CBC4419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12EB8-A59D-47B0-9C7B-47D31571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AFCE3-1E91-4DF1-BC7D-F35F4D29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959D3-DC9E-4DB6-84E6-514672CC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1C2DF-156D-40F1-AF9F-51FFF7AFB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09D-123A-4C5B-9D69-8B2F7FF6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D0D-8092-4258-AC30-9673944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68C-4E1C-42AE-A839-71315C7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A71-10A5-492C-97D1-C5009A07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D64-961C-4D33-BD51-986A929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C59-4901-4311-8C84-8A9BAE8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59C-41D2-42A6-83F5-D7B523C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CB2-F3DE-4055-8907-EF4AE96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67A-107B-4B1D-B508-73F770D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550-0A1D-4063-86D4-74502C5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E2C-D74E-4B6B-8708-C9A5083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C87-F4F9-462E-B3E2-59D4032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9492F-478A-4600-86AD-54221814F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360" y="-15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ookman Old Style"/>
              </a:rPr>
              <a:t>Кре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щ</a:t>
            </a:r>
            <a:r>
              <a:rPr b="0" lang="en-US" sz="4400" spc="-1" strike="noStrike">
                <a:solidFill>
                  <a:srgbClr val="008000"/>
                </a:solidFill>
                <a:latin typeface="Bookman Old Style"/>
              </a:rPr>
              <a:t>ение 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Р</a:t>
            </a:r>
            <a:r>
              <a:rPr b="0" lang="en-US" sz="4400" spc="-1" strike="noStrike">
                <a:solidFill>
                  <a:srgbClr val="008000"/>
                </a:solidFill>
                <a:latin typeface="Bookman Old Style"/>
              </a:rPr>
              <a:t>усси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.</a:t>
            </a:r>
            <a:r>
              <a:rPr b="0" lang="en-US" sz="44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Крещение других русских земель</a:t>
            </a: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989964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Известно, что первыми епископскими кафедрами, кроме Киева, была Новгородская, а также, возможно, Черниговская и Владимир-Волынская и Белгородская (ныне селение Белогородка под Киевом), Переяславская епархия.На части территорий христианство насаждалось силой; при этом уничтожались культовые сооружения язычников, сопротивлявшиеся подвергались репрессиям.Согласно некоторым летописным свидетельствам, Новгород оказал активное сопротивление введению христианства: он был крещён в 990 году епископом Иоакимом и новгородским посадником Воробьём Стояновичем при военной помощи киевского воеводы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обрыни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Культурные послед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6920" y="1403280"/>
            <a:ext cx="928548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ринятие христианства содействовало развитию зодчества и живописи в средневековых её формах, проникновению византийской культуры как наследницы античной традиции. Особенно важным было распространение кириллической письменности и книжной традиции: именно после крещения Руси возникли первые памятники древнерусской письменной культуры, влекло ликвидацию языческих куль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чало года по принятии христианства в Киеве начали считать от 1 марта, а не с новолуния после дня весеннего равноденствия, как 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то был основателем идеи крещения Ру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 какому году принято относить это событие?(креще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Из каких родов происходила жена князя Игоря, кого она была вероисповед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ому приписывается заслуга основания Златоверхо-Михайловского монастыря в Кие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Кто оказал активное сопротивление введению христиа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Какие культурные ценности появились после принятия христиа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чеслав Парох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Алексей Каз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8920" y="1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73"/>
                </a:solidFill>
                <a:latin typeface="Bookman Old Style"/>
              </a:rPr>
              <a:t>Преды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0000" y="1190520"/>
            <a:ext cx="907092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401400" indent="-300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roadway"/>
              </a:rPr>
              <a:t>Ряд авторов считает вполне установленным фактом, что князья Аскольд и Дир c «болярами» и некоторым количеством народа приняли крещение в Киеве от епископа, посланного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Константинопольским Патриархом Фотием  </a:t>
            </a:r>
            <a:r>
              <a:rPr b="0" lang="en-US" sz="3200" spc="-1" strike="noStrike">
                <a:solidFill>
                  <a:srgbClr val="00b050"/>
                </a:solidFill>
                <a:latin typeface="Broadway"/>
              </a:rPr>
              <a:t>в начале или середине 860-х, вскоре после похода русов на Константинополь в 860 году, по другим источникам — во времена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Василия </a:t>
            </a:r>
            <a:r>
              <a:rPr b="0" lang="en-US" sz="3200" spc="-1" strike="noStrike">
                <a:solidFill>
                  <a:srgbClr val="00b050"/>
                </a:solidFill>
                <a:latin typeface="Broadway"/>
              </a:rPr>
              <a:t>I (867—886) и патриарха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Игнатия</a:t>
            </a:r>
            <a:r>
              <a:rPr b="0" lang="en-US" sz="3200" spc="-1" strike="noStrike">
                <a:solidFill>
                  <a:srgbClr val="00b050"/>
                </a:solidFill>
                <a:latin typeface="Broadway"/>
              </a:rPr>
              <a:t> (867—877). Эти события иногда именуют первым (Фотиевым, или Аскольдовым) крещением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2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Христианкой была супруга князя </a:t>
            </a:r>
            <a:r>
              <a:rPr b="0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Игоря</a:t>
            </a: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 — бабка князя </a:t>
            </a:r>
            <a:r>
              <a:rPr b="0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Владимира</a:t>
            </a: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, княгиня </a:t>
            </a:r>
            <a:r>
              <a:rPr b="0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Ольга</a:t>
            </a: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 (смерть 11 июля 969). Хотя о точном времени и месте принятия ею крещения существуют различные мнения, принято считать, согласно позднейшим исследованиям, что она крестилась в Константинополе в 957 году. Достоверные сведения о приёме императором </a:t>
            </a:r>
            <a:r>
              <a:rPr b="0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Константином Багрянородным</a:t>
            </a: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, которого принято считать её восприемником, содержатся в его трактате «О придворных церемониях». Отсутствие в трактате упоминания о её крещении даёт основание некоторым исследователям предполагать, что она могла уже быть к тому времени христианкой; трактат упоминает некого «пресвитера </a:t>
            </a:r>
            <a:r>
              <a:rPr b="0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Григория</a:t>
            </a:r>
            <a:r>
              <a:rPr b="0" lang="en-US" sz="2800" spc="-1" strike="noStrike">
                <a:solidFill>
                  <a:srgbClr val="00b050"/>
                </a:solidFill>
                <a:latin typeface="Aparajita"/>
                <a:ea typeface="Aparajita"/>
              </a:rPr>
              <a:t>» в её свите, в лице которого некоторые склонны усматривать её духо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684000"/>
            <a:ext cx="9074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664d"/>
                </a:solidFill>
                <a:latin typeface="Arial Black"/>
              </a:rPr>
              <a:t>Крещение Руси</a:t>
            </a:r>
            <a:r>
              <a:rPr b="0" lang="ru-RU" sz="4400" spc="-1" strike="noStrike">
                <a:solidFill>
                  <a:srgbClr val="00664d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00664d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2000" y="3058920"/>
            <a:ext cx="90712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ведение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в Древнерусском государстве христианства как государственной религии, осуществлённое в конце X века князем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ладимиром Святославиче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1640" y="2700360"/>
            <a:ext cx="907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гласно «Повести временных лет», до крещения князя Владимира имело место «испытание вер»: Владимиру предлагались, в частности, ислам из Волжской Булгарии, иудаизм от хазар и латинство. Все они были отвергнуты князем по различным причин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гласно русской летописи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овесть временных лет, князь во время крещения своего народа вознёс следующую молитву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2879640"/>
            <a:ext cx="98996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Учреждение церковной организации в Кие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В XX веке была выдвинута и поддержана некоторыми церковными историками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. Д. Приселковым и А. Карташёвым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) гипотеза о том, что пр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ладимире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Киевская Церковь находилась в канонической зависимости от Охридской иерархии Болгарской Церкви, которая в то время якобы обладала автокефалией (что не соответствует общепринятым фактам), большинство исследователей не склонны её разде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684000"/>
            <a:ext cx="9070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В русских летописных источниках фигурирует несколько разных имён первого Киевского митрополита. В Русской Церкви в XVI веке утвердилась традиция считать им греческого (или сирийского) митрополит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ихаила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ириянина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), который в месяцеслове именуется «первым митрополитом Киевским»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итрополиту Михаилу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приписывается заслуга основания Златоверхо-Михайловского монастыря в Киеве, а прибывшим с ним монахам — основание монастыря, получившего впоследствии название Киево-Межигор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кум</cp:lastModifiedBy>
  <dcterms:modified xsi:type="dcterms:W3CDTF">2013-10-03T21:20:12Z</dcterms:modified>
  <cp:revision>15</cp:revision>
  <dc:subject/>
  <dc:title>Крещение Русси. </dc:title>
</cp:coreProperties>
</file>