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BC3-D13E-480A-B257-5F32DC42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5AD-45B2-47CC-8A17-741FDE66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BDE-E0E7-4A8B-9A05-24AB1221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81F-3583-427D-BEF7-9FF9B9A1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C61-9703-49CC-B3A7-395325CB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B09-2946-4778-9202-A6D60051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576-0882-4F16-BABD-31CD25A8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D6D-F6EC-4FD6-B97F-D6B012F5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167-A629-45F7-82F5-924ABBDE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EC1-AE87-4752-A7AD-28ACE3B8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C88-B228-481C-852B-EE576189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C05-5E0C-44DF-8100-364AA45F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FE0D-7FF0-426B-BA43-3CE1FBC92A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357280" y="3789360"/>
            <a:ext cx="678672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Как зрите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Не видевший первого ак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В догадках теряются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И все же они ухитряются как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Понять, что творится на св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С.Я. 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-181080" y="1484280"/>
            <a:ext cx="3132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80360" cy="559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Arial Black"/>
              </a:rPr>
              <a:t>Технология проблемного обучения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Arial"/>
              </a:rPr>
              <a:t>-</a:t>
            </a:r>
            <a:r>
              <a:rPr b="1" lang="ru-RU" sz="4400" spc="-1" strike="noStrike">
                <a:solidFill>
                  <a:srgbClr val="666699"/>
                </a:solidFill>
                <a:latin typeface="Arial Black"/>
              </a:rPr>
              <a:t> важнейший путь организации активной деятельности учащихся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Arial Black"/>
              </a:rPr>
              <a:t>на уроках в начальной школе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Arial"/>
              </a:rPr>
              <a:t>Гурянова Г.В.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00040" y="18900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новные условия использования проблемных ситу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84360" y="1484280"/>
            <a:ext cx="62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Со стороны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68360" y="2133720"/>
            <a:ext cx="7983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уметь определять наличие или отсутствие у себя общего способа решения тех или иных задач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95280" y="3284640"/>
            <a:ext cx="7726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умение задавать вопрос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95280" y="422100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мение  использовать ранее усвоенные знания и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реноси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х в новую ситуаци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39640" y="5516640"/>
            <a:ext cx="79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активная поисковая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1890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Со стороны учите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28760" y="1197000"/>
            <a:ext cx="76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Умение учить умному незнанию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63680" y="2565360"/>
            <a:ext cx="821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Умение учить умному спрашиванию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68360" y="3716280"/>
            <a:ext cx="78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Умение учить строить гипотез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63680" y="4653000"/>
            <a:ext cx="821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Умение планировать, создавать на уроке проблемные ситуации и управлять этим процесс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500120" y="428760"/>
            <a:ext cx="6143760" cy="6214680"/>
            <a:chOff x="1500120" y="428760"/>
            <a:chExt cx="6143760" cy="6214680"/>
          </a:xfrm>
        </p:grpSpPr>
        <p:sp>
          <p:nvSpPr>
            <p:cNvPr id="60" name="AutoShape 3"/>
            <p:cNvSpPr/>
            <p:nvPr/>
          </p:nvSpPr>
          <p:spPr>
            <a:xfrm>
              <a:off x="1500120" y="1343520"/>
              <a:ext cx="2486160" cy="53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Не могу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4"/>
            <p:cNvSpPr/>
            <p:nvPr/>
          </p:nvSpPr>
          <p:spPr>
            <a:xfrm>
              <a:off x="1509480" y="2131200"/>
              <a:ext cx="2486160" cy="53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Несоответств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5"/>
            <p:cNvSpPr/>
            <p:nvPr/>
          </p:nvSpPr>
          <p:spPr>
            <a:xfrm>
              <a:off x="1509480" y="2926440"/>
              <a:ext cx="2486160" cy="53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Конфлик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6"/>
            <p:cNvSpPr/>
            <p:nvPr/>
          </p:nvSpPr>
          <p:spPr>
            <a:xfrm>
              <a:off x="1509480" y="3721320"/>
              <a:ext cx="2486160" cy="53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Неожидан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7"/>
            <p:cNvSpPr/>
            <p:nvPr/>
          </p:nvSpPr>
          <p:spPr>
            <a:xfrm>
              <a:off x="1509480" y="4516200"/>
              <a:ext cx="2486160" cy="53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Неопределён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8"/>
            <p:cNvSpPr/>
            <p:nvPr/>
          </p:nvSpPr>
          <p:spPr>
            <a:xfrm>
              <a:off x="1509480" y="5311440"/>
              <a:ext cx="2486160" cy="53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Выбо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9"/>
            <p:cNvSpPr/>
            <p:nvPr/>
          </p:nvSpPr>
          <p:spPr>
            <a:xfrm>
              <a:off x="1500120" y="6106320"/>
              <a:ext cx="2486160" cy="53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Ошибка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0"/>
            <p:cNvSpPr/>
            <p:nvPr/>
          </p:nvSpPr>
          <p:spPr>
            <a:xfrm>
              <a:off x="4521240" y="1234440"/>
              <a:ext cx="3122640" cy="649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Даётся практическое задание не выполнимое вообщ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11"/>
            <p:cNvSpPr/>
            <p:nvPr/>
          </p:nvSpPr>
          <p:spPr>
            <a:xfrm>
              <a:off x="4521240" y="2006280"/>
              <a:ext cx="312264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Даётся задание, где надо использовать знания в новой ситу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>
              <a:off x="4521240" y="2806200"/>
              <a:ext cx="312264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Ситуация рассматривающая противополож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>
              <a:off x="4521240" y="3601080"/>
              <a:ext cx="312264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Вызывает удивление, необычностью, парадоксальность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>
              <a:off x="4521240" y="4396320"/>
              <a:ext cx="312264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Неоднозначные решения в виду недостатка (лишних) дан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>
              <a:off x="4521240" y="5191200"/>
              <a:ext cx="312264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Даётся ряд готовых решений. Выбери правильное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>
              <a:off x="4521240" y="5981400"/>
              <a:ext cx="312264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Задания с заведомо допущенной ошибк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>
              <a:off x="2682360" y="428760"/>
              <a:ext cx="3122640" cy="649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6"/>
                  </a:solidFill>
                  <a:latin typeface="Calibri"/>
                </a:rPr>
                <a:t>Типы ситуац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AutoShape 18"/>
            <p:cNvCxnSpPr/>
            <p:nvPr/>
          </p:nvCxnSpPr>
          <p:spPr>
            <a:xfrm>
              <a:off x="4258080" y="1078560"/>
              <a:ext cx="1080" cy="530064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</a:ln>
          </p:spPr>
        </p:cxnSp>
        <p:cxnSp>
          <p:nvCxnSpPr>
            <p:cNvPr id="76" name="AutoShape 19"/>
            <p:cNvCxnSpPr/>
            <p:nvPr/>
          </p:nvCxnSpPr>
          <p:spPr>
            <a:xfrm>
              <a:off x="3995280" y="1608120"/>
              <a:ext cx="525960" cy="1080"/>
            </a:xfrm>
            <a:prstGeom prst="straightConnector1">
              <a:avLst/>
            </a:prstGeom>
            <a:ln w="19080">
              <a:solidFill>
                <a:srgbClr val="7030a0"/>
              </a:solidFill>
              <a:miter/>
            </a:ln>
          </p:spPr>
        </p:cxnSp>
        <p:cxnSp>
          <p:nvCxnSpPr>
            <p:cNvPr id="77" name="AutoShape 20"/>
            <p:cNvCxnSpPr/>
            <p:nvPr/>
          </p:nvCxnSpPr>
          <p:spPr>
            <a:xfrm>
              <a:off x="3995280" y="2403360"/>
              <a:ext cx="525960" cy="1080"/>
            </a:xfrm>
            <a:prstGeom prst="straightConnector1">
              <a:avLst/>
            </a:prstGeom>
            <a:ln w="19080">
              <a:solidFill>
                <a:srgbClr val="7030a0"/>
              </a:solidFill>
              <a:miter/>
            </a:ln>
          </p:spPr>
        </p:cxnSp>
        <p:cxnSp>
          <p:nvCxnSpPr>
            <p:cNvPr id="78" name="AutoShape 21"/>
            <p:cNvCxnSpPr/>
            <p:nvPr/>
          </p:nvCxnSpPr>
          <p:spPr>
            <a:xfrm>
              <a:off x="3995280" y="3198240"/>
              <a:ext cx="525960" cy="1080"/>
            </a:xfrm>
            <a:prstGeom prst="straightConnector1">
              <a:avLst/>
            </a:prstGeom>
            <a:ln w="19080">
              <a:solidFill>
                <a:srgbClr val="7030a0"/>
              </a:solidFill>
              <a:miter/>
            </a:ln>
          </p:spPr>
        </p:cxnSp>
        <p:cxnSp>
          <p:nvCxnSpPr>
            <p:cNvPr id="79" name="AutoShape 22"/>
            <p:cNvCxnSpPr/>
            <p:nvPr/>
          </p:nvCxnSpPr>
          <p:spPr>
            <a:xfrm>
              <a:off x="3995280" y="3993480"/>
              <a:ext cx="525960" cy="1080"/>
            </a:xfrm>
            <a:prstGeom prst="straightConnector1">
              <a:avLst/>
            </a:prstGeom>
            <a:ln w="19080">
              <a:solidFill>
                <a:srgbClr val="7030a0"/>
              </a:solidFill>
              <a:miter/>
            </a:ln>
          </p:spPr>
        </p:cxnSp>
        <p:cxnSp>
          <p:nvCxnSpPr>
            <p:cNvPr id="80" name="AutoShape 23"/>
            <p:cNvCxnSpPr/>
            <p:nvPr/>
          </p:nvCxnSpPr>
          <p:spPr>
            <a:xfrm>
              <a:off x="3995280" y="4788360"/>
              <a:ext cx="525960" cy="1080"/>
            </a:xfrm>
            <a:prstGeom prst="straightConnector1">
              <a:avLst/>
            </a:prstGeom>
            <a:ln w="19080">
              <a:solidFill>
                <a:srgbClr val="7030a0"/>
              </a:solidFill>
              <a:miter/>
            </a:ln>
          </p:spPr>
        </p:cxnSp>
        <p:cxnSp>
          <p:nvCxnSpPr>
            <p:cNvPr id="81" name="AutoShape 24"/>
            <p:cNvCxnSpPr/>
            <p:nvPr/>
          </p:nvCxnSpPr>
          <p:spPr>
            <a:xfrm>
              <a:off x="3995280" y="5583240"/>
              <a:ext cx="525960" cy="1080"/>
            </a:xfrm>
            <a:prstGeom prst="straightConnector1">
              <a:avLst/>
            </a:prstGeom>
            <a:ln w="19080">
              <a:solidFill>
                <a:srgbClr val="7030a0"/>
              </a:solidFill>
              <a:miter/>
            </a:ln>
          </p:spPr>
        </p:cxnSp>
        <p:cxnSp>
          <p:nvCxnSpPr>
            <p:cNvPr id="82" name="AutoShape 25"/>
            <p:cNvCxnSpPr/>
            <p:nvPr/>
          </p:nvCxnSpPr>
          <p:spPr>
            <a:xfrm>
              <a:off x="3995280" y="6378480"/>
              <a:ext cx="525960" cy="1080"/>
            </a:xfrm>
            <a:prstGeom prst="straightConnector1">
              <a:avLst/>
            </a:prstGeom>
            <a:ln w="19080">
              <a:solidFill>
                <a:srgbClr val="7030a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99"/>
                </a:solidFill>
                <a:latin typeface="Arial Black"/>
              </a:rPr>
              <a:t>Франц Марк.</a:t>
            </a:r>
            <a:r>
              <a:rPr b="1" i="1" lang="en-US" sz="3200" spc="-1" strike="noStrike">
                <a:solidFill>
                  <a:srgbClr val="666699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666699"/>
                </a:solidFill>
                <a:latin typeface="Arial Black"/>
              </a:rPr>
              <a:t>Птицы. 1914 г.</a:t>
            </a:r>
            <a:endParaRPr b="1" lang="en-US" sz="3200" spc="-1" strike="noStrike">
              <a:solidFill>
                <a:srgbClr val="6666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258920" y="6696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ельная характеристика ди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836640"/>
          <a:ext cx="9144000" cy="5329080"/>
        </p:xfrm>
        <a:graphic>
          <a:graphicData uri="http://schemas.openxmlformats.org/drawingml/2006/table">
            <a:tbl>
              <a:tblPr/>
              <a:tblGrid>
                <a:gridCol w="1692360"/>
                <a:gridCol w="3456000"/>
                <a:gridCol w="39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уждающ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одящ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вопросы и побудительные предложения, подталкивающие мысль уче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посильных ученику вопросов заданий, подводящих его к открытию мыс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ворческих способнос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логического мыш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" descr=""/>
          <p:cNvPicPr/>
          <p:nvPr/>
        </p:nvPicPr>
        <p:blipFill>
          <a:blip r:embed="rId2"/>
          <a:stretch/>
        </p:blipFill>
        <p:spPr>
          <a:xfrm>
            <a:off x="2195640" y="2276640"/>
            <a:ext cx="4608360" cy="3889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99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3:17:34Z</dcterms:created>
  <dc:creator>COMP</dc:creator>
  <dc:description/>
  <dc:language>en-US</dc:language>
  <cp:lastModifiedBy>Roman</cp:lastModifiedBy>
  <dcterms:modified xsi:type="dcterms:W3CDTF">2012-01-20T14:14:04Z</dcterms:modified>
  <cp:revision>26</cp:revision>
  <dc:subject/>
  <dc:title>Технология проблемного обучения как важнейший путь организации активной деятельности учащихся на уроках в начальной школе</dc:title>
</cp:coreProperties>
</file>