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443-8116-43A1-A5D3-45208523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720-E4A1-4F24-819D-DB60B30B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765176-CBFD-48E1-ACD9-9B5694EF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38E5CD-2BEA-4557-B093-FC5D463F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718EE5-F963-4740-9AE1-B312A63B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2869EE-8364-4CC2-B614-5F2FCCC4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9C46D0-AADD-4F80-8865-0254DBA2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AB7E54-CD90-4299-8A5C-A1D43DCE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6749A8-7646-48D2-BD39-2FD4AB76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4FD360-0920-4211-A855-84B0296E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C089A3-2E83-440D-B4FA-15E5A60F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001-B31C-41DC-A006-02C44201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0C0-2810-4A4E-8456-632E788F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A2D18-F01F-41CA-9F5A-35FD1F38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85754-63D7-4F1C-A34E-FCD3FECD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2A48A-DE85-48E9-9665-E0A6CF11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56BA8-E44F-481D-A5BE-C7C2AA54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AB089-81D6-43DE-BD15-14ADF6A6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492B9-3843-49FF-BCFC-6DBBAF5E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CE548-C7D1-47FF-A3A2-E5F95BF1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2DD-AE38-49DC-BFFE-D04E35A6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C298E-C06C-4FD6-B127-C255CF62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30C5C-739F-4751-8634-A52635DC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160BC-6A3B-42AF-B2D6-AE6CD56D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FC12D-B61C-4575-B613-3BB46C4B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6D0D7-8A19-431D-B051-E41C8543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2EB09-DB38-4A9B-99A3-5387C6EB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48447-2D33-4A2F-8788-C7026553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1FA7C-9C89-4A93-A420-5F852B06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205ED-D3B2-496A-A69E-8F73A39F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F36E-CAA3-4F90-9C5D-5DDE304F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544F-CB91-40C6-B898-0EEC3105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3B9FB-495C-4BF0-B0AA-CF1F3E71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2C1EB-B79C-46BA-AD3C-9EC62A43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8C55A-13D7-43D3-BC31-30B71DB6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A99BA-C65C-4069-8331-D137A672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C0D52-5B49-42F9-BD97-D28F3BA2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4F2CF-D09D-4388-B95C-4FE38A43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125F0-9515-4DB8-A1BB-C8E4C0F7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D0F81-43C5-4A65-A43D-3C871918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B8C096-C8D7-4B19-8092-4E7AE666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D46E60-3ABD-4E1E-B264-80D89013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F36-9B1E-4F82-94B0-CAEB01BE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BFAC4F-2EAC-4960-938B-48967EE9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B52389-3D7F-4393-AA94-F56ACAC6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CF12C-BFCB-47C4-B6FF-C2F6853C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3EE48-9830-4DCD-9647-175C47E9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9FFECA-A27A-4E97-B635-B081DDEB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D2D1C-B636-4BC8-81CA-6DFE1D4F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4A25A4-12A0-43A9-B8EC-66C9D9FF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4F6E62-B1ED-4C7A-841D-F3677617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A2016-83C4-4A70-9EDC-0E09B51E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36E02-7741-4D43-AC58-684A3841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835-7B56-45D0-BF4A-67813B02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A0011-6233-407F-BF1F-D3E4A7F4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FB045-23DA-410A-85D6-67AF2E0D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13739-F941-4EA3-AF94-8CD08583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1AB0A-B92F-4583-88D8-C3C0870C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6D575-E452-421A-81FB-1328BBCF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B87D4-58AB-4398-B96D-5155FE14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6E48F-9361-43CA-AAB7-0A373A6A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38535-5EF2-4888-82CD-37F204AD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012AA-531E-49F4-83F8-8B1CAA67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BCF6F-7DC0-4951-879B-278B43DC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D14-36EB-4571-B187-D4F06226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C8E64-475A-4A56-901A-7BECA556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E23B5-78FA-4ABC-B7FF-467F42F2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A588B-55D3-43A4-A8CB-11FA16B2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9E6F5-FC21-47E1-B417-774CBD90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33E02-DA3C-4245-B678-A61D0313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1C0EB-3C02-4B45-BF1D-8E932489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697C3-51B6-4174-A448-2D3FAE8D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106CF-4454-4D9D-BAE4-5A973544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B2F22-3F6C-4F4C-9B0C-7EA03318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3779A-C959-461D-ABD1-CA210655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259-BD33-4D54-A535-F8319096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B5FAD-FE37-4ADD-8501-8D7D0840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5C7BF-C718-49C0-A990-02D92CA0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B6920-49A9-4FB5-9735-E49B28EE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787B9-6F30-4662-962F-528B1C32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680FA-29E4-4BE7-A6E8-27AD44DD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32BEE-BE9B-480D-BE78-07A53E45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64577-7ECA-4A9A-A8C3-02873D40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E725B-9A26-465A-8B48-2B1CC111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F7145-BAB1-4E45-80E0-54B496E4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481AF-93DF-4C58-9195-1EA5C6D3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EF8-E1E6-4178-949A-51B79282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BBEF3-40DC-4BB0-AF1D-401E4DAC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7DF9F-3C50-4EE5-84C7-59440222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A228C-7588-40F1-9A32-483B5E94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F2B5B-BDBA-4B34-AA79-5D9F7B12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CB51B-F129-4587-9AF8-378AF4BC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6599BA-7F68-4948-B624-833EAC70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544CCC-C73D-4F5B-9CF1-7825BA5F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231B50-0C46-4D07-BE6C-6C5637B2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F14394-CB64-42A8-B84D-D91B1159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9C272D-8AAF-41C1-BC9D-B537C9E5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0F7-F7B2-4626-94C8-C76056D7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0ECBF3-B416-4BAE-900B-05288F6C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5ED3AC-906C-4B54-AAE4-F88C92FF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B21E89-AE5C-4EC8-A570-B7169535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1327F9-1184-4745-9FF0-E612C115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4C63BC-CE27-441A-9740-8B497022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9AAD09-DE42-47C1-BACB-61ABD754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DF5849-7CCD-4498-B1F2-9043C0E4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B30B93-42A1-4667-85A6-9A68FC6A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649ED1-8713-4E61-B6F3-C99BFB58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5F1F0D-CA2F-4B27-919A-8DF24C7E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E426-B996-44BC-B9A4-0AD35D22ECEF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09C6-1310-4860-8049-36B64C1F8D6E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E495-E9E9-43EA-9874-23BC764293B5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3989-D335-4484-8530-BC7CCCF7F9B4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C459-BB6D-45AC-8A80-74D708F9CA1F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14C4-FDD8-4EB3-9F37-1B2718595920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56E4-A368-49F9-BC39-D18E15F09AC6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FFAA-DFA6-45E5-B3CC-772084DC4DE8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F4B5-3DCA-4467-88F5-26EB9660A1E9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3328920" y="549360"/>
            <a:ext cx="5418360" cy="28828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348000" y="3573000"/>
            <a:ext cx="5114880" cy="30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а учащаяся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3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» класс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нисова Мар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БОУ СОШ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Руководите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Зайцева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4% учащихся ( 1 человек) нужно задуматься о своём питании, как о режиме, так и о рационе. Чем быстрее  этим займутся, тем меньше проблем с излишним весом, нервными заболеваниями, заболеваниями желудочно-кишечного тракта, различными кожными высыпаниями у них возникнет!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457200" y="1646280"/>
          <a:ext cx="8229600" cy="3031920"/>
        </p:xfrm>
        <a:graphic>
          <a:graphicData uri="http://schemas.openxmlformats.org/drawingml/2006/table">
            <a:tbl>
              <a:tblPr/>
              <a:tblGrid>
                <a:gridCol w="2530440"/>
                <a:gridCol w="1297080"/>
                <a:gridCol w="1366920"/>
                <a:gridCol w="1728720"/>
                <a:gridCol w="1306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блю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Бел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Жи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Угле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ал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ндар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пеканка творожная с молоком сгущен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6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7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ис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3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Хл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9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5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6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9,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422" name="Прямоугольник 5"/>
          <p:cNvSpPr/>
          <p:nvPr/>
        </p:nvSpPr>
        <p:spPr>
          <a:xfrm>
            <a:off x="4196520" y="3244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,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6"/>
          <p:cNvSpPr/>
          <p:nvPr/>
        </p:nvSpPr>
        <p:spPr>
          <a:xfrm>
            <a:off x="4196520" y="3244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,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E:\DCIM\100PHOTO\SAM_1781.JPG"/>
          <p:cNvPicPr/>
          <p:nvPr/>
        </p:nvPicPr>
        <p:blipFill>
          <a:blip r:embed="rId1"/>
          <a:stretch/>
        </p:blipFill>
        <p:spPr>
          <a:xfrm>
            <a:off x="1332000" y="1700280"/>
            <a:ext cx="63928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2081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стараться есть разнообразную пищу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ого и сладкого надо есть поменьш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до есть много жареного, копчёного, солёного, острого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стараться есть в одно и то же время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м перед занятиями надо обязательно завтракать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инать надо не позже, чем за 2 часа до сн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</a:t>
            </a:r>
            <a:endParaRPr b="0" lang="en-US" sz="96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.</a:t>
            </a:r>
            <a:endParaRPr b="0" lang="en-US" sz="9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225360" y="298440"/>
            <a:ext cx="7736040" cy="17128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207756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Задачи 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Изучить литературу по данной теме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знать о полезных продуктах 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оанализировать данные из различных информационных источников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опагандировать  здоровый образ жизни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74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еловеку нужно есть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тобы встать и чтобы сесть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тоб расти и кувыркаться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есни петь, дружить, смеяться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тоб расти и развиватьс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И при этом не болеть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ужно правильно питатьс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 самых юных лет уметь!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539280" y="404640"/>
            <a:ext cx="3745080" cy="54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ищей человек получает необходимые организму питательные веществ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ревние мудрецы говорили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кажи, что ты ешь , и я скажу , кто ты  есть …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01" name="Содержимое 6" descr="p512_110.jpg"/>
          <p:cNvPicPr/>
          <p:nvPr/>
        </p:nvPicPr>
        <p:blipFill>
          <a:blip r:embed="rId1"/>
          <a:stretch/>
        </p:blipFill>
        <p:spPr>
          <a:xfrm>
            <a:off x="4834080" y="1741320"/>
            <a:ext cx="3709800" cy="38419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C:\Users\Наташа\Desktop\2010_02_03\IMG.jpg"/>
          <p:cNvPicPr/>
          <p:nvPr/>
        </p:nvPicPr>
        <p:blipFill>
          <a:blip r:embed="rId2"/>
          <a:stretch/>
        </p:blipFill>
        <p:spPr>
          <a:xfrm>
            <a:off x="571680" y="2143080"/>
            <a:ext cx="1571400" cy="1143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Users\Наташа\Desktop\2010_02_03\IMG.jpg"/>
          <p:cNvPicPr/>
          <p:nvPr/>
        </p:nvPicPr>
        <p:blipFill>
          <a:blip r:embed="rId3"/>
          <a:stretch/>
        </p:blipFill>
        <p:spPr>
          <a:xfrm>
            <a:off x="549360" y="3571920"/>
            <a:ext cx="1593720" cy="1214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Наташа\Desktop\2010_02_03\IMG.jpg"/>
          <p:cNvPicPr/>
          <p:nvPr/>
        </p:nvPicPr>
        <p:blipFill>
          <a:blip r:embed="rId4"/>
          <a:stretch/>
        </p:blipFill>
        <p:spPr>
          <a:xfrm>
            <a:off x="571680" y="5072040"/>
            <a:ext cx="1714320" cy="1071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C:\Users\Наташа\Desktop\2010_02_03\IMG.jpg"/>
          <p:cNvPicPr/>
          <p:nvPr/>
        </p:nvPicPr>
        <p:blipFill>
          <a:blip r:embed="rId5"/>
          <a:stretch/>
        </p:blipFill>
        <p:spPr>
          <a:xfrm>
            <a:off x="3357720" y="2143080"/>
            <a:ext cx="1682640" cy="1214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C:\Users\Наташа\Desktop\2010_02_03\IMG.jpg"/>
          <p:cNvPicPr/>
          <p:nvPr/>
        </p:nvPicPr>
        <p:blipFill>
          <a:blip r:embed="rId6"/>
          <a:stretch/>
        </p:blipFill>
        <p:spPr>
          <a:xfrm>
            <a:off x="3429000" y="36432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" descr="C:\Users\Наташа\Desktop\2010_02_03\IMG.jpg"/>
          <p:cNvPicPr/>
          <p:nvPr/>
        </p:nvPicPr>
        <p:blipFill>
          <a:blip r:embed="rId7"/>
          <a:stretch/>
        </p:blipFill>
        <p:spPr>
          <a:xfrm>
            <a:off x="6572160" y="2143080"/>
            <a:ext cx="1357560" cy="8571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C:\Users\Наташа\Desktop\2010_02_03\IMG.jpg"/>
          <p:cNvPicPr/>
          <p:nvPr/>
        </p:nvPicPr>
        <p:blipFill>
          <a:blip r:embed="rId8"/>
          <a:stretch/>
        </p:blipFill>
        <p:spPr>
          <a:xfrm>
            <a:off x="6500880" y="3214800"/>
            <a:ext cx="1428840" cy="1000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Users\Наташа\Desktop\2010_02_03\IMG.jpg"/>
          <p:cNvPicPr/>
          <p:nvPr/>
        </p:nvPicPr>
        <p:blipFill>
          <a:blip r:embed="rId9"/>
          <a:stretch/>
        </p:blipFill>
        <p:spPr>
          <a:xfrm>
            <a:off x="6500880" y="4429080"/>
            <a:ext cx="1428840" cy="1000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C:\Users\Наташа\Desktop\2010_02_03\IMG.jpg"/>
          <p:cNvPicPr/>
          <p:nvPr/>
        </p:nvPicPr>
        <p:blipFill>
          <a:blip r:embed="rId10"/>
          <a:stretch/>
        </p:blipFill>
        <p:spPr>
          <a:xfrm>
            <a:off x="6500880" y="5572080"/>
            <a:ext cx="1428840" cy="928800"/>
          </a:xfrm>
          <a:prstGeom prst="rect">
            <a:avLst/>
          </a:prstGeom>
          <a:ln w="0">
            <a:noFill/>
          </a:ln>
        </p:spPr>
      </p:pic>
      <p:sp>
        <p:nvSpPr>
          <p:cNvPr id="412" name="TextBox 17"/>
          <p:cNvSpPr/>
          <p:nvPr/>
        </p:nvSpPr>
        <p:spPr>
          <a:xfrm>
            <a:off x="714240" y="15001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8"/>
          <p:cNvSpPr/>
          <p:nvPr/>
        </p:nvSpPr>
        <p:spPr>
          <a:xfrm>
            <a:off x="3500280" y="15001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9"/>
          <p:cNvSpPr/>
          <p:nvPr/>
        </p:nvSpPr>
        <p:spPr>
          <a:xfrm>
            <a:off x="6357960" y="142884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Содержимое 3" descr="metod38-22_clip_image002.jpg"/>
          <p:cNvPicPr/>
          <p:nvPr/>
        </p:nvPicPr>
        <p:blipFill>
          <a:blip r:embed="rId1"/>
          <a:stretch/>
        </p:blipFill>
        <p:spPr>
          <a:xfrm>
            <a:off x="714240" y="571680"/>
            <a:ext cx="7000920" cy="588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Продолжительность жизни человека и состояние его здоровья на 60 % определяет его образ жизни и система питания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125000"/>
            <a:ext cx="82296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16 % учащихся(4 человека) сознательно относитесь к собственному здоровью, потому что организм получает разнообразные питательные компоненты с сохранившимися в них биоактивными веществами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79 % (19 человек) учащихся полноценным питание не могут назвать по нескольким причинам, но если прислушаетесь к рекомендациям, то их рацион может пополнится другими нужными для организма веществами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5:59:02Z</dcterms:created>
  <dc:creator>Наташа</dc:creator>
  <dc:description/>
  <dc:language>en-US</dc:language>
  <cp:lastModifiedBy>Бешеннный</cp:lastModifiedBy>
  <dcterms:modified xsi:type="dcterms:W3CDTF">2013-10-18T16:54:33Z</dcterms:modified>
  <cp:revision>55</cp:revision>
  <dc:subject/>
  <dc:title>1.Полость рта (зубы) 2. Язык  3. Пищевод  4. Желудок  5. Печень 7. Желчный пузырь  10. Поджелудочная железа  11. Тонкая кишка  12. Толстая кишка</dc:title>
</cp:coreProperties>
</file>