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91CE0-9168-4565-9213-CBD27318A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76356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6280" y="4194360"/>
            <a:ext cx="76356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EE462-B918-4E35-9AD5-31A7359CE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60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9120" y="1937880"/>
            <a:ext cx="37260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6280" y="4194360"/>
            <a:ext cx="37260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9120" y="4194360"/>
            <a:ext cx="37260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557B1-7F15-467F-B555-8FA5AD36F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2458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28200" y="1937880"/>
            <a:ext cx="2458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09760" y="1937880"/>
            <a:ext cx="2458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6280" y="4194360"/>
            <a:ext cx="2458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28200" y="4194360"/>
            <a:ext cx="2458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09760" y="4194360"/>
            <a:ext cx="2458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33A3B-33D7-448B-A390-7D832818D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746280" y="1937880"/>
            <a:ext cx="763560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763560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600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59120" y="1937880"/>
            <a:ext cx="372600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71040" y="634680"/>
            <a:ext cx="780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60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59120" y="1937880"/>
            <a:ext cx="372600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746280" y="4194360"/>
            <a:ext cx="37260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6280" y="1937880"/>
            <a:ext cx="763560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507C0-8B3A-47C9-8BF4-8DE6AEC56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600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59120" y="1937880"/>
            <a:ext cx="37260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59120" y="4194360"/>
            <a:ext cx="37260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60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59120" y="1937880"/>
            <a:ext cx="37260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46280" y="4194360"/>
            <a:ext cx="76356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76356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746280" y="4194360"/>
            <a:ext cx="76356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60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59120" y="1937880"/>
            <a:ext cx="37260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746280" y="4194360"/>
            <a:ext cx="37260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59120" y="4194360"/>
            <a:ext cx="37260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2458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28200" y="1937880"/>
            <a:ext cx="2458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09760" y="1937880"/>
            <a:ext cx="2458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746280" y="4194360"/>
            <a:ext cx="2458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28200" y="4194360"/>
            <a:ext cx="2458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09760" y="4194360"/>
            <a:ext cx="2458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763560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77A81-A4AA-4854-8AAF-1E0797278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600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9120" y="1937880"/>
            <a:ext cx="372600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9BD4C-B469-44F8-A58C-9EB9D6300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EE94A-8457-4A68-9831-3E5DE8CD4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71040" y="634680"/>
            <a:ext cx="780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9EFE4-C154-4F30-A72D-166BB042B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60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9120" y="1937880"/>
            <a:ext cx="372600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6280" y="4194360"/>
            <a:ext cx="37260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273B4-18D5-4B9B-8BA6-3B1C4A0FF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600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9120" y="1937880"/>
            <a:ext cx="37260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9120" y="4194360"/>
            <a:ext cx="37260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46F89-9682-4BE3-AA3F-807425B06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60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9120" y="1937880"/>
            <a:ext cx="37260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6280" y="4194360"/>
            <a:ext cx="76356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B9941-CB94-4DEB-A6CD-5A6A3C8C0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5A42C5-DC13-4F93-8993-0FE278162629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3100" spc="-1" strike="noStrike">
                <a:solidFill>
                  <a:srgbClr val="99284c"/>
                </a:solidFill>
                <a:latin typeface="Arial"/>
              </a:rPr>
              <a:t>Click to edit the title text format</a:t>
            </a: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46280" y="1937880"/>
            <a:ext cx="763560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660066"/>
                </a:solidFill>
                <a:latin typeface="Arial"/>
              </a:rPr>
              <a:t>Соедините фамилию автора и его произведение.</a:t>
            </a: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60360" y="1414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cc"/>
                </a:solidFill>
                <a:latin typeface="Arial"/>
              </a:rPr>
              <a:t>Берестов          Хорошее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cc"/>
                </a:solidFill>
                <a:latin typeface="Arial"/>
              </a:rPr>
              <a:t>Лунин               «Анна, не грусти»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cc"/>
                </a:solidFill>
                <a:latin typeface="Arial"/>
              </a:rPr>
              <a:t>Булгаков           Два пирожных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cc"/>
                </a:solidFill>
                <a:latin typeface="Arial"/>
              </a:rPr>
              <a:t>Ермолаев         Я и Вовка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cc"/>
                </a:solidFill>
                <a:latin typeface="Arial"/>
              </a:rPr>
              <a:t>Осеева             Гляжу с высоты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03640" y="1906560"/>
            <a:ext cx="576360" cy="1873440"/>
          </a:xfrm>
          <a:prstGeom prst="line">
            <a:avLst/>
          </a:prstGeom>
          <a:ln w="2844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2700360" y="1790640"/>
            <a:ext cx="1441440" cy="1990800"/>
          </a:xfrm>
          <a:prstGeom prst="line">
            <a:avLst/>
          </a:prstGeom>
          <a:ln w="2844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3060720" y="2223720"/>
            <a:ext cx="900000" cy="477720"/>
          </a:xfrm>
          <a:prstGeom prst="line">
            <a:avLst/>
          </a:prstGeom>
          <a:ln w="2844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519280" y="2232000"/>
            <a:ext cx="1441440" cy="1008000"/>
          </a:xfrm>
          <a:prstGeom prst="line">
            <a:avLst/>
          </a:prstGeom>
          <a:ln w="2844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3240000" y="2698920"/>
            <a:ext cx="900360" cy="542880"/>
          </a:xfrm>
          <a:prstGeom prst="line">
            <a:avLst/>
          </a:prstGeom>
          <a:ln w="2844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fill="hold">
                      <p:stCondLst>
                        <p:cond delay="indefinite"/>
                      </p:stCondLst>
                      <p:childTnLst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dur="indefinite" fill="hold">
                      <p:stCondLst>
                        <p:cond delay="indefinite"/>
                      </p:stCondLst>
                      <p:childTnLst>
                        <p:par>
                          <p:cTn id="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dur="indefinite" fill="hold">
                      <p:stCondLst>
                        <p:cond delay="indefinite"/>
                      </p:stCondLst>
                      <p:childTnLst>
                        <p:par>
                          <p:cTn id="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571680" y="1333440"/>
            <a:ext cx="85723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514440" indent="-509760">
              <a:lnSpc>
                <a:spcPct val="100000"/>
              </a:lnSpc>
              <a:tabLst>
                <a:tab algn="l" pos="0"/>
                <a:tab algn="l" pos="514440"/>
                <a:tab algn="l" pos="961920"/>
                <a:tab algn="l" pos="1411200"/>
                <a:tab algn="l" pos="1860480"/>
                <a:tab algn="l" pos="2309760"/>
                <a:tab algn="l" pos="2759040"/>
                <a:tab algn="l" pos="3208320"/>
                <a:tab algn="l" pos="3657600"/>
                <a:tab algn="l" pos="4106880"/>
                <a:tab algn="l" pos="4556160"/>
                <a:tab algn="l" pos="5005440"/>
                <a:tab algn="l" pos="5454720"/>
                <a:tab algn="l" pos="5904000"/>
                <a:tab algn="l" pos="6353280"/>
                <a:tab algn="l" pos="6802560"/>
                <a:tab algn="l" pos="7251840"/>
                <a:tab algn="l" pos="7701120"/>
                <a:tab algn="l" pos="8150400"/>
                <a:tab algn="l" pos="8599320"/>
                <a:tab algn="l" pos="9048600"/>
                <a:tab algn="l" pos="949788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103c47"/>
                </a:solidFill>
                <a:latin typeface="Book Antiqua"/>
                <a:ea typeface="Arial"/>
              </a:rPr>
              <a:t>1.«Лена, дай мне одну краску, пожалуйста.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09760">
              <a:lnSpc>
                <a:spcPct val="100000"/>
              </a:lnSpc>
              <a:tabLst>
                <a:tab algn="l" pos="0"/>
                <a:tab algn="l" pos="514440"/>
                <a:tab algn="l" pos="961920"/>
                <a:tab algn="l" pos="1411200"/>
                <a:tab algn="l" pos="1860480"/>
                <a:tab algn="l" pos="2309760"/>
                <a:tab algn="l" pos="2759040"/>
                <a:tab algn="l" pos="3208320"/>
                <a:tab algn="l" pos="3657600"/>
                <a:tab algn="l" pos="4106880"/>
                <a:tab algn="l" pos="4556160"/>
                <a:tab algn="l" pos="5005440"/>
                <a:tab algn="l" pos="5454720"/>
                <a:tab algn="l" pos="5904000"/>
                <a:tab algn="l" pos="6353280"/>
                <a:tab algn="l" pos="6802560"/>
                <a:tab algn="l" pos="7251840"/>
                <a:tab algn="l" pos="7701120"/>
                <a:tab algn="l" pos="8150400"/>
                <a:tab algn="l" pos="8599320"/>
                <a:tab algn="l" pos="9048600"/>
                <a:tab algn="l" pos="949788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103c47"/>
                </a:solidFill>
                <a:latin typeface="Book Antiqua"/>
                <a:ea typeface="Arial"/>
              </a:rPr>
              <a:t>2. «Скамейка была пуста…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09760">
              <a:lnSpc>
                <a:spcPct val="100000"/>
              </a:lnSpc>
              <a:tabLst>
                <a:tab algn="l" pos="0"/>
                <a:tab algn="l" pos="514440"/>
                <a:tab algn="l" pos="961920"/>
                <a:tab algn="l" pos="1411200"/>
                <a:tab algn="l" pos="1860480"/>
                <a:tab algn="l" pos="2309760"/>
                <a:tab algn="l" pos="2759040"/>
                <a:tab algn="l" pos="3208320"/>
                <a:tab algn="l" pos="3657600"/>
                <a:tab algn="l" pos="4106880"/>
                <a:tab algn="l" pos="4556160"/>
                <a:tab algn="l" pos="5005440"/>
                <a:tab algn="l" pos="5454720"/>
                <a:tab algn="l" pos="5904000"/>
                <a:tab algn="l" pos="6353280"/>
                <a:tab algn="l" pos="6802560"/>
                <a:tab algn="l" pos="7251840"/>
                <a:tab algn="l" pos="7701120"/>
                <a:tab algn="l" pos="8150400"/>
                <a:tab algn="l" pos="8599320"/>
                <a:tab algn="l" pos="9048600"/>
                <a:tab algn="l" pos="949788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103c47"/>
                </a:solidFill>
                <a:latin typeface="Book Antiqua"/>
                <a:ea typeface="Arial"/>
              </a:rPr>
              <a:t>3. « Скоро совсем убегу…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09760">
              <a:lnSpc>
                <a:spcPct val="100000"/>
              </a:lnSpc>
              <a:tabLst>
                <a:tab algn="l" pos="0"/>
                <a:tab algn="l" pos="514440"/>
                <a:tab algn="l" pos="961920"/>
                <a:tab algn="l" pos="1411200"/>
                <a:tab algn="l" pos="1860480"/>
                <a:tab algn="l" pos="2309760"/>
                <a:tab algn="l" pos="2759040"/>
                <a:tab algn="l" pos="3208320"/>
                <a:tab algn="l" pos="3657600"/>
                <a:tab algn="l" pos="4106880"/>
                <a:tab algn="l" pos="4556160"/>
                <a:tab algn="l" pos="5005440"/>
                <a:tab algn="l" pos="5454720"/>
                <a:tab algn="l" pos="5904000"/>
                <a:tab algn="l" pos="6353280"/>
                <a:tab algn="l" pos="6802560"/>
                <a:tab algn="l" pos="7251840"/>
                <a:tab algn="l" pos="7701120"/>
                <a:tab algn="l" pos="8150400"/>
                <a:tab algn="l" pos="8599320"/>
                <a:tab algn="l" pos="9048600"/>
                <a:tab algn="l" pos="949788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103c47"/>
                </a:solidFill>
                <a:latin typeface="Book Antiqua"/>
                <a:ea typeface="Arial"/>
              </a:rPr>
              <a:t>4. «Дай мне зеленый карандаш.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738360">
              <a:lnSpc>
                <a:spcPct val="100000"/>
              </a:lnSpc>
              <a:tabLst>
                <a:tab algn="l" pos="0"/>
                <a:tab algn="l" pos="514440"/>
                <a:tab algn="l" pos="961920"/>
                <a:tab algn="l" pos="1411200"/>
                <a:tab algn="l" pos="1860480"/>
                <a:tab algn="l" pos="2309760"/>
                <a:tab algn="l" pos="2759040"/>
                <a:tab algn="l" pos="3208320"/>
                <a:tab algn="l" pos="3657600"/>
                <a:tab algn="l" pos="4106880"/>
                <a:tab algn="l" pos="4556160"/>
                <a:tab algn="l" pos="5005440"/>
                <a:tab algn="l" pos="5454720"/>
                <a:tab algn="l" pos="5904000"/>
                <a:tab algn="l" pos="6353280"/>
                <a:tab algn="l" pos="6802560"/>
                <a:tab algn="l" pos="7251840"/>
                <a:tab algn="l" pos="7701120"/>
                <a:tab algn="l" pos="8150400"/>
                <a:tab algn="l" pos="8599320"/>
                <a:tab algn="l" pos="9048600"/>
                <a:tab algn="l" pos="949788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103c47"/>
                </a:solidFill>
                <a:latin typeface="Book Antiqua"/>
              </a:rPr>
              <a:t>5. «Возьми меня, пожалуйста,…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738360">
              <a:lnSpc>
                <a:spcPct val="100000"/>
              </a:lnSpc>
              <a:tabLst>
                <a:tab algn="l" pos="0"/>
                <a:tab algn="l" pos="514440"/>
                <a:tab algn="l" pos="961920"/>
                <a:tab algn="l" pos="1411200"/>
                <a:tab algn="l" pos="1860480"/>
                <a:tab algn="l" pos="2309760"/>
                <a:tab algn="l" pos="2759040"/>
                <a:tab algn="l" pos="3208320"/>
                <a:tab algn="l" pos="3657600"/>
                <a:tab algn="l" pos="4106880"/>
                <a:tab algn="l" pos="4556160"/>
                <a:tab algn="l" pos="5005440"/>
                <a:tab algn="l" pos="5454720"/>
                <a:tab algn="l" pos="5904000"/>
                <a:tab algn="l" pos="6353280"/>
                <a:tab algn="l" pos="6802560"/>
                <a:tab algn="l" pos="7251840"/>
                <a:tab algn="l" pos="7701120"/>
                <a:tab algn="l" pos="8150400"/>
                <a:tab algn="l" pos="8599320"/>
                <a:tab algn="l" pos="9048600"/>
                <a:tab algn="l" pos="949788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103c47"/>
                </a:solidFill>
                <a:latin typeface="Book Antiqua"/>
              </a:rPr>
              <a:t>6. « Есть такое волшебное слово…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738360">
              <a:lnSpc>
                <a:spcPct val="100000"/>
              </a:lnSpc>
              <a:tabLst>
                <a:tab algn="l" pos="0"/>
                <a:tab algn="l" pos="514440"/>
                <a:tab algn="l" pos="961920"/>
                <a:tab algn="l" pos="1411200"/>
                <a:tab algn="l" pos="1860480"/>
                <a:tab algn="l" pos="2309760"/>
                <a:tab algn="l" pos="2759040"/>
                <a:tab algn="l" pos="3208320"/>
                <a:tab algn="l" pos="3657600"/>
                <a:tab algn="l" pos="4106880"/>
                <a:tab algn="l" pos="4556160"/>
                <a:tab algn="l" pos="5005440"/>
                <a:tab algn="l" pos="5454720"/>
                <a:tab algn="l" pos="5904000"/>
                <a:tab algn="l" pos="6353280"/>
                <a:tab algn="l" pos="6802560"/>
                <a:tab algn="l" pos="7251840"/>
                <a:tab algn="l" pos="7701120"/>
                <a:tab algn="l" pos="8150400"/>
                <a:tab algn="l" pos="8599320"/>
                <a:tab algn="l" pos="9048600"/>
                <a:tab algn="l" pos="949788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103c47"/>
                </a:solidFill>
                <a:latin typeface="Book Antiqua"/>
              </a:rPr>
              <a:t>7. «Дай мне кусочек пирожка, пожалуйста.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738360">
              <a:lnSpc>
                <a:spcPct val="100000"/>
              </a:lnSpc>
              <a:tabLst>
                <a:tab algn="l" pos="0"/>
                <a:tab algn="l" pos="514440"/>
                <a:tab algn="l" pos="961920"/>
                <a:tab algn="l" pos="1411200"/>
                <a:tab algn="l" pos="1860480"/>
                <a:tab algn="l" pos="2309760"/>
                <a:tab algn="l" pos="2759040"/>
                <a:tab algn="l" pos="3208320"/>
                <a:tab algn="l" pos="3657600"/>
                <a:tab algn="l" pos="4106880"/>
                <a:tab algn="l" pos="4556160"/>
                <a:tab algn="l" pos="5005440"/>
                <a:tab algn="l" pos="5454720"/>
                <a:tab algn="l" pos="5904000"/>
                <a:tab algn="l" pos="6353280"/>
                <a:tab algn="l" pos="6802560"/>
                <a:tab algn="l" pos="7251840"/>
                <a:tab algn="l" pos="7701120"/>
                <a:tab algn="l" pos="8150400"/>
                <a:tab algn="l" pos="8599320"/>
                <a:tab algn="l" pos="9048600"/>
                <a:tab algn="l" pos="949788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103c47"/>
                </a:solidFill>
                <a:latin typeface="Book Antiqua"/>
              </a:rPr>
              <a:t>8. «Я никогда больше не буду трогать твои краски…никогда…никогда…не буду!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738360">
              <a:lnSpc>
                <a:spcPct val="100000"/>
              </a:lnSpc>
              <a:tabLst>
                <a:tab algn="l" pos="0"/>
                <a:tab algn="l" pos="514440"/>
                <a:tab algn="l" pos="961920"/>
                <a:tab algn="l" pos="1411200"/>
                <a:tab algn="l" pos="1860480"/>
                <a:tab algn="l" pos="2309760"/>
                <a:tab algn="l" pos="2759040"/>
                <a:tab algn="l" pos="3208320"/>
                <a:tab algn="l" pos="3657600"/>
                <a:tab algn="l" pos="4106880"/>
                <a:tab algn="l" pos="4556160"/>
                <a:tab algn="l" pos="5005440"/>
                <a:tab algn="l" pos="5454720"/>
                <a:tab algn="l" pos="5904000"/>
                <a:tab algn="l" pos="6353280"/>
                <a:tab algn="l" pos="6802560"/>
                <a:tab algn="l" pos="7251840"/>
                <a:tab algn="l" pos="7701120"/>
                <a:tab algn="l" pos="8150400"/>
                <a:tab algn="l" pos="8599320"/>
                <a:tab algn="l" pos="9048600"/>
                <a:tab algn="l" pos="949788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738360" algn="ctr">
              <a:lnSpc>
                <a:spcPct val="100000"/>
              </a:lnSpc>
              <a:tabLst>
                <a:tab algn="l" pos="0"/>
                <a:tab algn="l" pos="514440"/>
                <a:tab algn="l" pos="961920"/>
                <a:tab algn="l" pos="1411200"/>
                <a:tab algn="l" pos="1860480"/>
                <a:tab algn="l" pos="2309760"/>
                <a:tab algn="l" pos="2759040"/>
                <a:tab algn="l" pos="3208320"/>
                <a:tab algn="l" pos="3657600"/>
                <a:tab algn="l" pos="4106880"/>
                <a:tab algn="l" pos="4556160"/>
                <a:tab algn="l" pos="5005440"/>
                <a:tab algn="l" pos="5454720"/>
                <a:tab algn="l" pos="5904000"/>
                <a:tab algn="l" pos="6353280"/>
                <a:tab algn="l" pos="6802560"/>
                <a:tab algn="l" pos="7251840"/>
                <a:tab algn="l" pos="7701120"/>
                <a:tab algn="l" pos="8150400"/>
                <a:tab algn="l" pos="8599320"/>
                <a:tab algn="l" pos="9048600"/>
                <a:tab algn="l" pos="949788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0720" y="131760"/>
            <a:ext cx="8072280" cy="1847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dur="indefinite" fill="hold">
                      <p:stCondLst>
                        <p:cond delay="indefinite"/>
                      </p:stCondLst>
                      <p:childTnLst>
                        <p:par>
                          <p:cTn id="2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dur="indefinite" fill="hold">
                      <p:stCondLst>
                        <p:cond delay="indefinite"/>
                      </p:stCondLst>
                      <p:childTnLst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179280" y="1800360"/>
            <a:ext cx="3456000" cy="21272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5205240" y="1800360"/>
            <a:ext cx="3614760" cy="21175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2879640" y="4319640"/>
            <a:ext cx="3915000" cy="226836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3060720" y="539640"/>
            <a:ext cx="3240000" cy="7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4b1f6f"/>
                </a:solidFill>
                <a:latin typeface="Times New Roman"/>
              </a:rPr>
              <a:t>Перескажи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100" spc="-1" strike="noStrike">
                <a:solidFill>
                  <a:srgbClr val="660066"/>
                </a:solidFill>
                <a:latin typeface="Arial"/>
              </a:rPr>
              <a:t> </a:t>
            </a:r>
            <a:br>
              <a:rPr sz="3100"/>
            </a:br>
            <a:r>
              <a:rPr b="1" i="1" lang="ru-RU" sz="3100" spc="-1" strike="noStrike">
                <a:solidFill>
                  <a:srgbClr val="660066"/>
                </a:solidFill>
                <a:latin typeface="Arial"/>
              </a:rPr>
              <a:t>«Я и мои друзья»</a:t>
            </a: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258920" y="515880"/>
            <a:ext cx="640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Arial"/>
              </a:rPr>
              <a:t>УМК «Школа России» 2 класс,</a:t>
            </a:r>
            <a:br>
              <a:rPr sz="2800"/>
            </a:br>
            <a:r>
              <a:rPr b="1" lang="ru-RU" sz="2800" spc="-1" strike="noStrike">
                <a:solidFill>
                  <a:srgbClr val="0000cc"/>
                </a:solidFill>
                <a:latin typeface="Arial"/>
              </a:rPr>
              <a:t>литературное чт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121280" y="56815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Times New Roman"/>
              </a:rPr>
              <a:t>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dur="indefinite" fill="hold">
                      <p:stCondLst>
                        <p:cond delay="indefinite"/>
                      </p:stCondLst>
                      <p:childTnLst>
                        <p:par>
                          <p:cTn id="4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dur="indefinite" fill="hold">
                      <p:stCondLst>
                        <p:cond delay="indefinite"/>
                      </p:stCondLst>
                      <p:childTnLst>
                        <p:par>
                          <p:cTn id="4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260360" y="1800360"/>
            <a:ext cx="540000" cy="10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6600" spc="-1" strike="noStrike">
                <a:solidFill>
                  <a:srgbClr val="4b1f6f"/>
                </a:solidFill>
                <a:latin typeface="Arial"/>
              </a:rPr>
              <a:t>х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79640" y="1800360"/>
            <a:ext cx="539640" cy="10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6600" spc="-1" strike="noStrike">
                <a:solidFill>
                  <a:srgbClr val="4b1f6f"/>
                </a:solidFill>
                <a:latin typeface="Arial"/>
              </a:rPr>
              <a:t>о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700360" y="1800360"/>
            <a:ext cx="539640" cy="10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6600" spc="-1" strike="noStrike">
                <a:solidFill>
                  <a:srgbClr val="4b1f6f"/>
                </a:solidFill>
                <a:latin typeface="Arial"/>
              </a:rPr>
              <a:t>р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419640" y="1800360"/>
            <a:ext cx="720720" cy="10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6600" spc="-1" strike="noStrike">
                <a:solidFill>
                  <a:srgbClr val="4b1f6f"/>
                </a:solidFill>
                <a:latin typeface="Arial"/>
              </a:rPr>
              <a:t>о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140360" y="1800360"/>
            <a:ext cx="539640" cy="10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6600" spc="-1" strike="noStrike">
                <a:solidFill>
                  <a:srgbClr val="4b1f6f"/>
                </a:solidFill>
                <a:latin typeface="Arial"/>
              </a:rPr>
              <a:t>ш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040360" y="1800360"/>
            <a:ext cx="720720" cy="10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6600" spc="-1" strike="noStrike">
                <a:solidFill>
                  <a:srgbClr val="4b1f6f"/>
                </a:solidFill>
                <a:latin typeface="Arial"/>
              </a:rPr>
              <a:t>е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759280" y="1800360"/>
            <a:ext cx="540000" cy="10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6600" spc="-1" strike="noStrike">
                <a:solidFill>
                  <a:srgbClr val="4b1f6f"/>
                </a:solidFill>
                <a:latin typeface="Arial"/>
              </a:rPr>
              <a:t>е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800360" y="344520"/>
            <a:ext cx="5580000" cy="10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6600" spc="-1" strike="noStrike">
                <a:solidFill>
                  <a:srgbClr val="004586"/>
                </a:solidFill>
                <a:latin typeface="Arial"/>
              </a:rPr>
              <a:t>Тема урок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dur="indefinite" fill="hold">
                      <p:stCondLst>
                        <p:cond delay="indefinite"/>
                      </p:stCondLst>
                      <p:childTnLst>
                        <p:par>
                          <p:cTn id="5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dur="indefinite" fill="hold">
                      <p:stCondLst>
                        <p:cond delay="indefinite"/>
                      </p:stCondLst>
                      <p:childTnLst>
                        <p:par>
                          <p:cTn id="6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dur="indefinite" fill="hold">
                      <p:stCondLst>
                        <p:cond delay="indefinite"/>
                      </p:stCondLst>
                      <p:childTnLst>
                        <p:par>
                          <p:cTn id="6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dur="indefinite" fill="hold">
                      <p:stCondLst>
                        <p:cond delay="indefinite"/>
                      </p:stCondLst>
                      <p:childTnLst>
                        <p:par>
                          <p:cTn id="7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dur="indefinite" fill="hold">
                      <p:stCondLst>
                        <p:cond delay="indefinite"/>
                      </p:stCondLst>
                      <p:childTnLst>
                        <p:par>
                          <p:cTn id="7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dur="indefinite" fill="hold">
                      <p:stCondLst>
                        <p:cond delay="indefinite"/>
                      </p:stCondLst>
                      <p:childTnLst>
                        <p:par>
                          <p:cTn id="8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dur="indefinite" fill="hold">
                      <p:stCondLst>
                        <p:cond delay="indefinite"/>
                      </p:stCondLst>
                      <p:childTnLst>
                        <p:par>
                          <p:cTn id="9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dur="indefinite" fill="hold">
                      <p:stCondLst>
                        <p:cond delay="indefinite"/>
                      </p:stCondLst>
                      <p:childTnLst>
                        <p:par>
                          <p:cTn id="9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660066"/>
                </a:solidFill>
                <a:latin typeface="Arial"/>
              </a:rPr>
              <a:t>Задание№3</a:t>
            </a:r>
            <a:br>
              <a:rPr sz="2400"/>
            </a:br>
            <a:r>
              <a:rPr b="1" i="1" lang="ru-RU" sz="2400" spc="-1" strike="noStrike">
                <a:solidFill>
                  <a:srgbClr val="660066"/>
                </a:solidFill>
                <a:latin typeface="Arial"/>
              </a:rPr>
              <a:t>составить пословицы из 2 частей:</a:t>
            </a: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39640" y="1440000"/>
            <a:ext cx="8280360" cy="41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4b1f6f"/>
                </a:solidFill>
                <a:latin typeface="Times New Roman"/>
              </a:rPr>
              <a:t>1)добрый человек                                       1)то он и учит хорошему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4b1f6f"/>
                </a:solidFill>
                <a:latin typeface="Times New Roman"/>
              </a:rPr>
              <a:t>2)про доброе дело                                      2) чтобы из ручья напиться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4b1f6f"/>
                </a:solidFill>
                <a:latin typeface="Times New Roman"/>
              </a:rPr>
              <a:t>3)не одежда красит человека,                    3) говори смел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4b1f6f"/>
                </a:solidFill>
                <a:latin typeface="Times New Roman"/>
              </a:rPr>
              <a:t>4)если человек добрый, хороший —          4) добру учи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4b1f6f"/>
                </a:solidFill>
                <a:latin typeface="Times New Roman"/>
              </a:rPr>
              <a:t>5)нужно наклониться,                                   5)а его добрые слов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879640" y="1619280"/>
            <a:ext cx="2700360" cy="1800360"/>
          </a:xfrm>
          <a:prstGeom prst="line">
            <a:avLst/>
          </a:prstGeom>
          <a:ln w="9360">
            <a:solidFill>
              <a:srgbClr val="008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879640" y="2340000"/>
            <a:ext cx="2700360" cy="539640"/>
          </a:xfrm>
          <a:prstGeom prst="line">
            <a:avLst/>
          </a:prstGeom>
          <a:ln w="9360">
            <a:solidFill>
              <a:srgbClr val="008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140360" y="2879640"/>
            <a:ext cx="1618920" cy="1260720"/>
          </a:xfrm>
          <a:prstGeom prst="line">
            <a:avLst/>
          </a:prstGeom>
          <a:ln w="9360">
            <a:solidFill>
              <a:srgbClr val="008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4680000" y="1794960"/>
            <a:ext cx="900000" cy="1809720"/>
          </a:xfrm>
          <a:prstGeom prst="line">
            <a:avLst/>
          </a:prstGeom>
          <a:ln w="9360">
            <a:solidFill>
              <a:srgbClr val="008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3240000" y="2334960"/>
            <a:ext cx="2340000" cy="1809720"/>
          </a:xfrm>
          <a:prstGeom prst="line">
            <a:avLst/>
          </a:prstGeom>
          <a:ln w="9360">
            <a:solidFill>
              <a:srgbClr val="008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dur="indefinite" fill="hold">
                      <p:stCondLst>
                        <p:cond delay="indefinite"/>
                      </p:stCondLst>
                      <p:childTnLst>
                        <p:par>
                          <p:cTn id="10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dur="indefinite" fill="hold">
                      <p:stCondLst>
                        <p:cond delay="indefinite"/>
                      </p:stCondLst>
                      <p:childTnLst>
                        <p:par>
                          <p:cTn id="10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dur="indefinite" fill="hold">
                      <p:stCondLst>
                        <p:cond delay="indefinite"/>
                      </p:stCondLst>
                      <p:childTnLst>
                        <p:par>
                          <p:cTn id="1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dur="indefinite" fill="hold">
                      <p:stCondLst>
                        <p:cond delay="indefinite"/>
                      </p:stCondLst>
                      <p:childTnLst>
                        <p:par>
                          <p:cTn id="1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dur="indefinite" fill="hold">
                      <p:stCondLst>
                        <p:cond delay="indefinite"/>
                      </p:stCondLst>
                      <p:childTnLst>
                        <p:par>
                          <p:cTn id="12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dur="indefinite" fill="hold">
                      <p:stCondLst>
                        <p:cond delay="indefinite"/>
                      </p:stCondLst>
                      <p:childTnLst>
                        <p:par>
                          <p:cTn id="12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dur="indefinite" fill="hold">
                      <p:stCondLst>
                        <p:cond delay="indefinite"/>
                      </p:stCondLst>
                      <p:childTnLst>
                        <p:par>
                          <p:cTn id="13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041480" y="1617840"/>
            <a:ext cx="759924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852f74"/>
                </a:solidFill>
                <a:latin typeface="Arial"/>
                <a:ea typeface="Times New Roman"/>
              </a:rPr>
              <a:t>«Доброта -  это отзывчивость, душевное расположение к людям, стремление делать добро другим».</a:t>
            </a:r>
            <a:r>
              <a:rPr b="1" i="1" lang="ru-RU" sz="2000" spc="-1" strike="noStrike">
                <a:solidFill>
                  <a:srgbClr val="852f74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852f74"/>
                </a:solidFill>
                <a:latin typeface="Arial"/>
                <a:ea typeface="Times New Roman"/>
              </a:rPr>
              <a:t>                          </a:t>
            </a:r>
            <a:r>
              <a:rPr b="0" i="1" lang="ru-RU" sz="2400" spc="-1" strike="noStrike">
                <a:solidFill>
                  <a:srgbClr val="852f74"/>
                </a:solidFill>
                <a:latin typeface="Arial"/>
                <a:ea typeface="Times New Roman"/>
              </a:rPr>
              <a:t>(С. Ожегов . Толковый словарь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179280" y="360360"/>
            <a:ext cx="8694720" cy="1233360"/>
            <a:chOff x="179280" y="360360"/>
            <a:chExt cx="8694720" cy="1233360"/>
          </a:xfrm>
        </p:grpSpPr>
        <p:pic>
          <p:nvPicPr>
            <p:cNvPr id="113" name="" descr=""/>
            <p:cNvPicPr/>
            <p:nvPr/>
          </p:nvPicPr>
          <p:blipFill>
            <a:blip r:embed="rId1"/>
            <a:stretch/>
          </p:blipFill>
          <p:spPr>
            <a:xfrm>
              <a:off x="179280" y="360360"/>
              <a:ext cx="8694720" cy="123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179280" y="360360"/>
              <a:ext cx="8694720" cy="12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dur="indefinite" fill="hold">
                      <p:stCondLst>
                        <p:cond delay="indefinite"/>
                      </p:stCondLst>
                      <p:childTnLst>
                        <p:par>
                          <p:cTn id="13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dur="indefinite" fill="hold">
                      <p:stCondLst>
                        <p:cond delay="indefinite"/>
                      </p:stCondLst>
                      <p:childTnLst>
                        <p:par>
                          <p:cTn id="14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770120" y="360360"/>
            <a:ext cx="6330960" cy="40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2800" spc="-1" strike="noStrike">
                <a:solidFill>
                  <a:srgbClr val="4b1f6f"/>
                </a:solidFill>
                <a:latin typeface="Arial"/>
              </a:rPr>
              <a:t>Домашнее зад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4b1f6f"/>
                </a:solidFill>
                <a:latin typeface="Arial"/>
              </a:rPr>
              <a:t>Чтение рассказа В.Осеева «Хорошее» с выражением, ответить на вопросы в конце рассказа. Стр.93-9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4b1f6f"/>
                </a:solidFill>
                <a:latin typeface="Arial"/>
              </a:rPr>
              <a:t>Выполнить задание в рабочей тетради №14-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dur="indefinite" fill="hold">
                      <p:stCondLst>
                        <p:cond delay="indefinite"/>
                      </p:stCondLst>
                      <p:childTnLst>
                        <p:par>
                          <p:cTn id="1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31T19:05:21Z</dcterms:created>
  <dc:creator>Maple</dc:creator>
  <dc:description/>
  <dc:language>en-US</dc:language>
  <cp:lastModifiedBy>Maple</cp:lastModifiedBy>
  <dcterms:modified xsi:type="dcterms:W3CDTF">2004-12-31T18:48:59Z</dcterms:modified>
  <cp:revision>12</cp:revision>
  <dc:subject/>
  <dc:title>Слайд 1</dc:title>
</cp:coreProperties>
</file>